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78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32"/>
          </p:nvPr>
        </p:nvSpPr>
        <p:spPr>
          <a:xfrm>
            <a:off x="3849480" y="94341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D807B-47AE-4BA4-9D87-83F6179FD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98ACC-4E28-4422-BC91-0BC1131F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28D5-176E-4D99-9FEE-188E1A865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FE7D-F332-454C-9BA6-5BFA12A7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34B0E-0CB4-4AA7-B6F3-4F6B6EB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10BC5-F36A-4939-9901-E11527E4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5A52B-671C-4A7E-B34D-6CEA3BA0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6AD3E-D0DA-4EE1-AE93-8B88F588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4045A-696A-44A3-AC8E-1BF2A0FE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71985-2059-4448-B615-711351AB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FA72A-C76B-4F29-8A80-B1DA2E05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C3BD0-C418-4D23-A031-5B944F2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13A63-946A-4CE5-B205-9D43E37BD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12416F-3E38-4A38-AEE7-9297C1E09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7F97-35A4-4A55-BAB4-1E8A0EC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09874-0DB5-433F-8696-96F0B451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6A7C65-6D67-4A84-8485-B4F0472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71714E-5190-4813-87AA-79E82A3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32EBF4-B374-497A-B208-D7A862D0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04A98-1684-4E6F-B247-83A13C3B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EDF554-B7E3-4360-966A-57F7A61E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57CFC-D786-467C-8119-DB038C7E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83100E-2C6B-48C2-9F7E-8CE33110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CC635-1358-47A3-9ADA-6A89ADC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4AACBF-C22F-4F64-B40B-C80BC92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57B7-8098-4265-B1B7-097F1B98EE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22EB5-CA66-4CAD-9A9C-DBB75A0F90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61EFA-B153-46C4-BBD1-53796D1DDE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DB77-BE35-4042-A50F-2B9F20F0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135B-21AC-4F9F-A43D-25CF3BD3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3061-CDB9-4EFD-AB38-F5BED474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A711-6280-4256-91A3-07CB4070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AFBF-53D3-45F1-9AF9-222CF84B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270D-E8DB-43FB-A74A-12D2F74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6F4D-2013-43D8-9627-505FEF4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7554-E59E-418E-98AA-700C87FA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63021-32DF-4F28-8815-3CCCC140A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88D65-9BC6-412C-83F0-80A9E68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8A7B-29FC-4966-9C9A-1210B8B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D9E8-EF21-4D46-A35E-5CA9CCDB8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9D372-3BE0-4EFE-B297-294586858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4F1E8-D614-44C8-8EF7-FF4790B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21165-F7E1-4A46-9B2E-2F2698A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0B027-2F53-47BB-BDDF-74E75F3F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C9B593-F138-49E6-951C-A580BA4E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967C7-CA3A-4315-9862-FE7D3E73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EC572-E210-49DC-BB67-0C541BC2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74533-FD63-43EF-A3CE-619A0DD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F30D0-BACE-4A51-B0A1-C1213C5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BDBCA-EEB4-4722-B104-297C341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ECF4A-DDCD-4180-9E3B-8BBE29B0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B37264-03EC-4FF8-AE0F-469D0C7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D1D20-7D0B-4C8A-BF95-B6F847D9B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5BC51-851E-4121-9771-C7A9DD36E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51514-2091-426B-ACFF-4F5FFC60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FEA54-E6D4-4DBC-89AB-F8FBC1B7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AFF6C-C1E5-4271-87A8-4642009A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709E4-6E9A-402A-B19E-8C19125B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9296-F7AA-4AA9-86A6-AAD8ECBA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A2B3D-8A7F-4669-AFF2-EAEA9CB3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2F810-5AC3-4566-9085-5EF77E3F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35A23-23FB-4F8C-857C-1BFC4323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FFF56-DD77-422A-A520-6EF8ECD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4E181-F492-406A-9C9E-4BB74C82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201A7-5C65-4402-A6FC-DA187FC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F33A0-D9C1-4C2E-96A0-0864FA5AB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9570-D67B-44DF-84F5-34CAB3917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6260A-4AE8-4FEC-B7E6-BCEF48C3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9C03A-647D-4FB5-B1E4-C1EBAF8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8CA51-A6C0-4E02-A97C-6E7B2D26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F7931-B4DB-40C5-A6D8-09399745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B06A-B8ED-43BC-AD3B-643DF997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28827-A50B-41FE-A8AE-D43C64EB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3C1D1-9F2F-4890-9CF3-4F8A4E38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C20EE-FBDC-48C6-AA00-E75BBCC3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A0F8E-D56F-4CE4-839C-6C8EC595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6E831-BF21-4C29-989A-3604086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0CDDA-9923-4E06-A657-53B934A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2F2BE-88C9-4CD1-9FC4-57F1CDD83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C48F24-5FE4-4A5A-AC3D-29BFB7467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8AD5B-6397-484A-849B-89DBFB5B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7C1A7-2334-4422-92A3-A9859E1E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0F550D-9988-4C97-A91C-E8B1DCAC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BD52BD-8D73-4D2B-BE96-7AB0F4EF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C13D2F-84D3-4487-997B-F034AAFF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611A21-9803-42C2-9287-1964A211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E2EB8D-A4D6-4872-A6A4-A32FA35A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E3A836-DE12-4F67-8624-556C226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7F6D1-AD95-4B12-9ACF-BA7314BE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70B4E-783C-41CE-B884-E8516A6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A90A36-BB28-4714-A7FD-BEC8927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20590-4D46-4995-9A64-BE7D1F99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E376C8-5030-4943-B50E-0BB4F3493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791515-0478-4DAE-9283-55D6464D18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5A138C-DB07-4BC4-81FF-580B0F26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F4DFE3-E026-4C86-A85C-D9A90AC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E332F9-33CC-42CD-8DBA-AB94DDC9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656989-D4D2-4C2E-A1EB-3DBA4C5E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7AF560-FAE7-48F9-989B-E0D86632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E90CA2-6913-468E-95BB-89C6343D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A9C74A-F76B-4CD6-8D94-E400A1A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5C2683-FDB6-4DDC-B079-76A079D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A8A8D-6C1F-492C-866F-50651CF0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A4A6F-B55F-45E1-B292-1E7A3948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5A6C44-BA5A-4D0D-90F6-543EFDAE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8261BD-7417-4412-82F6-615C72683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DFFC-821F-4D14-8AE8-F451BC6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F1743-6848-4D00-A46F-13EC6501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8334B-F081-4470-A5F6-D75BC49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6F2C8-2854-4DD6-AC2D-0478A673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282B-FC7E-4A16-A414-8560922C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319AD-21ED-414E-B32B-815FD1304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ACA7-7F12-4920-9DBA-2011646F7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856D8-E523-419A-BC5B-32F89D301A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CA05C-DE52-4ABB-A6B2-E9CC92D239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8BB29-88C4-4307-8880-FF2582AB93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47CD9-6B7F-472A-B3F2-010180177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B430-B3D3-49E7-BE1C-6ACAB8FF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4D8EC-8B1C-4ED9-8E40-964E3D2DEA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FC77-DA48-4CE6-AC41-325E7494F7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430B-16DD-488A-97E1-CB8A067953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1808-8A48-4938-8897-6A1DB53934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9EA5-D8D0-4C18-962D-97A5C1FCC0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0E2A8-55D4-4866-8113-605A44545A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4C0E-B341-4D18-B92A-BBBAB99A73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01759-F0B9-4ED9-A960-9F44AA6ED8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0D870-22E8-4AE4-88B3-1BB80FBD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8977F-7BAA-4EF1-90F1-C8A85A59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0A2E-D438-4527-9666-C5E78E1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7E74C-626E-40BC-A93D-A7E0074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50950-5842-4214-B16F-13435D51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A85C9-5B7C-49CD-86E1-505901A5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545CB-53EE-427F-9C4C-F7BE052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919B7-BC7D-44A7-9D62-B2654774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6CEA9-F1D0-4382-906F-25F5514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2BD81-6FA8-4B00-88A4-482880D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75D9C-62EA-4ACE-864B-E35028F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BD35F-A941-47D5-A232-AEFE68657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0781-316F-4530-9FF7-EF375E4F4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B229-4129-47A7-82DA-A41424BB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C61B-C87D-4275-88C9-945947B3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81CD-C43E-4EE7-9301-E6DA1E69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8BAA-BB1E-406B-A437-758C28A0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076F-0E33-4ABB-88BD-236BC914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6B05-D797-4E9A-8B73-BD2E912C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E6AF-294F-4B56-916F-C3EA666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3522-6F27-4F56-A414-0C9264EE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3808-584D-425E-9ADE-46B6F2EE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F6E2-A866-48C8-BCFA-C1D52323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8A16-FCDC-44C0-90E0-2695C19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D682-6FD5-4A92-92DC-067737A1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18F2-D58A-4B42-AE00-669F102ED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7C942-165E-45ED-B2C7-2CBDEF83B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DE4C9-F134-49E1-9798-B7E1C4FB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3DF61-9659-452B-9D78-48A6202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5222C-AB45-4869-ABD1-E633621F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E2FAA-01C8-4005-AC86-33D4B21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3B74E-DF0F-4111-8E2F-753BACD4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3CC44-580C-4C2B-A38B-5195DE2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172B9-B6FB-4036-9E9C-5E704B0C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64915-ECEC-4C41-BEBC-FAB91DB0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6621-07DC-4501-B44E-B4B09CE6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937D3-1A33-4F11-9DF2-29F87A22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820B6-DC54-4F8C-8AB7-E183EA3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0E017-76A5-417E-AB34-9C2029A56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07D767-60E5-4BE2-B39F-3C1A6BD3F8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B0B5B-9CB1-4D74-8F8E-DFF67F88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69F7A-9ADD-4395-A014-C58C173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25E92-D383-44A3-A36E-82C99AEE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92CFA-D77F-45C1-A079-A22A1220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783BF-2A4B-45FE-B2DD-6EE0789F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7E532-8193-4B9B-9712-FFF56D22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DB01-C81E-4094-BDCA-A0D62D9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AB340B-8B97-468D-931F-B961CC0C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5A602-B930-4454-B078-92CE2362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6DDA6-C3B9-495B-9D51-2E1AC65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7C59C-B230-45BA-B7E1-54A7B1B6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4C6B7-20C0-47C2-9F2D-C7BE0F9F1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2DC0-AE2E-4DB2-BD1C-EB7F84596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4136-6FDF-4E90-8601-55A92C2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C5A9-385F-4096-9423-6675F22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F6C3-75D9-4A54-BCF0-EFF770DD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5E47-DE3A-40C7-941A-61861E3C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F2DA-137C-4E37-A1B2-0ABB62A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E84AD-F60A-4916-980A-4F21A3D2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B064-8F59-4CCE-A57A-825F29A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5F74-8D21-4CAA-93ED-2E4DAC3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3B79-152D-425C-A950-BF79DCA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6999-08A6-404F-B370-1A4ACBF3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20C4-C475-4DE1-A573-D25E942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6569-EC9F-43C7-9364-52801FAEF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D9289-5D0C-4A6A-AF61-5645234E0A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24FC5-2A7A-4215-8A4B-7971BAB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3F58F-738C-49CD-B76C-A2256512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20.04.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 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2026C-3738-480B-A28C-8BBC05972D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38EB8F-8F0D-44B6-9D24-BB678BF0A02C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45B4F8-E8F1-467E-90EC-379EC241884B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9E2647-7578-4283-9435-E80781CEE202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2F35F6-2557-4705-B762-911D36EAB34E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33BD68-004A-469E-ABFF-995E229FC7C2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379FE1-F305-4339-A4DE-2C6C6DA077BD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4B70AF-CFA5-4203-AF54-C49DB166E081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76440" cy="644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0.04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515725-09A7-4B71-8755-362CC3872A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70FB66-4302-49B8-9C48-FB5E44A34CA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A69DB3-9E42-49B6-AA81-C075A754A679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DB833B-2637-4033-BBCD-B5D3ED1E7BFD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4167B1-7B88-4086-AF19-7F93444C7BD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213BDE-EECE-49AE-B48D-6948336A3FE0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BFFFAA-D627-46E2-9033-F59275262268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B708B8-ED9D-4F4C-9A83-9666660AA71B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0" y="620640"/>
            <a:ext cx="9144000" cy="4105440"/>
            <a:chOff x="0" y="620640"/>
            <a:chExt cx="9144000" cy="4105440"/>
          </a:xfrm>
        </p:grpSpPr>
        <p:pic>
          <p:nvPicPr>
            <p:cNvPr id="711" name="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0" y="62064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72428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403280" y="1484280"/>
            <a:ext cx="6697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Access to Treatment and Care in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thu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Draft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0920" y="1159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18900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7640" y="481968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World Health Organization  </a:t>
            </a:r>
            <a:br>
              <a:rPr sz="2000"/>
            </a:b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gional Office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open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0332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AF3B6-89DC-4B35-9CC8-711E73ADDB8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030C3-6AD7-48A3-BFB1-82EC2D5BDAB3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ole of N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" y="1238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essential and vital role of NGOs to reach and advocate for key populations, e.g.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predictable state funding for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reliable and sustainable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role of NGOs to build trust, provide entry into health system and to ensure continued engagement wi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79D85-0BDD-4251-8841-BBE83D111CCA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pidemic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7BA2A-E888-4B90-B34A-A384837ADCAF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539640" y="1311120"/>
            <a:ext cx="81471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7C3CA-5342-4E3E-BC78-5F5F25BB814B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46D3D-4C36-4D6F-A94F-392C0062CD2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the epidemic cont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ngoing transmission among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ajority of HIV diagnoses made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ocumented HIV transmission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ity of prevention services in prison not guarant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test IDU 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DU avoid health services because of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7175D-D786-4B77-A5EB-E5AE0FE743CF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BAB2E-BA12-4CFD-93B7-58D272CDE791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ucture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rify roles and responsibilities of differ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H to take technical supervisory role; needs enhanced capacity and budge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ed for strategic a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eater coordination of all players, e.g. MOH, MOJ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make efficiency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tegration of financial flows, e.g. procurement of ARVs by NHIF and MOJ; procurement of laboratory tests through NH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3355-D3BE-445A-A137-C2C5E3543AF5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893C5-1FE8-469B-A17A-5EB827D2CCB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ccess to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238400"/>
            <a:ext cx="822960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Scale up access to ART to all who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pply a team approach, e.g. link to NGOs for adheren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Coordinate treatment sites with each other and with other services, e.g. i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ntegrate HIV, methadone maintenance therapy, T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ddress barriers to treatment, e.g. ID card, service hours, need for referral, addictio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Ensure treatment continuity between prisons an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9C1C-0128-4121-9ADB-2EF8C2B0AB4F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A3E0-AFC0-499C-86E3-D3F64C3275FA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T: Standards and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1165320"/>
            <a:ext cx="82296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Update guidelines in line with most recent internation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clear first and second line regimens including clear strategies for switching regim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Link guidelines, ART regimens and procurement of AR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Establish electronic system for patient monitoring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and early warning for H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IV drug resistanc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79B22-71CB-4FEA-8873-800467A403D0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8C7D-6679-4B71-B12E-C181E46AB457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V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123840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ve to one national medicines reimbursement list and one medicines selection process by merging the processes for out-patient reimbursement, centralized purchasing and hospital medicines proc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e discussions with the EU Commission in follow-up of the Bremen declaration on the approaches to increase coverage of treatment for HIV/AIDS patients in the new EU member states by increasing EU financing and reduc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to explore possibilities for price reductions (see EU pharmaceutical legislation articles 5,6, and 1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98B77-9DF7-4D2A-BD81-D2E21C8C9B3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82475-8919-43B1-A117-A3F9088B3B4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ervices for I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" y="123840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IDU access to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N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rvice providers need to accept responsibility for non-uptak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nsure access to and continuity of treatment, care and support for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epare for expected increase in number of IDU needing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3B4D9-24CD-4927-8B89-DE79C38DDE6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FA71D-56F1-4BA0-A320-856CE539A2A6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IV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123840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strategic governmental policy on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overnment should ensure procurement of tests and that they are provided for free to IDU, MSM and sex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ddress legal obstacles for testing in LTCs, e.g. only doctors can tak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xplore possibilities for efficiency savings on unnecessary tests, e.g. by detecting same number of HIV positive pregnant women with few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6:43:28Z</dcterms:created>
  <dc:creator>ULJ</dc:creator>
  <dc:description/>
  <dc:language>en-US</dc:language>
  <cp:lastModifiedBy>XP</cp:lastModifiedBy>
  <dcterms:modified xsi:type="dcterms:W3CDTF">2010-03-26T14:49:11Z</dcterms:modified>
  <cp:revision>613</cp:revision>
  <dc:subject/>
  <dc:title>PowerPoint Presentation</dc:title>
</cp:coreProperties>
</file>