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06120" y="4718160"/>
            <a:ext cx="4978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Num" idx="32"/>
          </p:nvPr>
        </p:nvSpPr>
        <p:spPr>
          <a:xfrm>
            <a:off x="3849480" y="94341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F02DD-4D05-4BD7-A70A-9BE87B7B6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BE38D-C1F8-4475-A35D-18620197A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5074-6E43-4889-BF42-B020C6465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1ADF-1891-4F6B-94DB-1936D3A7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A0E30-B9DC-48A2-9A9E-A02C186F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B855B-4108-4F4F-9408-98265547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ED322-2E8B-45B2-861B-A1990D00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D27A1-3925-47DC-80A9-FCF089AF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AC10E-4AD1-449C-9DBB-6B3E3548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8CFC3-0812-49F3-9539-E35BD745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25312-17FA-4B80-A1C0-E09A023E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AB6ED-0010-4FCF-B25B-1048EBE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4F071-7D8F-4A4A-B3C1-595C04CE0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DB8E88-4BE5-4953-8F64-65923CF36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C280-D3BE-4934-BF6B-6EE4D697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DF8E6C-2A8A-47B9-B417-E302A525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E4D3F8-8CEE-4471-8376-E9669CDE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1FC10F-7E17-4153-A257-BD115EDA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981717-B257-41F9-9AF6-B1CC74E3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13183-A158-4583-85B4-51A1082B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5F8A1F-6AC2-4B15-9AD2-F3BC0175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6B3B1-7D38-400C-B35E-3972FEB8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64A0B2-8420-4562-882E-52F6D17F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310AE-E7C4-4450-860C-5A8BAE02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B98322-0453-447E-8170-07BB34D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F7BD-5EB4-4443-9666-1DA131426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4B38ED-7F33-474E-8D9C-B69771CB49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1F38-CA5E-430B-9A68-1BC5DEB707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413B6-2E9B-48D7-9544-BF869F82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5E5EB-7912-4BBC-9E69-3682921C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72506-4768-4492-B7F6-3347B590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A958-9E97-4687-A7E0-1EE6D1E9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968D2-DCAB-473D-BA10-31A2D599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B6C45-B578-433B-A64F-81ABB04C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597F2-D2F4-4E5E-A92F-DE9C2462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6D8BE-BEE8-4D08-890C-8FD2C361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85CAF-E3F3-4441-9C29-BD245C058C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48303-F00D-4CE5-99D3-4018DD9D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178F3-DE00-4AF7-8B84-4B14BAE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6D91-8588-4E0F-8F66-55F6ADDF0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AD3561-6E67-4C27-862A-39874B2AC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30A7E-E127-4321-8C3B-46EB2176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864945-677C-4D3E-91D1-AB2F8F5F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0F1596-2F5A-4ACC-928C-56EFD371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6789E0-1646-43AE-85A3-2D27DD4B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60394-E4FB-47A0-BFD9-C43E26D7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AE27EA-FD22-4B0F-B29B-F02366C3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CC6E2-555A-444F-A0A1-5837F32C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F1180F-E242-4C6C-B6E7-2DC1AAA4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9B082-24B6-4651-8634-3160A1A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3C22D-ABC5-4310-92F6-CA0F3A2F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1280C-47A4-4194-90F8-F883F0F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81B6D-E976-436F-804C-D8997C641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8C5D1-09BC-4DEF-A221-6E1195707F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DF06E-F8C4-4397-BA56-B784F0C7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3E547-DCFE-40CE-846F-2E070C06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0A0DA-9FC7-47F2-8917-464E02E2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03739-CC00-4B3F-8E63-747CE3B4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B0D36-69A9-4038-A6D8-D2EF6917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DDF18-944C-4072-9DA6-6E131DC8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0A50E-B465-4E93-BA2A-1A5ABEDD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9D3FA-AA81-40BA-AEC9-B2633B42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2EC7F-BC73-426D-BAE6-D577711B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5FDCA-89AD-4BF2-8377-9A19E606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BCABF-3D82-4F53-A9F6-E7C08191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69C6F-9B8A-465F-ABB9-FA3F815EE9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F9A1F-94F4-464C-A1A6-520CE4C1E3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7EEA4-9359-4954-9296-D3470CD1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3033D-1778-4627-849C-F6B8F665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1DD7E-4A65-438B-B516-C5E796ED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9D7E4-7860-4CB7-B484-5CF29228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F1655-5D40-4A13-AD45-DC4DF9A3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3DF8D-FA77-4AEA-A23A-8B7868E4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43E8B-BED3-4896-B3F8-EAA5450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8A28B-EC63-4E5B-8042-D2343DBA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9121F-8ADD-4989-AB84-E1517006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3878F-3202-4AE8-B284-B613F4A3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62B5F-5D58-4507-ACC8-BDC840C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6F9AB-479B-415E-A20E-71F6C3048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ABF5CE-E41A-480F-A461-3B4D89B68B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A5BF6-AC33-430F-8018-E9B88FBC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9C3D85-6B22-4BCB-B01D-80A9CAD3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7C8071-3162-4287-8EB4-283619FC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0D7406-06C1-41F7-B739-9D6BEEA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7E28B1-D60B-451F-8692-9097C96C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DBEA73-AFE2-4358-BD82-03A16B7A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0D3138-4D21-420D-B040-07A1EDD0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738D4A-5597-4DE0-ADA0-C17403B9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D5B9A9-4962-465C-9013-14F7DED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3CBA6B-4383-4FAC-8516-B72FFF52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AD59CD-6403-4B56-9CE9-81E6CC7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B1370-4D88-409F-B5E3-78CB3A21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47EFA-A99A-4D54-92DA-D3BD22A1D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D61DC0-CEB3-4F17-A0BB-54CA17AEC5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0C4918-D474-4F4A-92E4-DDECD200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6B05A8-00A5-4970-8696-B3DF4F36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331F8-068A-4432-83DA-1DAEB8CF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AB263F-ADD1-4F8F-83E1-182D2AC8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AC4A57-7920-4F8C-B54F-16161BF3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25A840-56AA-4E4B-A638-F9A80486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A08AA8-44F2-478E-916C-B0227F8E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A0717F-2456-4349-96C1-67F9092D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0F518-AE05-4100-B127-23AFD9C1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C32EC5-4B84-433C-B44D-5EE842B5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9FD78B-7D63-4CF6-9B41-071D4E5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FB125C-76BE-4264-9BB7-9A5E571AA6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F058-31BD-483A-971D-CB6820AF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B26C-3D03-4881-8B9B-568A3734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4851C-C2C2-4435-989F-DECF104C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5AF25-375D-4990-BD30-6A562DA5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ACA44-375D-413B-9E69-1C37F2F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D7758-B45F-4378-B64F-389A7034D9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369C8-F3A3-449C-AB82-8E28B02081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961D8-68AC-46E4-830B-C3604C58B6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238F5-87F6-4DE8-ACB8-E2503D4B4E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8A746-1450-4575-A5F9-4975E113E0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B9C78-0332-49B8-8F95-17FC5F8F86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AE3E-1E4D-4414-92F5-7C57DC9D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A7646-582F-44CC-8448-CF4244E79E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69CE4-77B8-4696-A6C8-E1E3176947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AD423-F99B-4AF1-B132-9E649644A8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EF905-0278-45EE-A4DF-0C332A7241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5B221-756E-4F79-90B1-E3E5B4E23E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1474A-1CEA-44EE-9B7D-F52E33BC5F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34F7E-7138-40D1-BB17-A1AB8350C4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92FA8-16CE-4759-942D-4A9B5C60A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8B5778-D526-45B6-965B-A9476F8F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FFB61-7AB2-498C-AC80-852B5D2C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C256-ED1E-41E3-824B-1A479BC3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1C58F-3F10-494D-A5C2-57A75B41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03F144-2684-48F2-9630-A4138302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C53F6-C57A-42C1-90D5-D6E5ED00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7011A-39B2-45F3-88A5-9912A666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4D99C-2119-45D2-A355-50F8F3E6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2AC2A-33E9-40FE-BA72-24319963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B7D22-3E97-4C24-B5B2-DC962FD3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55E99-9779-461E-9B01-5EAC3EFF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D444C-97CD-4E39-95BA-49BF17D2CB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6B995-2C64-4171-AB19-0DE7913223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AE74-020E-4DB7-86FA-E8822F3F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3EB7-8677-48ED-9AF6-FEF96F4E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2CC1-9E2C-4D28-953D-BD6668F1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C313-C608-4B02-A088-7D4B59C6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F133-E300-4753-8B9C-1AD09CFE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092A-B835-4428-9014-475F33CD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9669-C4EB-4E0D-BA5A-52E4EE51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5C57-EB56-4E54-98C8-F7366D2E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81AA-8B01-431E-839B-88BA4CFA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FE3E-3CAE-4715-95BF-96A257FD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B4E1-6595-4EA2-A26E-690BBFA3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0356-485C-4DB8-84F9-6803AE20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B476-96EC-44FC-9412-776281F06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CC310-1245-44BB-B7F3-EB7DD16A8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A0BCC-1B25-414B-A5B3-5B119F58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F9B8B-3508-4520-920C-AF71E7C1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887D5-2095-4905-9588-7C493618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C1E36-7ABC-4555-8003-EB07ABF3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D24F2-77BA-4AFC-8261-FF2F35E3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E3FA5-BF94-4917-ACB2-F2023A15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2121E-0687-47CB-8A41-BE3FC339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25DB0-2436-4871-A3E9-97F6547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4497-6933-4033-8357-4E35C298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3B00F-F5E1-4D0F-A6A1-3D5F931E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DF912-A0B3-4974-A904-6E2AC83A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47ED1-1A26-4F29-A3B3-B237D51A0B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CED05-10F1-43B1-8482-78BD2D429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4B4F8-413A-438C-8556-4A4BAE2F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E5EC1A-064F-4BDD-8957-D37A2822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D7198-869B-4873-AD65-E93D74A7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0BD0A2-E2F1-40B8-8E98-14B5DE08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7E8A91-5DEA-4557-B8BB-D5DEE2E2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345A45-DA46-4841-8491-0A70004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7E58-4113-450C-A82F-06907292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D56370-3774-4E8D-9F08-EF3DE62D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C2E060-E879-426E-B158-FAEC0517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72559C-C2EF-4DAC-9311-29AC7BCD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A9F257-D8A8-4A47-B8A9-1CF83C2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6BB733-00D2-41B5-8605-57DF9CE7EF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06140-3C5F-4A72-9B7B-13081FEEC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662BC-4C29-4C2B-9CE4-037A9AE9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5DD29-AD16-4536-AEA6-D4C78DEC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6581-7C69-4C61-A1BC-A88633BE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6A06-86DD-4806-BB2D-00D26673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88C3-4DFD-4459-A924-D9BD50F0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EEF2-F173-4B3F-A5A5-D21FD3C6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7B5F-2212-4043-B115-426C42A9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3377-B286-4321-AD0C-BAE689D7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300DC-39D6-472A-A29D-ED5B5C6F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F8366-2321-456B-8A11-7B364412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28FF-254E-4F39-8E79-100437EE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2781-5F78-48E4-9BAC-9803D6C21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AE014-5B7E-42A9-8DFB-B4055BF23F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49C73-E00D-4635-A683-587F2500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3D017-9B04-4C66-8FA1-92CD105E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20.04.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 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DCA81-4E2B-495D-ADF9-4E1F3CAFE6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483136-C157-4442-91A9-8D6B3EE458B4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2D84A9-D44B-489C-967D-D0965E777A7F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23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AB13A2-ECDF-4ACD-A2C6-5B7AE9C307F1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2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B7DE95-20E6-49D1-B69E-D7F766BC2087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2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B0794F-C05D-4B20-9F23-844ACCF70937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42C113-A707-4F31-ACAB-8471860CDFC3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3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852BED-64E7-44C5-8411-7CE9F515EE59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676440" cy="644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0.04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D6337B-6456-4389-A10D-9CC5B9CDE2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B8C865-19E2-4F54-AD69-74C638EFAAAF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17B227-4F85-4940-B89A-712214C9A775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C91EBB-7F94-45ED-BC13-794A10BB8C19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765851-3990-4446-B4E7-E21AB2DD4F13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3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9138A3-6113-4C2D-A97B-73266DAA7AF6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44EA2B-0E77-4F7D-82E1-76DD48FBA4C9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5EB508-B353-4938-A43F-344DF57CBDF5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0" y="620640"/>
            <a:ext cx="9144000" cy="4105440"/>
            <a:chOff x="0" y="620640"/>
            <a:chExt cx="9144000" cy="4105440"/>
          </a:xfrm>
        </p:grpSpPr>
        <p:pic>
          <p:nvPicPr>
            <p:cNvPr id="711" name="" descr="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914400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0" y="620640"/>
              <a:ext cx="91440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4724280"/>
              <a:ext cx="91440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403280" y="1484280"/>
            <a:ext cx="6697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Arial"/>
              </a:rPr>
              <a:t>Access to Treatment and Care in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ithu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Arial"/>
              </a:rPr>
              <a:t>Draft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50920" y="11592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189000"/>
            <a:ext cx="12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47640" y="481968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World Health Organization  </a:t>
            </a:r>
            <a:br>
              <a:rPr sz="2000"/>
            </a:b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Regional Office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Copenh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10332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E930D-A78E-417A-ACB2-0AA8FC4F22B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DF379-6420-4E91-9EEE-5950A8822542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ole of N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" y="1238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cognise essential and vital role of NGOs to reach and advocate for key populations, e.g.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predictable state funding for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for reliable and sustainable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cognise role of NGOs to build trust, provide entry into health system and to ensure continued engagement wi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A1345-DBBB-4EDA-90DD-BC936DA380FE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pidemic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C07A0-4213-4EFB-8891-F4BD31B2C92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539640" y="1311120"/>
            <a:ext cx="814716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53882-72A9-4531-AC34-A581CA385BA9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D925E-F5BE-4066-A6BB-1A696279DC4D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the epidemic contro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ngoing transmission among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ajority of HIV diagnoses made in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Documented HIV transmission in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ity of prevention services in prison not guarant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pportunities to test IDU mi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DU avoid health services because of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8150D-A458-4DE4-AA69-B65E97899AEB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B89FD-C90A-45DD-8147-612B979AED22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ucture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larify roles and responsibilities of differ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H to take technical supervisory role; needs enhanced capacity and budge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ed for strategic a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eater coordination of all players, e.g. MOH, MOJ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pportunities to make efficiency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tegration of financial flows, e.g. procurement of ARVs by NHIF and MOJ; procurement of laboratory tests through NH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A400F-87DA-4724-9812-60D5E2C9AC4E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13824-9CD2-4D88-AD01-138BF9F00EB4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ccess to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238400"/>
            <a:ext cx="822960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Scale up access to ART to all who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Apply a team approach, e.g. link to NGOs for adherenc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Coordinate treatment sites with each other and with other services, e.g. i</a:t>
            </a:r>
            <a:r>
              <a:rPr b="0" lang="lv-LV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ntegrate HIV, methadone maintenance therapy, T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Address barriers to treatment, e.g. ID card, service hours, need for referral, addiction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Ensure treatment continuity between prisons and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07032-22BF-4145-B4D5-C579F8809FEF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752F5-9BD6-43BB-A56A-461DF1821506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RT: Standards and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" y="1165320"/>
            <a:ext cx="822960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Update guidelines in line with most recent internation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clear first and second line regimens including clear strategies for switching regim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Link guidelines, ART regimens and procurement of AR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Establish electronic system for patient monitoring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and early warning for H</a:t>
            </a: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IV drug resistanc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68257-E910-4E7F-9B74-4F5FC81EEFD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F5765-98FF-4153-A235-50D4FA70C269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RV Proc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" y="123840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ove to one national medicines reimbursement list and one medicines selection process by merging the processes for out-patient reimbursement, centralized purchasing and hospital medicines proc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e discussions with the EU Commission in follow-up of the Bremen declaration on the approaches to increase coverage of treatment for HIV/AIDS patients in the new EU member states by increasing EU financing and reducing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to explore possibilities for price reductions (see EU pharmaceutical legislation articles 5,6, and 1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0292B-CCE2-4C7D-AE90-3DE5E30FE818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26404-8D88-42B7-B0E1-A62C86387F46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ervices for I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" y="1238400"/>
            <a:ext cx="82296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IDU access to HIV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coverage of N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coverage of 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ervice providers need to accept responsibility for non-uptak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nsure access to and continuity of treatment, care and support for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epare for expected increase in number of IDU needing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F2103-36B2-42E8-9D8E-0AABAA22BF35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91C64-B7A9-4DD1-9AF0-EA7890312AE8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IV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57200" y="123840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for strategic governmental policy on HIV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Government should ensure procurement of tests and that they are provided for free to IDU, MSM and sex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ddress legal obstacles for testing in LTCs, e.g. only doctors can tak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xplore possibilities for efficiency savings on unnecessary tests, e.g. by detecting same number of HIV positive pregnant women with few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6:43:28Z</dcterms:created>
  <dc:creator>ULJ</dc:creator>
  <dc:description/>
  <dc:language>en-US</dc:language>
  <cp:lastModifiedBy>XP</cp:lastModifiedBy>
  <dcterms:modified xsi:type="dcterms:W3CDTF">2010-03-26T14:49:11Z</dcterms:modified>
  <cp:revision>613</cp:revision>
  <dc:subject/>
  <dc:title>PowerPoint Presentation</dc:title>
</cp:coreProperties>
</file>