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3849480" y="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932040" y="740880"/>
            <a:ext cx="4929120" cy="369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78960" y="4690800"/>
            <a:ext cx="5434200" cy="44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8"/>
          </p:nvPr>
        </p:nvSpPr>
        <p:spPr>
          <a:xfrm>
            <a:off x="3849480" y="9379080"/>
            <a:ext cx="29415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A94C8-10C9-4D5A-ABB5-D6109F2E2E8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54881-A630-4CBC-9945-E7E59EAE56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B51C-1D3E-4C37-9DDE-1792A80F1BE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72277-ACED-43C6-A593-3B9C861D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C4573-594B-4AD1-837B-16B61F40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2067-2439-43D8-9126-F76617C79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9D5EE-6DE1-4D3E-BFA3-419F1A13BC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30022-3003-4DAE-A7DA-515118A0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34ABD-C292-4317-A589-9B6F015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9A714-F7A3-4169-AD21-670233B2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9C3DC-4AB2-44D6-9DAA-3A93C3212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0B922-E394-4970-8CEA-708ECED24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710A7-BAF1-4BE8-8147-18C268F6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6C95-AB15-4F29-8258-15594ACE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2289C-6EA8-481D-98C4-C075AC094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C9EB2-E5D0-4E53-851A-2EC863BAC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85400-6486-446A-9D4F-CDEF945B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75C14-49AA-4990-BA86-444B05B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99264-84E9-4F2D-AE16-A4BC164FEF4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B030-9984-4805-8472-2FDFA9F4A6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D0AF-1362-4EE2-A705-F5E8426C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EFEF-7544-4E89-BBE5-153F3C2E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21F5-F48B-4E12-8A2F-C093C6A3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93D3-0D9E-44A4-A48C-F44941A06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B7E01-CF53-40B2-93E1-39A4579B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1611-F315-4D0F-BFF5-4F132C5AC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717-59BD-46C3-BBE3-A98307CE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C64-6BC8-4351-9B49-D3C9918F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55FA-5540-417B-88F3-23D49983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06D3-97EF-4195-B5A3-CE2C6A89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05099-66F0-46FF-8BA9-7E630991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B3E3-171E-4651-9445-8E692F03A2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95048-6049-440B-9641-21F352AD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2857B-EB02-401B-AD9D-EF1EE203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9DBC-9FAC-4A82-955E-0400277F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2512F-1D82-4206-AC07-0BA5786A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8C997-6710-4738-AAD1-F4814FBFD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D5B2-B634-4325-9E43-CF508CE6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1F29E-A47E-4E55-8FC2-13BDCAC666AD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6840" y="6307200"/>
            <a:ext cx="21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012 metų rugsėjo mėnesio 1 di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B2F97C1-6DE0-4D50-8A28-A26DE1F110E6}" type="slidenum">
              <a: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5"/>
          </p:nvPr>
        </p:nvSpPr>
        <p:spPr>
          <a:xfrm>
            <a:off x="456840" y="6307200"/>
            <a:ext cx="212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012 metų rugsėjo mėnesio 1 di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A213C7-CAEA-4631-9F44-B007C94213C5}" type="slidenum">
              <a:rPr b="0" lang="lt-L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1405080" y="1159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6600"/>
                </a:solidFill>
                <a:latin typeface="Calibri"/>
              </a:rPr>
              <a:t>МОБИЛИЗАЦИЯ: </a:t>
            </a:r>
            <a:br>
              <a:rPr sz="4400"/>
            </a:br>
            <a:r>
              <a:rPr b="1" lang="uk-UA" sz="4400" spc="-1" strike="noStrike">
                <a:solidFill>
                  <a:srgbClr val="006600"/>
                </a:solidFill>
                <a:latin typeface="Calibri"/>
              </a:rPr>
              <a:t>общие опреде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8760" y="1428840"/>
            <a:ext cx="82296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 Перевод объекта/субъекта из «мирного» состояния в состояние полной готовности к участию в «военных» действ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Приведение кого/чего-либо  в активное состояние, обеспечивающее успешное выполнение конкретной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Этапы мобилизации </a:t>
            </a:r>
            <a:r>
              <a:rPr b="1" lang="uk-UA" sz="3600" spc="-1" strike="noStrike">
                <a:solidFill>
                  <a:srgbClr val="00b050"/>
                </a:solidFill>
                <a:latin typeface="Calibri"/>
              </a:rPr>
              <a:t>на примере </a:t>
            </a:r>
            <a:r>
              <a:rPr b="1" lang="ru-RU" sz="3600" spc="-1" strike="noStrike">
                <a:solidFill>
                  <a:srgbClr val="00b050"/>
                </a:solidFill>
                <a:latin typeface="Calibri"/>
              </a:rPr>
              <a:t>уязвимых к ВИЧ сообщест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4200" y="2000160"/>
            <a:ext cx="892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ициативная груп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труктурирование организ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уктивная работ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П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строение партнерства, сет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Лестница учас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6520" y="1517760"/>
            <a:ext cx="8670960" cy="4640040"/>
            <a:chOff x="236520" y="1517760"/>
            <a:chExt cx="8670960" cy="4640040"/>
          </a:xfrm>
        </p:grpSpPr>
        <p:sp>
          <p:nvSpPr>
            <p:cNvPr id="199" name=""/>
            <p:cNvSpPr/>
            <p:nvPr/>
          </p:nvSpPr>
          <p:spPr>
            <a:xfrm flipV="1">
              <a:off x="3851280" y="1517760"/>
              <a:ext cx="1441440" cy="768240"/>
            </a:xfrm>
            <a:custGeom>
              <a:avLst/>
              <a:gdLst>
                <a:gd name="textAreaLeft" fmla="*/ 516960 w 1441440"/>
                <a:gd name="textAreaRight" fmla="*/ 924480 w 1441440"/>
                <a:gd name="textAreaTop" fmla="*/ 275760 h 768240"/>
                <a:gd name="textAreaBottom" fmla="*/ 492480 h 76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ffff"/>
            </a:solidFill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lv-LV" sz="1500" spc="-1" strike="noStrike">
                  <a:solidFill>
                    <a:srgbClr val="000000"/>
                  </a:solidFill>
                  <a:latin typeface="Arial"/>
                </a:rPr>
                <a:t>Само-мобилиз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127320" y="2288160"/>
              <a:ext cx="2887560" cy="770040"/>
            </a:xfrm>
            <a:custGeom>
              <a:avLst/>
              <a:gdLst>
                <a:gd name="textAreaLeft" fmla="*/ 635040 w 2887560"/>
                <a:gd name="textAreaRight" fmla="*/ 2252520 w 2887560"/>
                <a:gd name="textAreaTop" fmla="*/ 169200 h 770040"/>
                <a:gd name="textAreaBottom" fmla="*/ 600840 h 7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cap="sq" w="7632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lv-LV" sz="1500" spc="-1" strike="noStrike">
                  <a:solidFill>
                    <a:srgbClr val="000000"/>
                  </a:solidFill>
                  <a:latin typeface="Arial"/>
                </a:rPr>
                <a:t>Совместное принятие реш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405160" y="3064680"/>
              <a:ext cx="4332240" cy="770040"/>
            </a:xfrm>
            <a:custGeom>
              <a:avLst/>
              <a:gdLst>
                <a:gd name="textAreaLeft" fmla="*/ 752040 w 4332240"/>
                <a:gd name="textAreaRight" fmla="*/ 3580200 w 4332240"/>
                <a:gd name="textAreaTop" fmla="*/ 133560 h 770040"/>
                <a:gd name="textAreaBottom" fmla="*/ 636480 h 7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ffff"/>
            </a:solidFill>
            <a:ln cap="sq"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lv-LV" sz="1500" spc="-1" strike="noStrike">
                  <a:solidFill>
                    <a:srgbClr val="000000"/>
                  </a:solidFill>
                  <a:latin typeface="Arial"/>
                </a:rPr>
                <a:t>Функциональное участ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1682640" y="3839040"/>
              <a:ext cx="5778720" cy="770040"/>
            </a:xfrm>
            <a:custGeom>
              <a:avLst/>
              <a:gdLst>
                <a:gd name="textAreaLeft" fmla="*/ 869400 w 5778720"/>
                <a:gd name="textAreaRight" fmla="*/ 4909320 w 5778720"/>
                <a:gd name="textAreaTop" fmla="*/ 115560 h 770040"/>
                <a:gd name="textAreaBottom" fmla="*/ 654480 h 7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ffff"/>
            </a:solidFill>
            <a:ln cap="sq" w="7632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lv-LV" sz="1500" spc="-1" strike="noStrike">
                  <a:solidFill>
                    <a:srgbClr val="000000"/>
                  </a:solidFill>
                  <a:latin typeface="Arial"/>
                </a:rPr>
                <a:t>Участие из материальных побуждений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958680" y="4614480"/>
              <a:ext cx="7224840" cy="768240"/>
            </a:xfrm>
            <a:custGeom>
              <a:avLst/>
              <a:gdLst>
                <a:gd name="textAreaLeft" fmla="*/ 986760 w 7224840"/>
                <a:gd name="textAreaRight" fmla="*/ 6238080 w 7224840"/>
                <a:gd name="textAreaTop" fmla="*/ 104760 h 768240"/>
                <a:gd name="textAreaBottom" fmla="*/ 663480 h 76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ffff"/>
            </a:solidFill>
            <a:ln cap="sq" w="7632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lv-LV" sz="1500" spc="-1" strike="noStrike">
                  <a:solidFill>
                    <a:srgbClr val="000000"/>
                  </a:solidFill>
                  <a:latin typeface="Arial"/>
                </a:rPr>
                <a:t>Консульта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36520" y="5387760"/>
              <a:ext cx="8670960" cy="769680"/>
            </a:xfrm>
            <a:custGeom>
              <a:avLst/>
              <a:gdLst>
                <a:gd name="textAreaLeft" fmla="*/ 1103760 w 8670960"/>
                <a:gd name="textAreaRight" fmla="*/ 7567200 w 8670960"/>
                <a:gd name="textAreaTop" fmla="*/ 97920 h 769680"/>
                <a:gd name="textAreaBottom" fmla="*/ 67176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ffff"/>
            </a:solidFill>
            <a:ln cap="sq"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8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lv-LV" sz="1500" spc="-1" strike="noStrike">
                  <a:solidFill>
                    <a:srgbClr val="000000"/>
                  </a:solidFill>
                  <a:latin typeface="Arial"/>
                </a:rPr>
                <a:t>Предоставление информаци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Методы мобилизации/вовлечения в актив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надлежность к груп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гулярные встречи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ренинги по командообразова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местный досу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ятельность по формированию иденти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озможность участия кажд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Акции для подъема боевого духа»: петиции, воззвания, участие в шествии, накле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ценка с привлечением в учас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вместные действия по адвокации: документы,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51fa1"/>
                </a:solidFill>
                <a:latin typeface="Calibri"/>
              </a:rPr>
              <a:t>Сети и партнер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1500120"/>
            <a:ext cx="784872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929a5"/>
                </a:solidFill>
                <a:latin typeface="Calibri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четких необходимых ц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ормирование оптимального состава партнерства/сети, процедуры чл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сенсус по процедурам принятия решения и контр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ределение механизмов реализации программных целей и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181080" y="18900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4400" spc="-1" strike="noStrike">
                <a:solidFill>
                  <a:srgbClr val="00b050"/>
                </a:solidFill>
                <a:latin typeface="Calibri"/>
              </a:rPr>
              <a:t>МОБИЛИЗАЦИЯ: </a:t>
            </a:r>
            <a:br>
              <a:rPr sz="4400"/>
            </a:br>
            <a:r>
              <a:rPr b="1" lang="uk-UA" sz="4400" spc="-1" strike="noStrike">
                <a:solidFill>
                  <a:srgbClr val="00b050"/>
                </a:solidFill>
                <a:latin typeface="Calibri"/>
              </a:rPr>
              <a:t>в здравоохранени</a:t>
            </a: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760" y="1428840"/>
            <a:ext cx="83581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развития потенциала сообществ, через который его индивидуальные члены, группы или организации планируют, осуществляют и оценивают деятельность по улучшения  своего здоровья и удовлетворения  других потребностей              (на постоянной основе или с периодическим привлечением к участию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7120" y="357120"/>
            <a:ext cx="822960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Calibri"/>
              </a:rPr>
              <a:t>Сообщество – группа людей, имеющих общие устремления, цели и струк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ючевые признаки сообществ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графия, общность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ая самоидентиф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ие интересы и потреб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язь и осознание общих ц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Calibri"/>
              </a:rPr>
              <a:t>Кого мобилизируем</a:t>
            </a:r>
            <a:r>
              <a:rPr b="1" lang="en-US" sz="4400" spc="-1" strike="noStrike">
                <a:solidFill>
                  <a:srgbClr val="006600"/>
                </a:solidFill>
                <a:latin typeface="Calibri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0" y="1143000"/>
            <a:ext cx="8805960" cy="5281560"/>
            <a:chOff x="0" y="1143000"/>
            <a:chExt cx="8805960" cy="5281560"/>
          </a:xfrm>
        </p:grpSpPr>
        <p:pic>
          <p:nvPicPr>
            <p:cNvPr id="140" name="" descr=""/>
            <p:cNvPicPr/>
            <p:nvPr/>
          </p:nvPicPr>
          <p:blipFill>
            <a:blip r:embed="rId1"/>
            <a:srcRect l="0" t="21874" r="0" b="0"/>
            <a:stretch/>
          </p:blipFill>
          <p:spPr>
            <a:xfrm>
              <a:off x="0" y="1143000"/>
              <a:ext cx="880596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1143000"/>
              <a:ext cx="8805960" cy="528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372960"/>
            <a:ext cx="87631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Для чего мы развиваем потенциал сообщест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ьное влияние на здоровье и уровень охвата услугами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СРЕДСТВ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потребности в услуг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доступа к услуг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ширение спектра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эффективности услу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влечение дополнительных ресурсов для действий со стороны сооб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ижение самых уязвимых под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ация специфических проблем з точки зрения здоровья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игма, гендерная идентичность, доступность лекарств и т.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86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Для чего мы развиваем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потенциал сообщест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1981080"/>
            <a:ext cx="7924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тенциальное развитие сообществ/влияние на активизацию/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mpowermen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ЦЕЛ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щита и реальное наполнение прав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уществление политического д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иление гражданского сообщества и улучшение государствен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деление силой и раве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ойчивость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действ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принятие пробл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вышение социального капит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потенциала и компетентности сообществ для ответа на  другие социальные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50920" y="189000"/>
            <a:ext cx="8888400" cy="6092640"/>
            <a:chOff x="250920" y="189000"/>
            <a:chExt cx="8888400" cy="609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250920" y="189000"/>
              <a:ext cx="8888400" cy="60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50920" y="189000"/>
              <a:ext cx="8888400" cy="60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42960" y="6000840"/>
            <a:ext cx="821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нтегрированная модель взаимодействия в сообществе  ради социальных изменений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08280" y="4610160"/>
            <a:ext cx="2006640" cy="112068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0320" y="2162160"/>
            <a:ext cx="3581280" cy="169848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05040" y="6127920"/>
            <a:ext cx="4978440" cy="33732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циальное влия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662880" y="2162160"/>
            <a:ext cx="1536480" cy="169848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70320" y="917640"/>
            <a:ext cx="3581280" cy="79704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0080" y="4610160"/>
            <a:ext cx="2006640" cy="1120680"/>
          </a:xfrm>
          <a:prstGeom prst="rect">
            <a:avLst/>
          </a:prstGeom>
          <a:noFill/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11145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тализ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2209680"/>
            <a:ext cx="44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алог на уровне сооб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84440" y="3022560"/>
            <a:ext cx="332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вместны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31720" y="114480"/>
            <a:ext cx="62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2929a5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2929a5"/>
                </a:solidFill>
                <a:latin typeface="Arial"/>
              </a:rPr>
              <a:t>Интегрированная мод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47242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30760" y="5181480"/>
            <a:ext cx="9270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58080" y="2730600"/>
            <a:ext cx="596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45120" y="3263760"/>
            <a:ext cx="6098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6200000">
            <a:off x="6598080" y="26503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ешняя поддер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41880" y="1739880"/>
            <a:ext cx="1440" cy="3938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73320" y="3873600"/>
            <a:ext cx="1800" cy="7365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0080" y="3848040"/>
            <a:ext cx="1440" cy="76212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07040" y="3873600"/>
            <a:ext cx="1440" cy="73656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73800" y="3848040"/>
            <a:ext cx="1440" cy="762120"/>
          </a:xfrm>
          <a:prstGeom prst="line">
            <a:avLst/>
          </a:prstGeom>
          <a:ln cap="sq"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13480" y="5740560"/>
            <a:ext cx="1440" cy="38088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22560" y="5727600"/>
            <a:ext cx="1800" cy="39384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41480" y="1308240"/>
            <a:ext cx="1422360" cy="388620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896" h="2448">
                <a:moveTo>
                  <a:pt x="896" y="0"/>
                </a:moveTo>
                <a:lnTo>
                  <a:pt x="0" y="0"/>
                </a:lnTo>
                <a:lnTo>
                  <a:pt x="0" y="2448"/>
                </a:lnTo>
                <a:lnTo>
                  <a:pt x="472" y="2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1752480"/>
            <a:ext cx="2412720" cy="3873600"/>
          </a:xfrm>
          <a:custGeom>
            <a:avLst/>
            <a:gdLst>
              <a:gd name="textAreaLeft" fmla="*/ 0 w 2412720"/>
              <a:gd name="textAreaRight" fmla="*/ 2413080 w 2412720"/>
              <a:gd name="textAreaTop" fmla="*/ 0 h 3873600"/>
              <a:gd name="textAreaBottom" fmla="*/ 3873960 h 3873600"/>
            </a:gdLst>
            <a:ahLst/>
            <a:rect l="textAreaLeft" t="textAreaTop" r="textAreaRight" b="textAreaBottom"/>
            <a:pathLst>
              <a:path w="1520" h="2416">
                <a:moveTo>
                  <a:pt x="0" y="0"/>
                </a:moveTo>
                <a:lnTo>
                  <a:pt x="1520" y="0"/>
                </a:lnTo>
                <a:lnTo>
                  <a:pt x="1520" y="2416"/>
                </a:lnTo>
                <a:lnTo>
                  <a:pt x="472" y="24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22560" y="4805280"/>
            <a:ext cx="187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ци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500040" y="1357200"/>
            <a:ext cx="2428920" cy="1382760"/>
          </a:xfrm>
          <a:prstGeom prst="roundRect">
            <a:avLst>
              <a:gd name="adj" fmla="val 18384"/>
            </a:avLst>
          </a:prstGeom>
          <a:solidFill>
            <a:srgbClr val="f78e1e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ап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во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71720" y="98280"/>
            <a:ext cx="8072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65280" y="3171960"/>
            <a:ext cx="4213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714240" y="5000760"/>
          <a:ext cx="8174160" cy="457200"/>
        </p:xfrm>
        <a:graphic>
          <a:graphicData uri="http://schemas.openxmlformats.org/drawingml/2006/table">
            <a:tbl>
              <a:tblPr/>
              <a:tblGrid>
                <a:gridCol w="1447920"/>
                <a:gridCol w="6726240"/>
              </a:tblGrid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 проблемы/вопроса для реш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2465280" y="3171960"/>
            <a:ext cx="4213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00080" y="4500720"/>
          <a:ext cx="7886880" cy="473040"/>
        </p:xfrm>
        <a:graphic>
          <a:graphicData uri="http://schemas.openxmlformats.org/drawingml/2006/table">
            <a:tbl>
              <a:tblPr/>
              <a:tblGrid>
                <a:gridCol w="1435320"/>
                <a:gridCol w="6451560"/>
              </a:tblGrid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исследование проблемы/во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465280" y="3171960"/>
            <a:ext cx="4213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03280" y="4005360"/>
          <a:ext cx="7416720" cy="457200"/>
        </p:xfrm>
        <a:graphic>
          <a:graphicData uri="http://schemas.openxmlformats.org/drawingml/2006/table">
            <a:tbl>
              <a:tblPr/>
              <a:tblGrid>
                <a:gridCol w="1308240"/>
                <a:gridCol w="6108480"/>
              </a:tblGrid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ановка конкретных целей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2465280" y="3260880"/>
            <a:ext cx="4213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24000" y="3500280"/>
          <a:ext cx="6696000" cy="457200"/>
        </p:xfrm>
        <a:graphic>
          <a:graphicData uri="http://schemas.openxmlformats.org/drawingml/2006/table">
            <a:tbl>
              <a:tblPr/>
              <a:tblGrid>
                <a:gridCol w="1152720"/>
                <a:gridCol w="5543280"/>
              </a:tblGrid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Определение мишеней (целевых групп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65280" y="3260880"/>
            <a:ext cx="4213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56000" y="2997360"/>
          <a:ext cx="6264000" cy="457200"/>
        </p:xfrm>
        <a:graphic>
          <a:graphicData uri="http://schemas.openxmlformats.org/drawingml/2006/table">
            <a:tbl>
              <a:tblPr/>
              <a:tblGrid>
                <a:gridCol w="1044360"/>
                <a:gridCol w="5219640"/>
              </a:tblGrid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Шаг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Выявление ресурс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457360" y="3260880"/>
            <a:ext cx="42134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00240" y="2571840"/>
          <a:ext cx="5819760" cy="457200"/>
        </p:xfrm>
        <a:graphic>
          <a:graphicData uri="http://schemas.openxmlformats.org/drawingml/2006/table">
            <a:tbl>
              <a:tblPr/>
              <a:tblGrid>
                <a:gridCol w="1000440"/>
                <a:gridCol w="4819320"/>
              </a:tblGrid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Шаг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Нахождение/выявление союзник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2424240" y="3260880"/>
            <a:ext cx="4213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786120" y="2071800"/>
          <a:ext cx="5040360" cy="457200"/>
        </p:xfrm>
        <a:graphic>
          <a:graphicData uri="http://schemas.openxmlformats.org/drawingml/2006/table">
            <a:tbl>
              <a:tblPr/>
              <a:tblGrid>
                <a:gridCol w="1352520"/>
                <a:gridCol w="3687840"/>
              </a:tblGrid>
              <a:tr h="496080">
                <a:tc>
                  <a:txBody>
                    <a:bodyPr lIns="90000" rIns="90000" tIns="134640" bIns="4680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4640" bIns="4680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исание рабочего пл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2400480" y="3260880"/>
            <a:ext cx="421308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286160" y="1214280"/>
          <a:ext cx="4535640" cy="822600"/>
        </p:xfrm>
        <a:graphic>
          <a:graphicData uri="http://schemas.openxmlformats.org/drawingml/2006/table">
            <a:tbl>
              <a:tblPr/>
              <a:tblGrid>
                <a:gridCol w="1295640"/>
                <a:gridCol w="3240000"/>
              </a:tblGrid>
              <a:tr h="822600">
                <a:tc>
                  <a:txBody>
                    <a:bodyPr lIns="90000" rIns="90000" tIns="133560" anchor="t">
                      <a:noAutofit/>
                    </a:bodyPr>
                    <a:p>
                      <a:pPr algn="ctr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г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33560" anchor="t">
                      <a:noAutofit/>
                    </a:bodyPr>
                    <a:p>
                      <a:pPr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, мониторинг и оцен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2000160" y="285840"/>
            <a:ext cx="621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uk-UA" sz="2400" spc="-1" strike="noStrike">
                <a:solidFill>
                  <a:srgbClr val="006600"/>
                </a:solidFill>
                <a:latin typeface="Arial"/>
              </a:rPr>
              <a:t>МОБИЛИЗАЦИЯ и АДВО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11:10:45Z</dcterms:created>
  <dc:creator>User</dc:creator>
  <dc:description/>
  <dc:language>en-US</dc:language>
  <cp:lastModifiedBy>mari</cp:lastModifiedBy>
  <cp:lastPrinted>2012-10-11T18:24:06Z</cp:lastPrinted>
  <dcterms:modified xsi:type="dcterms:W3CDTF">2012-08-28T07:45:11Z</dcterms:modified>
  <cp:revision>160</cp:revision>
  <dc:subject/>
  <dc:title>Процессы межрегиональные</dc:title>
</cp:coreProperties>
</file>