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4DE8-BFB0-4B0E-A81E-0E80367E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7422-A52E-4E75-B54A-BBB96DDF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5D14-574E-45FB-B59C-3DE30CA75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5A6-D282-426E-9A6E-A8362AD86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6913-3C15-4820-91C9-844C4C0D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6F68-A42F-47D7-A7A9-7775E5FA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E11-FD54-4948-BB77-B65113E2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0E9E-87BF-4DB0-A945-2BF120AC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AE9D-B6A1-4EC0-9E5C-843AD4C4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2F14-E0D4-45FB-849B-17D9E45F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680-2358-487F-9802-A79F0365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CCB-C458-42B2-800D-B4AED283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lv-LV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4556A-23A2-43D8-B294-9D8DCB2E842E}" type="slidenum">
              <a:rPr b="0" lang="lv-LV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АДВО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Arial"/>
              </a:rPr>
              <a:t>Самоадвокация</a:t>
            </a: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 – говорить за себя, представлять свои интересы или защишать свои собственные п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АДВО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Подход на основе прав, наоборот, начинается со всемирно принятых прав человека и движется к сообществам, в которых не выполняются эти п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Увы, не наш подход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АДВО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Легитим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Легитимное действие — это такое действие, которое не оспаривается никем из игроков, которые имеют право и возможности это действие осп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Надежность определяется как «качество личности, в которой вы уверены и которая заслуживает на довери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АДВО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v-LV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Создание группы сторонников ради изменений - центральная стратег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v-LV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Образовательные стратег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v-LV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Стратегии коопер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v-LV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Стратегии убежд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v-LV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Пилотные или модельные программ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v-LV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Стратегии судебных процес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v-LV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Стратегии конфронта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v-LV" sz="2600" spc="-1" strike="noStrike">
                <a:solidFill>
                  <a:srgbClr val="000000"/>
                </a:solidFill>
                <a:latin typeface="Arial"/>
                <a:ea typeface="Microsoft YaHei"/>
              </a:rPr>
              <a:t>Хороший полицейский – плохой полицейск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АДВО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Arial"/>
              </a:rPr>
              <a:t>Медиа адвокация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- это стратегическое использование защитниками социальной справедливости средств массовой информации для коммуникации с большим количеством людей ради продвижения социальной или общественной цели или изменения отношения общества к важному общественному вопрос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Разрабатываем ключевое со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Выбираем правильные средства пере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1896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Культивируем хорошие отношения с мед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АДВО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Предупреждение выбранной аудитории о существовании проблемы, требующей реше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Объяснение вашей точки зрения о причинах проблемы и то, как наилучшим образом взяться за ее реш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Приглашение аудитории принять ту же самую точку з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АДВО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ДАЛЕЕ В ПРОГРАМ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СТОРО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ЛОББИС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МИШЕНИ АДВО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МИШЕНИ ОППОЗ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22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ТАКТИКИ ВОЗДЕЙСТВИЯ НА МИШ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427040" y="1768320"/>
            <a:ext cx="7226280" cy="49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212920" y="1806480"/>
            <a:ext cx="5715000" cy="285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12920" y="2367000"/>
            <a:ext cx="571500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АДВО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Arial"/>
              </a:rPr>
              <a:t>Адвокация случая</a:t>
            </a: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 - говорить от имени, представлять интересы или защищать права другого человека или специфической группы людей, которая не может защитить свои права в данный момен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АДВО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4800" spc="-1" strike="noStrike">
                <a:solidFill>
                  <a:srgbClr val="000000"/>
                </a:solidFill>
                <a:latin typeface="Arial"/>
              </a:rPr>
              <a:t>Общественная или публичная адвокация </a:t>
            </a: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-  говорить от имени, представлять интересы и защищать права широкой категории людей или всего общест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АДВО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Адвокация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– это ряд мероприятий, направленных на лиц, принимающих решения, и политических деятелей, с целью поддержки конкретных политических вопросов. Процесс адвокации считается завершенным, когда принимается решение, и в соответствии с ним проводятся определенные действи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АДВО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В целом адвокация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— это процесс постоянного воздействия на ситуацию, установки, политику и законы, посредством влияния на ключевых людей и организации, имеющие власть, а также на структуры и системы разных уровней, с тем, чтобы улучшить условия, в которых находятся люди, затронутые конкретной проблем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АДВО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7024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Модель благотворительности</a:t>
            </a: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, или иногда мы называем ее </a:t>
            </a:r>
            <a:r>
              <a:rPr b="1" lang="lv-LV" sz="4000" spc="-1" strike="noStrike">
                <a:solidFill>
                  <a:srgbClr val="000000"/>
                </a:solidFill>
                <a:latin typeface="Arial"/>
              </a:rPr>
              <a:t>Моделью щедрости</a:t>
            </a: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. В течение тысячелетий это была превалирующая модель для решения социальных проблем. Она основана на предположении, что филантропы (доноры) знают потребности бедных и просто удовлетворяют и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АДВО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lv-LV" sz="4000" spc="-1" strike="noStrike">
                <a:solidFill>
                  <a:srgbClr val="000000"/>
                </a:solidFill>
                <a:latin typeface="Arial"/>
              </a:rPr>
              <a:t>Подход на основе потребностей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отмечает, что </a:t>
            </a:r>
            <a:r>
              <a:rPr b="0" i="1" lang="lv-LV" sz="3600" spc="-1" strike="noStrike">
                <a:solidFill>
                  <a:srgbClr val="000000"/>
                </a:solidFill>
                <a:latin typeface="Arial"/>
              </a:rPr>
              <a:t>модели благотворительности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недостаточно, чтобы выявлять потребности бедных и нуждающихся доноры не имеют ответа на вопрос: в чем же бедные и нуждающиеся действительно нуждаются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АДВО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19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Подход на основе потребностей имеет несколько недостат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- Поддержка имиджа нуждающихся людей как бенефициаров других благотворителей;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- Отсутствие обязательств со стороны политических кругов и других влиятельных заинтересованных лиц;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- Благотворители или правительства удовлетворяет потребности бедных и обделенных, только когда позволяют ресур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АДВОК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- Поддержка вмешательства в основном на микро- уровне при минимальных усилиях на макро- уровне;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- Вызывают разочарование, так как призывают к участию только на своем уровне, но отговаривают от участия на более высоких уровнях разработки политик.</a:t>
            </a:r>
            <a:br>
              <a:rPr sz="3200"/>
            </a:br>
            <a:r>
              <a:rPr b="1" i="1" lang="lv-LV" sz="3200" spc="-1" strike="noStrike">
                <a:solidFill>
                  <a:srgbClr val="000000"/>
                </a:solidFill>
                <a:latin typeface="Arial"/>
              </a:rPr>
              <a:t>Подход на основе потребностей  направляет нас на работу с определенными сообществами и группами люд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5:22:14Z</dcterms:created>
  <dc:creator/>
  <dc:description/>
  <dc:language>en-US</dc:language>
  <cp:lastModifiedBy/>
  <cp:lastPrinted>2012-10-11T10:58:32Z</cp:lastPrinted>
  <cp:revision>1</cp:revision>
  <dc:subject/>
  <dc:title/>
</cp:coreProperties>
</file>