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 </a:t>
            </a:r>
            <a:r>
              <a:rPr b="1" lang="en-GB" sz="3200" spc="-1" strike="noStrike">
                <a:solidFill>
                  <a:srgbClr val="c6168d"/>
                </a:solidFill>
                <a:latin typeface="Arial Narrow"/>
              </a:rPr>
              <a:t>Modul</a:t>
            </a:r>
            <a:r>
              <a:rPr b="1" lang="lv-LV" sz="3200" spc="-1" strike="noStrike">
                <a:solidFill>
                  <a:srgbClr val="c6168d"/>
                </a:solidFill>
                <a:latin typeface="Arial Narrow"/>
              </a:rPr>
              <a:t>is</a:t>
            </a:r>
            <a:r>
              <a:rPr b="1" lang="en-GB" sz="3200" spc="-1" strike="noStrike">
                <a:solidFill>
                  <a:srgbClr val="c6168d"/>
                </a:solidFill>
                <a:latin typeface="Arial Narrow"/>
              </a:rPr>
              <a:t> 5-</a:t>
            </a:r>
            <a:r>
              <a:rPr b="1" lang="lv-LV" sz="3200" spc="-1" strike="noStrike">
                <a:solidFill>
                  <a:srgbClr val="c6168d"/>
                </a:solidFill>
                <a:latin typeface="Arial Narrow"/>
              </a:rPr>
              <a:t> psihiatrija</a:t>
            </a:r>
            <a:r>
              <a:rPr b="1" lang="en-GB" sz="3200" spc="-1" strike="noStrike">
                <a:solidFill>
                  <a:srgbClr val="c6168d"/>
                </a:solidFill>
                <a:latin typeface="Arial Narrow"/>
              </a:rPr>
              <a:t>:</a:t>
            </a:r>
            <a:r>
              <a:rPr b="0" lang="en-GB" sz="3200" spc="-1" strike="noStrike">
                <a:solidFill>
                  <a:srgbClr val="c6168d"/>
                </a:solidFill>
                <a:latin typeface="Arial Narrow"/>
              </a:rPr>
              <a:t> 8</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8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sihoze, maniakāli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 un attiecības starp māniju un HIV</a:t>
            </a:r>
            <a:endParaRPr b="0" lang="en-US" sz="2000" spc="-1" strike="noStrike">
              <a:solidFill>
                <a:srgbClr val="c6168d"/>
              </a:solidFill>
              <a:latin typeface="Lucida Sans"/>
            </a:endParaRPr>
          </a:p>
        </p:txBody>
      </p:sp>
      <p:sp>
        <p:nvSpPr>
          <p:cNvPr id="101" name="PlaceHolder 2"/>
          <p:cNvSpPr>
            <a:spLocks noGrp="1"/>
          </p:cNvSpPr>
          <p:nvPr>
            <p:ph/>
          </p:nvPr>
        </p:nvSpPr>
        <p:spPr>
          <a:xfrm>
            <a:off x="303120" y="1125360"/>
            <a:ext cx="8229600" cy="5112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portūniskās infekcijas kā kriptokoku meningīts vai, piemēram, ļaundabīga smadzeņu limfoma var būt par iemeslu sekundārai mānijai pie HIV.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āņem vērā arī neirosifiliss, pat ja sifilisa seruma tests ir negatīvs, jo HIV var būt par iemeslu viltus negatīviem testa rezultātie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izraisīta mānija (Borgans et al 2009) ir saistīta ar HIV infekciju smadzenēs un progresīvu slimības gaitu (CD4 šūnu skaits &lt; 200 šūnas/mm³). Bieži trūkst maniakālu epizožu slimības vēsturē vai ģimenes vēsturē. Simptomātiski tai ir atšķirības no ģimenes bipolārās mānijas, garastāvoklis ir uzbudināts nevis eiforisks, psihomotorika ir lēnāka un ir kognitīvie traucējum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īnajos HIV epidēmijas gados to sauca par „AIDS-Māniju”. Mānijas simptomi bija arī pirms-ARVT periodā, tāpat arī AIDS-demences vai delīrij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549360"/>
            <a:ext cx="849636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 un attiecības starp psihozi un HIV </a:t>
            </a:r>
            <a:endParaRPr b="0" lang="en-US" sz="2000" spc="-1" strike="noStrike">
              <a:solidFill>
                <a:srgbClr val="c6168d"/>
              </a:solidFill>
              <a:latin typeface="Lucida Sans"/>
            </a:endParaRPr>
          </a:p>
        </p:txBody>
      </p:sp>
      <p:sp>
        <p:nvSpPr>
          <p:cNvPr id="103" name="PlaceHolder 2"/>
          <p:cNvSpPr>
            <a:spLocks noGrp="1"/>
          </p:cNvSpPr>
          <p:nvPr>
            <p:ph/>
          </p:nvPr>
        </p:nvSpPr>
        <p:spPr>
          <a:xfrm>
            <a:off x="32400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astapšanās ar pirmajiem HIV vai AIDS simptomiem var izraisīt bailes un jūtīgākajiem arī īsus psihotiskus traucējumus.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epresīvs pacients ar HIV un stipru vainas sajūtu var būt pārliecināts, ka viņš ir vainīgs pie savas slimības, kas noved pie psihotiskas depresij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s pacienti var būt neaizsargātāki, kad nokļūst aci pret aci ar HIV (Skapik 2008).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561600"/>
            <a:ext cx="849636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 un attiecības starp psihozi un HIV</a:t>
            </a:r>
            <a:endParaRPr b="0" lang="en-US" sz="20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 psihotiskos simptomus pie HIV infekcijas ir izraisījusi tieši kādas vielas ietekme – narkotiku, medikamentu vai alkohola, tad var noteikt vielas izraisītus garastāvokļa traucējumu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portūniskās infekcijas, audzēji un HIV neirotoksiskā iedarbība var būt par iemeslu paranoidālai psihozei ar akūtu sākumu, pēc DSM terminoloģijas, psihotiskie traucējumi veselības stāvokļa dēļ </a:t>
            </a:r>
            <a:r>
              <a:rPr b="0" lang="lv-LV" sz="1200" spc="-1" strike="noStrike">
                <a:solidFill>
                  <a:srgbClr val="1b2764"/>
                </a:solidFill>
                <a:latin typeface="Lucida Sans"/>
              </a:rPr>
              <a:t>(</a:t>
            </a:r>
            <a:r>
              <a:rPr b="0" lang="en-US" sz="1200" spc="-1" strike="noStrike">
                <a:solidFill>
                  <a:srgbClr val="1b2764"/>
                </a:solidFill>
                <a:latin typeface="Lucida Sans"/>
              </a:rPr>
              <a:t>Rhonchi, </a:t>
            </a:r>
            <a:r>
              <a:rPr b="0" lang="lv-LV" sz="1200" spc="-1" strike="noStrike">
                <a:solidFill>
                  <a:srgbClr val="1b2764"/>
                </a:solidFill>
                <a:latin typeface="Lucida Sans"/>
              </a:rPr>
              <a:t>2006).</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sihotiski traucējumi var būt sastopami arī kopā ar kognitīvajiem traucējumiem sakarā ar HIV izraisīto demenci un kontekstā ar delīrij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 </a:t>
            </a:r>
            <a:br>
              <a:rPr sz="2000"/>
            </a:br>
            <a:r>
              <a:rPr b="0" lang="lv-LV" sz="2000" spc="-1" strike="noStrike">
                <a:solidFill>
                  <a:srgbClr val="c6168d"/>
                </a:solidFill>
                <a:latin typeface="Lucida Sans"/>
              </a:rPr>
              <a:t>Riskanta seksuālā uzvedība, bipolārie traucējumi un šizofrēn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rīva seksuālā uzvedība rada neaizsargāta seksa varbūtību un HIV infekcijas risku un tās izplatīšano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cientiem ar bipolārajiem traucējumiem ir palielināts HIV, mānijas vai depresijas risks </a:t>
            </a:r>
            <a:r>
              <a:rPr b="0" lang="lv-LV" sz="1200" spc="-1" strike="noStrike">
                <a:solidFill>
                  <a:srgbClr val="1b2764"/>
                </a:solidFill>
                <a:latin typeface="Lucida Sans"/>
              </a:rPr>
              <a:t>(Meade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cējumiem spriedumos un lēmumu pieņemšanā, abiem gadījumiem pamatā ir garastāvokļa traucējum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ieaugoša narkotiku lietošana un brīva seksuālā uzvedība sagrauj gan mānijas, gan depresijas pacientus </a:t>
            </a:r>
            <a:r>
              <a:rPr b="0" lang="lv-LV" sz="1200" spc="-1" strike="noStrike">
                <a:solidFill>
                  <a:srgbClr val="1b2764"/>
                </a:solidFill>
                <a:latin typeface="Lucida Sans"/>
              </a:rPr>
              <a:t>(Angelino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alitāte hipermānijas epizodēs un slikta pašaprūpe un zema pašcieņa depresīvajā fāzē rada HIV infekcijas risku (Cohen, 2008).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nta seksuālā uzvedība, bipolārie traucējumi un šizofrēnija</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āja seksuālo impulsu kontrole dažreiz ir sastopama pie agrīnās šizofrēnijas. Kaut arī salīdzinot ar ne-psihotiskiem indivīdiem šizofrēnijas pacienti ir mazāk seksuāli aktīvi, viņiem piemīt riskantāka seksuālā uzvedība </a:t>
            </a:r>
            <a:r>
              <a:rPr b="0" lang="lv-LV" sz="1200" spc="-1" strike="noStrike">
                <a:solidFill>
                  <a:srgbClr val="1b2764"/>
                </a:solidFill>
                <a:latin typeface="Lucida Sans"/>
              </a:rPr>
              <a:t>(Cournos et al 2005).</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fektīvās sociālās funkcionēšanas dēļ ir sarežģītāk vest sarunas par drošu seksu </a:t>
            </a:r>
            <a:r>
              <a:rPr b="0" lang="lv-LV" sz="1200" spc="-1" strike="noStrike">
                <a:solidFill>
                  <a:srgbClr val="1b2764"/>
                </a:solidFill>
                <a:latin typeface="Lucida Sans"/>
              </a:rPr>
              <a:t>(Angelino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s pacientiem ir stipri mazākas zināšanas par drošu seksu </a:t>
            </a:r>
            <a:r>
              <a:rPr b="0" lang="lv-LV" sz="1200" spc="-1" strike="noStrike">
                <a:solidFill>
                  <a:srgbClr val="1b2764"/>
                </a:solidFill>
                <a:latin typeface="Lucida Sans"/>
              </a:rPr>
              <a:t>(De Hert et al 2009).</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Augsti negatīvo simptomu rādījumi korelē ar zemām zināšanām par HIV/AIDS riskam pakļautu uzvedību </a:t>
            </a:r>
            <a:r>
              <a:rPr b="0" lang="lv-LV" sz="1200" spc="-1" strike="noStrike">
                <a:solidFill>
                  <a:srgbClr val="1b2764"/>
                </a:solidFill>
                <a:latin typeface="Lucida Sans"/>
              </a:rPr>
              <a:t>(Koen, 2007).</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lvenokārt kaitīgu vielu lietošana, pajumtes trūkums un nepietiekama ārstēšana rada HIV risku šizofrēnijas pacientiem  </a:t>
            </a:r>
            <a:r>
              <a:rPr b="0" lang="lv-LV" sz="1200" spc="-1" strike="noStrike">
                <a:solidFill>
                  <a:srgbClr val="1b2764"/>
                </a:solidFill>
                <a:latin typeface="Lucida Sans"/>
              </a:rPr>
              <a:t>(Cournos et al 2005, Fleischhacker et al 2008).</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 Medikamenti</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125360"/>
            <a:ext cx="8229600" cy="532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1b2764"/>
                </a:solidFill>
                <a:latin typeface="Lucida Sans"/>
              </a:rPr>
              <a:t>Lithium </a:t>
            </a:r>
            <a:r>
              <a:rPr b="0" lang="lv-LV" sz="2000" spc="-1" strike="noStrike">
                <a:solidFill>
                  <a:srgbClr val="1b2764"/>
                </a:solidFill>
                <a:latin typeface="Lucida Sans"/>
              </a:rPr>
              <a:t>ir pierādījis savu efektivitāti kā pirmās izvēles zāles bipolāro traucējumu ārstēšanai. HIV pacientiem jādod priekšroka litijam, jo tas izdalās caur nierēm un tāpēc tam nav mijiedarbības ar vairākumu antiretrovīrusu preparāt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Litija intoksikācija nieru bojājumu gadījumā noved pie antiretrovīrusu līdzekļa tenofovira toksiska līmeņa. Litija neirotoksicitāte izskaidro letarģijas, trīces un ataksijas parādīšanos. Pie stingras novērošanas litijs ir drošs medikaments HIV inficētiem pacientiem, taču, ja ir nieru bojājumi dēļ HIV vai ARVT, jāievēro piesardzība.</a:t>
            </a:r>
            <a:endParaRPr b="0" lang="en-US" sz="20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a:t>
            </a:r>
            <a:r>
              <a:rPr b="0" i="1" lang="lv-LV" sz="2000" spc="-1" strike="noStrike">
                <a:solidFill>
                  <a:srgbClr val="1b2764"/>
                </a:solidFill>
                <a:latin typeface="Lucida Sans"/>
              </a:rPr>
              <a:t>valproiskābe </a:t>
            </a:r>
            <a:r>
              <a:rPr b="0" lang="lv-LV" sz="2000" spc="-1" strike="noStrike">
                <a:solidFill>
                  <a:srgbClr val="1b2764"/>
                </a:solidFill>
                <a:latin typeface="Lucida Sans"/>
              </a:rPr>
              <a:t>tiek metabolizēta aknās, tad ir iespējams, ka tā mijiedarbosies ar antiretrovīrusu preparātiem. Iespējamā valproiskābes toksiskā iedarbība uz aknām ierobežo šī preparāta lietošanu, īpaši gadījumos, ja ir progresējoša HIV infekcija un blakusslimības HBV un HCV infek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 Medikamenti</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1b2764"/>
                </a:solidFill>
                <a:latin typeface="Lucida Sans"/>
              </a:rPr>
              <a:t>Karbamazepīns </a:t>
            </a:r>
            <a:r>
              <a:rPr b="0" lang="lv-LV" sz="2000" spc="-1" strike="noStrike">
                <a:solidFill>
                  <a:srgbClr val="1b2764"/>
                </a:solidFill>
                <a:latin typeface="Lucida Sans"/>
              </a:rPr>
              <a:t>ir spēcīgs fermenta CYP3A induktors, kas var ātri samazināt antiretrovīrusu līdzekļa iedarbību un potenciāli negatīvi ietekmēt HIV ārstēšanas efektivitāti </a:t>
            </a:r>
            <a:r>
              <a:rPr b="0" lang="lv-LV" sz="1200" spc="-1" strike="noStrike">
                <a:solidFill>
                  <a:srgbClr val="1b2764"/>
                </a:solidFill>
                <a:latin typeface="Lucida Sans"/>
              </a:rPr>
              <a:t>(Hugen et al. 2000).</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Efavirenzs un ritonavirs nomāc CPY3A, un palielina karbamazepīna līmeni līdz toksiskam līmenim </a:t>
            </a:r>
            <a:r>
              <a:rPr b="0" lang="lv-LV" sz="1200" spc="-1" strike="noStrike">
                <a:solidFill>
                  <a:srgbClr val="1b2764"/>
                </a:solidFill>
                <a:latin typeface="Lucida Sans"/>
              </a:rPr>
              <a:t>(Burnam &amp; Orr, 2000; Dato et al 2000).</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rbamazepīns ir absolūti kontraindicēts HIV, antiretrovīrusu preparātu izvēle un biežas asins pārbaudes netiek ņemtas vēr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 Medikamenti</a:t>
            </a:r>
            <a:endParaRPr b="0" lang="en-US" sz="2400" spc="-1" strike="noStrike">
              <a:solidFill>
                <a:srgbClr val="c6168d"/>
              </a:solidFill>
              <a:latin typeface="Lucida Sans"/>
            </a:endParaRPr>
          </a:p>
        </p:txBody>
      </p:sp>
      <p:sp>
        <p:nvSpPr>
          <p:cNvPr id="115" name="PlaceHolder 2"/>
          <p:cNvSpPr>
            <a:spLocks noGrp="1"/>
          </p:cNvSpPr>
          <p:nvPr>
            <p:ph/>
          </p:nvPr>
        </p:nvSpPr>
        <p:spPr>
          <a:xfrm>
            <a:off x="324000" y="1268280"/>
            <a:ext cx="8229600" cy="4957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RVT var mijiedarboties ar </a:t>
            </a:r>
            <a:r>
              <a:rPr b="0" i="1" lang="lv-LV" sz="2000" spc="-1" strike="noStrike">
                <a:solidFill>
                  <a:srgbClr val="1b2764"/>
                </a:solidFill>
                <a:latin typeface="Lucida Sans"/>
              </a:rPr>
              <a:t>antipsihotiskajiem līdzekļiem </a:t>
            </a:r>
            <a:r>
              <a:rPr b="0" lang="lv-LV" sz="2000" spc="-1" strike="noStrike">
                <a:solidFill>
                  <a:srgbClr val="1b2764"/>
                </a:solidFill>
                <a:latin typeface="Lucida Sans"/>
              </a:rPr>
              <a:t>un var ietekmēt antipsihotiķu devu kā negatīvi, tā pozitīv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cienti ar HIV, kas lieto antipsihotiķus ir jutīgāki pret ekstrapiramidāllām blakusparādībām, iespējams HIV izraisītas smadzeņu sensibilitātes dēļ </a:t>
            </a:r>
            <a:r>
              <a:rPr b="0" lang="lv-LV" sz="1200" spc="-1" strike="noStrike">
                <a:solidFill>
                  <a:srgbClr val="1b2764"/>
                </a:solidFill>
                <a:latin typeface="Lucida Sans"/>
              </a:rPr>
              <a:t>(Ferrando et al 2006).</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adoms ir tāds: sāc ar viszemāko līmeni, ej lēni, bet noej visu ceļ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Svara pieaugums, hiperglikēmija un hiperlipidēmija var būt, lietojot antipsihotiskos līdzekļus. Ir nepieciešama intensīva novērošana, jo pacientiem ar HIV pastāv arī sirds slimību, lipīdu traucējumu un cukurslimības risks.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IDS Psihiatrijas Organizācija dod relatīvu priekšroku kvetiapīnam, risperidonam un olanzapīnam </a:t>
            </a:r>
            <a:r>
              <a:rPr b="0" lang="lv-LV" sz="1200" spc="-1" strike="noStrike">
                <a:solidFill>
                  <a:srgbClr val="1b2764"/>
                </a:solidFill>
                <a:latin typeface="Lucida Sans"/>
              </a:rPr>
              <a:t>(psihiatrijas HIV ārstēšanā vienošanās apskats 2008).</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Vispārēja ārstēšana</a:t>
            </a:r>
            <a:br>
              <a:rPr sz="2400"/>
            </a:br>
            <a:endParaRPr b="0" lang="en-US" sz="2400" spc="-1" strike="noStrike">
              <a:solidFill>
                <a:srgbClr val="c6168d"/>
              </a:solidFill>
              <a:latin typeface="Lucida Sans"/>
            </a:endParaRPr>
          </a:p>
        </p:txBody>
      </p:sp>
      <p:sp>
        <p:nvSpPr>
          <p:cNvPr id="117" name="PlaceHolder 2"/>
          <p:cNvSpPr>
            <a:spLocks noGrp="1"/>
          </p:cNvSpPr>
          <p:nvPr>
            <p:ph/>
          </p:nvPr>
        </p:nvSpPr>
        <p:spPr>
          <a:xfrm>
            <a:off x="303120" y="1052640"/>
            <a:ext cx="8229600" cy="5472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Ārstēšana ietver sevī arī zināšanas par HIV un pacienta psihiatriskajām slimībām, ģimeni un draugiem. Ir ļoti svarīgi izstrādāt plānu, kura mērķis ir brīdināt par agrīnām recidīva pazīmē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ie hroniskām garīgām slimībām un HIV palīdzības sniegšanai ir svarīga loma. Jāapspriež attiecības, seksualitāte, drošs sekss un riskanta seksuālā uzvedība. Jāapspriež iedarbība uz slimības simptomiem un parakstīto zāļu blakusiedarbība uz seksuālo funkcij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sihiatrijas pacienti ar HIV bieži cieš no divkāršas stigmas. Tāpēc ir svarīga empātija, bezaizspriedumaina un akceptējoša attieksme no ārstējošā ārsta therapist in the pus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kopienas medmāsai un psihologam ir jāstrādā ciešā saskaņā. HIV ārstēšanā un psihiatrijas pacientu ar HIV aprūpē būtiska ir laba sadarbība starp internistu un konsultant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6168d"/>
                </a:solidFill>
                <a:latin typeface="Lucida Sans"/>
              </a:rPr>
              <a:t>1</a:t>
            </a:r>
            <a:r>
              <a:rPr b="0" i="1" lang="lv-LV" sz="2400" spc="-1" strike="noStrike">
                <a:solidFill>
                  <a:srgbClr val="c6168d"/>
                </a:solidFill>
                <a:latin typeface="Lucida Sans"/>
              </a:rPr>
              <a:t>.</a:t>
            </a:r>
            <a:r>
              <a:rPr b="0" lang="lv-LV" sz="2400" spc="-1" strike="noStrike">
                <a:solidFill>
                  <a:srgbClr val="c6168d"/>
                </a:solidFill>
                <a:latin typeface="Lucida Sans"/>
              </a:rPr>
              <a:t> </a:t>
            </a:r>
            <a:r>
              <a:rPr b="0" i="1" lang="lv-LV" sz="2400" spc="-1" strike="noStrike">
                <a:solidFill>
                  <a:srgbClr val="c6168d"/>
                </a:solidFill>
                <a:latin typeface="Lucida Sans"/>
              </a:rPr>
              <a:t>Situācijas apraksts</a:t>
            </a:r>
            <a:br>
              <a:rPr sz="2400"/>
            </a:br>
            <a:endParaRPr b="0" lang="en-US" sz="24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esat 31 gadu vecs vīrietis/sieviete. Pēdējo 12 gadu laikā jūs bieži esat ticis hospitalizēts ar paranoidālu psihozi. Psihozes laikā jūs esat satraukts, dažreiz agresīvs un ļoti nemierīgs. Jūs domājat, ka visa pasaule jūs izspiego, īpaši caur televizoru. Jūsu iekšējās balsis dažreiz jums saka, ka jūs nedrīkstat ēst, jo jūsu pārtika ir saindēta ar radiāciju. Lielāko daļu laika jūs saņemat antipsihotisku ārstēšanu.</a:t>
            </a:r>
            <a:br>
              <a:rPr sz="2000"/>
            </a:br>
            <a:r>
              <a:rPr b="0" lang="en-GB" sz="2000" spc="-1" strike="noStrike">
                <a:solidFill>
                  <a:srgbClr val="000000"/>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ēdējos 8 gadus jūs esat lietojis heroīnu, dažreiz uz kādu laiku pārtraucot to. Lielāko daļu laika jūs lietojat metadonu. Pirms trim gadiem jūs pārbaudījāties uz HIV, un jūsu tests bija pozitīvs. Pirms gada jūs uzsākāt antiretrovīrusu terapiju, bet 3 reizes jūs esat pārtraucis medikamentu lietošanu.</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3120" y="1197000"/>
            <a:ext cx="8229600" cy="5472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un psihoze ir dažādā veidā saistītas ar HIV.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ā HIV pirmās klīniskās izpausmes vai arī HIV progresēšanas par AIDS gaitā..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aniakālie un psihotiskie simptomi bieži vien ir arī antiretrovīrusu ārstēšanas blakusparā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un psihozes ir arī tādu nopietnu psihiatrisku traucējumu kā bipolārie traucējumi un šizofrēnija simptom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aniakālā vai psihotiskā stāvoklī pacientam var būt sekss bez izsargāšanās, kas var novest pie inficēšanās ar HIV.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iskie simptomi ir iemesls sliktai līdzestībai. Tas viss ietekmē gan garīgās slimības, gan HIV infekcijas prognozi.</a:t>
            </a:r>
            <a:endParaRPr b="0" lang="en-US" sz="2000" spc="-1" strike="noStrike">
              <a:solidFill>
                <a:srgbClr val="1b2764"/>
              </a:solidFill>
              <a:latin typeface="Lucida Sans"/>
            </a:endParaRPr>
          </a:p>
        </p:txBody>
      </p:sp>
      <p:sp>
        <p:nvSpPr>
          <p:cNvPr id="85" name="PlaceHolder 2"/>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nstrukcijas konsultēšanai</a:t>
            </a:r>
            <a:endParaRPr b="0" lang="en-US" sz="24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spirms mēģiniet nodibināt kontaktu. Pajautājiet neitrālus jautājumus par dažām jaukām lietām, ko jās zināt par pacientu, tādām kā hobiji, ģimene, u.tml.</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dodiet „atvērtus jautājumus”, tādus kā „kā to dara”, „kā tu jūtie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veidojiet vērtējošus jautājumus; piemēram, nesakiet: „tas nav labi, ka jūs nelietojat medikamen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mēģiniet saprast, kāpēc pacients ir uztraucie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noliedziet, ka viņš/viņa dzird balsis savā galvā. Jūs varat teikt, ka pats nekad neesat tās dzirdēji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mēģiniet saprast, kāpēc pacients vairāk nelieto medikamentus, varbūt ir vairāk nekā viens izskaidrojum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a:rPr>
              <a:t>Iemesli medikamentu nelietošanai</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iskās pazīmes (balsis galvā) neļauj pacientam lietot medikamentus</a:t>
            </a:r>
            <a:endParaRPr b="0" lang="en-US" sz="2000" spc="-1" strike="noStrike">
              <a:solidFill>
                <a:srgbClr val="1b2764"/>
              </a:solidFill>
              <a:latin typeface="Lucida Sans"/>
            </a:endParaRPr>
          </a:p>
          <a:p>
            <a:pPr indent="262080">
              <a:spcBef>
                <a:spcPts val="499"/>
              </a:spcBef>
              <a:buClr>
                <a:srgbClr val="c6168d"/>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retrovīrusu terapijas un metadona kombinācija samazina metadona iedarbību, kas rada aprakstītos simptomus. Dažreiz pacientam kombinācijā ar antiretrovīrusu terapiju nepieciešama divas reizes lielāka regulārā metadona deva. Piemēram, 200 mg metadona 100mg vietā</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a:rPr>
              <a:t>Antipsihotiskie līdzekļi</a:t>
            </a:r>
            <a:endParaRPr b="0" lang="en-US" sz="2400" spc="-1" strike="noStrike">
              <a:solidFill>
                <a:srgbClr val="c6168d"/>
              </a:solidFill>
              <a:latin typeface="Lucida Sans"/>
            </a:endParaRPr>
          </a:p>
        </p:txBody>
      </p:sp>
      <p:sp>
        <p:nvSpPr>
          <p:cNvPr id="12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psihotiskie līdzekļi: esiet uzmanīgi ar savstarpējo mijiedarbīb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iemēram, haloperidols: haloperidols mijiedarbojas ar anntiretrovīrusu līdzekli „ritonaviru”.Haloperidolam var būt nopietnas blakusparādīb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ām personām antipsihotiskie līdzekļi var izraisīt vairāk blakusparādību un viņiem ir lielāks „ļaundabīgā neiroleptiskā sindroma” risk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a:rPr>
              <a:t>Antipsihotiskajiem līdzekļiem un metadonam arī var būt savstarpējā mijiedarbība, kas var radīt abstinences simptomu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cients ir pārliecināts par faktu, ka vīruss vairs nevar nodarīt neko ļaunu ārpus viņa ķermeņa, jo radiācija no ārpuses visu nogalina. Viņš arī tic, ka vīruss, ja tas var pamest viņa ķermeni nekavējoties „nokrīt miris”. Tā rezultātā pacients domā, ka viņam nav nepieciešams lietot prezervatīvus</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nstrukcijas konsultēšanai</a:t>
            </a:r>
            <a:endParaRPr b="0" lang="en-US" sz="24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spirms mēģiniet izveidot kontaktu. Uzdodiet neitrālus jautājumus par jaukām lietām, ko jūs zināt par pacientu, tādām kā hobiji, ģimene.</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diet objektīvu informāciju p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pstrīdiet pacienta psihotiskās idejas attiecībā uz HIV, bet palieciet mierīgs un draudzīg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oskaidrojiet, vai pacientam ir kādas šaubas par viņa/viņas psihotiskajām idejām par prezervatīvu lietošanu, drošu seksu, u.tml.</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mantojiet savu personīgo pieredzi, bet pārāk nepiepūlieties pārliecināt pacientu</a:t>
            </a:r>
            <a:r>
              <a:rPr b="0" lang="en-US" sz="2000" spc="-1" strike="noStrike">
                <a:solidFill>
                  <a:srgbClr val="000000"/>
                </a:solidFill>
                <a:latin typeface="Lucida Sans"/>
              </a:rPr>
              <a:t>.</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Mānijas un psihozes vispārīgs raksturojums</a:t>
            </a:r>
            <a:br>
              <a:rPr sz="2000"/>
            </a:br>
            <a:endParaRPr b="0" lang="en-US" sz="2000" spc="-1" strike="noStrike">
              <a:solidFill>
                <a:srgbClr val="c6168d"/>
              </a:solidFill>
              <a:latin typeface="Lucida Sans"/>
            </a:endParaRPr>
          </a:p>
        </p:txBody>
      </p:sp>
      <p:sp>
        <p:nvSpPr>
          <p:cNvPr id="8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ir patoloģiska stāvokļa veids ar eiforisku, ekspansīvu, sakairinātu garastāvokl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iega ir samazināta un ir enerģijas pārpalikum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Ir ideju lidojums un pieaugoša izklai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aaugstināta iekāre un seksuālā atraisīt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imptomi ir tik smagi, ka tie noved pie acīm redzamiem ierobežojumiem darbā vai attiecībās ar citie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 simptomi ilgst vismaz septiņas dienas, vai tie ir smagi, ir nepieciešama psihiatriska iejauk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ie smagas mānijas parasti ir psihotiski simptomi .</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Mānijas un psihozes vispārīgs raksturojums</a:t>
            </a:r>
            <a:endParaRPr b="0" lang="en-US" sz="2000" spc="-1" strike="noStrike">
              <a:solidFill>
                <a:srgbClr val="c6168d"/>
              </a:solidFill>
              <a:latin typeface="Lucida Sans"/>
            </a:endParaRPr>
          </a:p>
        </p:txBody>
      </p:sp>
      <p:sp>
        <p:nvSpPr>
          <p:cNvPr id="89" name="PlaceHolder 2"/>
          <p:cNvSpPr>
            <a:spLocks noGrp="1"/>
          </p:cNvSpPr>
          <p:nvPr>
            <p:ph/>
          </p:nvPr>
        </p:nvSpPr>
        <p:spPr>
          <a:xfrm>
            <a:off x="303120" y="1628280"/>
            <a:ext cx="8229600" cy="4310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sihoze ir saistīta ar spēcīgu trauksmi un zaudētu kontaktu ar realitāt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Ir traucētas loģiskās spriešanas spējas (nekonsekvence) un dažreiz katatoniija: nespēja kustēties (stupors) un runāt (mūtism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āšanas traucējumi rada murgus, uztveres traucējumi rada halucinācijas. Cilvēki dzird (akustiskās halucinācijas) un redz (vizuālās halucinācijas) lietas, kuru patiesībā nav.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sihoze ir šizofrēnisko traucējumu biežii sastopama daļ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 </a:t>
            </a:r>
            <a:r>
              <a:rPr b="0" lang="lv-LV" sz="2000" spc="-1" strike="noStrike">
                <a:solidFill>
                  <a:srgbClr val="c6168d"/>
                </a:solidFill>
                <a:latin typeface="Lucida Sans"/>
              </a:rPr>
              <a:t>Diagnozes mānija un psihoze un HIV</a:t>
            </a:r>
            <a:br>
              <a:rPr sz="2000"/>
            </a:br>
            <a:endParaRPr b="0" lang="en-US" sz="2000" spc="-1" strike="noStrike">
              <a:solidFill>
                <a:srgbClr val="c6168d"/>
              </a:solidFill>
              <a:latin typeface="Lucida Sans"/>
            </a:endParaRPr>
          </a:p>
        </p:txBody>
      </p:sp>
      <p:sp>
        <p:nvSpPr>
          <p:cNvPr id="9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šķirības starp dažādiem mānijas un psihozes iemesliem HIV inficētajiem ir sarežģītas un prasa rūpīgu bioloģisko, psiholoģisko un sociālo faktoru izskatīšan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varīga ir simptomu dabas un norises vēsture visā laika gaitā.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mānija ir kopā ar kognitīvās funkcijas izmaiņā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āda ir psihiatriskā vēsture HIV infekcijas laikā?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eteroanamnēze ir ļoti svarīga, jo maniakālu un psihotisku pacientu slimības vēsture bieži ir neadekvāt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Bipolāro traucējumu vai šizofrēnijas pastāvēšana ģimenē norāda uz ģenētisku nast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agnozes mānija un psihoze un HIV</a:t>
            </a:r>
            <a:br>
              <a:rPr sz="2000"/>
            </a:br>
            <a:endParaRPr b="0" lang="en-US" sz="2000" spc="-1" strike="noStrike">
              <a:solidFill>
                <a:srgbClr val="c6168d"/>
              </a:solidFill>
              <a:latin typeface="Lucida Sans"/>
            </a:endParaRPr>
          </a:p>
        </p:txBody>
      </p:sp>
      <p:sp>
        <p:nvSpPr>
          <p:cNvPr id="93"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ir bijuši kādas stresa situācijas, kas varēja būt par iemeslu mānijas vai psihozes sākumam?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vēsture rāda, kāpēc pacientam ir riskanta seksuālā uzvedība vai seksuālās problēma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ar narkotiku lietošanu var izskaidrot psihozi vai mānij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eži ir nepieciešama fiziska pārbaude, lai izslēgtu somatisku iemeslu. Mānija pie HIV diagnozes var būt pirmā bipolāru traucējumu izpausme.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agnozes mānija un psihoze un HIV </a:t>
            </a:r>
            <a:endParaRPr b="0" lang="en-US" sz="2400" spc="-1" strike="noStrike">
              <a:solidFill>
                <a:srgbClr val="c6168d"/>
              </a:solidFill>
              <a:latin typeface="Lucida Sans"/>
            </a:endParaRPr>
          </a:p>
        </p:txBody>
      </p:sp>
      <p:sp>
        <p:nvSpPr>
          <p:cNvPr id="95"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cientiem ar HIV infekciju iespējams, ka pirmā maniakālā vai psihotiskā epizode psihiatrisko traucējumu kontekstā nav saistīta ar HIV.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Īpaši ja pacienta ģimenes vēsturē ir bipolārie traucējumi vai psihoze un viņš ir jaunāks par 30 – 35 gadu vecumu, ir jāapsver diagnoze šizofrēnija vai bipolārie traucējumi. To sauc par primāru psihozi vai primāru māniju.</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dījumā, ja mānija un psihoze ir HIV infekcijas iedarbības uz smadzenēm rezultāts, ar HIV vai ARVT saistīta saslimšana, to sauc par sekundāru māniju vai sekundāru psihoz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 </a:t>
            </a:r>
            <a:r>
              <a:rPr b="0" lang="lv-LV" sz="2400" spc="-1" strike="noStrike">
                <a:solidFill>
                  <a:srgbClr val="c6168d"/>
                </a:solidFill>
                <a:latin typeface="Lucida Sans"/>
              </a:rPr>
              <a:t>Diagnozes mānija un psihoze un HIV</a:t>
            </a:r>
            <a:endParaRPr b="0" lang="en-US" sz="2400" spc="-1" strike="noStrike">
              <a:solidFill>
                <a:srgbClr val="c6168d"/>
              </a:solidFill>
              <a:latin typeface="Lucida Sans"/>
            </a:endParaRPr>
          </a:p>
        </p:txBody>
      </p:sp>
      <p:sp>
        <p:nvSpPr>
          <p:cNvPr id="97"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Ārstēšanas izraisīti maniakāli efekti parādījās pirms ARVT ēras pacientiem pie lielām AZT devām (Maxwell et al, 1988).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zināms, ka vislielākās iespējas izraisīt maniakālas epizodes ir antiretrovīrusu līdzekļiem efavirenzam un abakaviram (Shah et al 2003; Forstein et al 2006; Brouilette et al 2007).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ā efavirenza blakusparādības ir aprakstītas ātra uzbudināmība un ekspansīva uzve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biotikas var būt par mānijas iemeslu (ret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Psihotiski simptomi ir noteikti efavirenzam, un ir daži ziņojumi par abakavira un nevirapīna izraisītām psihozē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teroīdi, tādi kā interferons var būt par iemeslu gan maniakāliem, gan psihotiskiem simptomiem.</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922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 un attiecības starp māniju un HIV</a:t>
            </a:r>
            <a:br>
              <a:rPr sz="2000"/>
            </a:br>
            <a:endParaRPr b="0" lang="en-US" sz="20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dejas par diženumu ir gan mānijai gan narcistiskai personībai (traucējum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pozitīvais statuss un konfrontācija ar slimību tiek uztverta kā uzbrukums godam un fiziskajai veselība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pacientiem ar biežām garastāvokļa svārstībām, uzbudināmību, dusmu izvirdumiem un impulsivitāti seksuālajos jautājumos – šeit var parādīties personības robežstāvokļa traucējumi.</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a maniakālos simptomus pie HIV ir izraisījusi tieša fizioloģiska vielas iedarbība – narkotikas, medikamenti vai alkohols, var diagnosticēt vielas izraisītus garastāvokļa traucējumu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6:51:51Z</dcterms:modified>
  <cp:revision>419</cp:revision>
  <dc:subject/>
  <dc:title>The treatment of alcohol dependent patients with a comorbid anxiety disorder</dc:title>
</cp:coreProperties>
</file>