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wmf" ContentType="image/x-wmf"/>
  <Override PartName="/ppt/media/image26.wmf" ContentType="image/x-wmf"/>
  <Override PartName="/ppt/media/image11.wmf" ContentType="image/x-wmf"/>
  <Override PartName="/ppt/media/image6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13.jpeg" ContentType="image/jpeg"/>
  <Override PartName="/ppt/media/image2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A9CF-3BE1-4407-A874-46F280D1031A}" type="slidenum">
              <a:rPr b="0" lang="pl-PL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odność występuje wtedy, gdy twoj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ł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mienie głosu i słowa przystaj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iebi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yli przekazują tę samą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adomoś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edy jesteś postrzega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o osoba szcze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ś obdarzony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ufani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czem do osiągnięcia tego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WDZIWIE KORZYSTNE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WIENIE (czyli trzeba być szczerym wobec tej osob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4E6-BA58-4337-A6F2-0EF134DCD17C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888-475E-432C-82A2-382B7B45FD90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ne poniżej zdania wypowied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złością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udzen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zaskoczeniem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eteryjni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st późno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ałem dość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ójrz na mni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zie się urodziłeś?”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uważ, jak język ciała, wyraz twarzy i szybkość odde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 łączą się ze sobą w różnych stanach emocjonal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ff"/>
                </a:solidFill>
                <a:latin typeface="Calibri"/>
                <a:ea typeface="Times New Roman"/>
              </a:rPr>
              <a:t>Bądź wyczulony na niezgodności brzmienia głosu i gestów u innych. Zwróć uwagę na to, w jaki sposób tę niezgodność odczuwasz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Poproś przyjaciela o wysłuchanie wypowiadanych przez ciebie kwestii. Pozwól mu/jej zgadnąć, które z czterech wymienionych uczuć wyraziłeś. Jeśli nie jest to dla niego/niej oczywiste, musisz tak długo trenować, aż nie będzie co do tego żadnych wątpliw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3D60-7669-49D6-9B97-89CAF319B294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6DE-6992-44AB-BC1A-2DBDF94DEFA7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E2F9-DE91-4FD1-9783-0431AA6F344C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85F-A183-4F42-84F4-3D8233EAA8AE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39C-4B6B-4CCA-B3FF-CBD897FBF2DD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1C67-BAD3-462B-A2DD-201BDCB1A41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A94B-5B3E-4E4C-B132-BBBDF17282A6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F15E-29CC-48E1-A9EB-6503CB251BEC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B37-7937-4763-95D6-E2B747C9051D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521-8AB7-4CB9-9A24-B87EE3DF8E3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C34-79BE-4A98-BD42-A2DC4DC10E35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B56-7F89-478F-8771-25CAD168E72C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Laimī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184-7B4F-4AEA-BE08-F85717DD34A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Cilvēks kurš “šaudās” ar acīm, vainu melo vai ir vienkārši nervozs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tiesībā nav likuma, kas katrai ķermeņa kustībai liktu sakrist ar kādu no emocijām, taču ir zināmas pazīmes, ko var saskatīt lielākajai cilvēku daļa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6CE-968D-4E05-827D-1101F4F6A1B9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veidojas  kombinācijā , ārējie  stimuli, subjektīvie pieredzes  stimuli, jebkāda uzvedība, rezultāts un mūsu iekšējā fizioloģiskā reakcija. Smaids, rokas pieskāriens, pārliecinoša balss, apskāviens -  visas šīs darbības var stimulēt emocijas. Klausoties vecās dziesmas var izraisīt emocijas, kas saistītas ar pagātni (piemēram, dejas ar vidusskolas mīļoto, vai turot savu jaundzimušo pirmo reizi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Emocijas ir ķīmiska un nervu reakcija smadzenē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Izmantojot sejas izteiksmes, ķermeņa valodu, balss tonis, netiešu un tiešu uzvedību, mēs sajūtam otra jūtas un neapzināti reaģējam ar mūsu pašu emocijām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am kā smiekli izplatās pa telpu un uzmundrina visus, kas tajā atroda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300" spc="-1" strike="noStrike">
                <a:solidFill>
                  <a:srgbClr val="000000"/>
                </a:solidFill>
                <a:latin typeface="Calibri"/>
              </a:rPr>
              <a:t>Ņemot vērā to, ka emocijām ir bioķīmisks raksturs, tās ietekmē fizisko, garīgo un psihosociālo veselīb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hhnmag.com/hhnmag_app/jsp/articledisplay.jsp?dcrpath=AHA/PubsNewsArticle/data/040518HHN_Online_Clark&amp;domain=HHNMA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793-9A25-49E7-8491-069AACBE9FCF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750-9992-4405-8526-7942332ADB5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Nosaukum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Ātri fakti un jēdzieni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9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Reaģējot un pacienta emocijā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ttp://www.mywhatever.com/cifwriter/library/eperc/fastfact/ff29.htm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utors(i)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Bruce Ambuel, PhD; David E. Weissman, MD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lausie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Nepārtrauc pacientu, kamēr viņš runā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acienti un ģimenes, kas saskārās ar </a:t>
            </a:r>
            <a:r>
              <a:rPr b="1" i="1" lang="lv-LV" sz="600" spc="-1" strike="noStrike">
                <a:solidFill>
                  <a:srgbClr val="000000"/>
                </a:solidFill>
                <a:latin typeface="Calibri"/>
              </a:rPr>
              <a:t>dzīves beigu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lēmumiem, vēlas iespēju izrunāt ar savu ārstu par to, ko viņi domā un jū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.."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cienti un ģimenes riskē, daloties ar savām emocij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stiprini un atbalsti pacient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ārfrāzē pacienta stāstu saviem vārdie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900" spc="-1" strike="noStrike">
                <a:solidFill>
                  <a:srgbClr val="000000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r>
              <a:rPr b="0" lang="lv-LV" sz="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...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žkārt pacients vienkārši grib parunā par savām jūtām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citreiz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darbība ir svarīgāk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Noskaidro ko pacients sagaida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ā es varu palīdzē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lv-LV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Kam, ja tā ir, būtu jāmainās, tev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Piedāvā tikšanās turpinājumus (atkārtotas vizītes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" spc="-1" strike="noStrike">
                <a:solidFill>
                  <a:srgbClr val="000000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pirms laika, labi?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838-CD38-474D-8D60-F4AF1882249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Tavas skumj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dusm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 nemi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ailes vai priek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bieži ir pirmais pierādījums, ka pacients vēlās izpaust svarīgu emocionālu ziņu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Izvairieties no ātras emociju izrādīšanas. Kā piemēram, ja jūs pamanāt, ka kļūstat dusmīgs, neatklājat to pacienta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mantojat savas dusmas kā mājienu, lai noskaidrotu vairāk par to, ko saka pac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57B8-F7C3-49CB-810B-67C60178B8C3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saka pacientam, ka tu klausies un tev viņš ir svarīg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ādā veidā dodot atļauju runāt par privātām, jūtīgām tēmām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ieklausīties savās domā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augstinot tādā veidā viņu pašapziņ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ļauj pacientam apstiprināt, izlabot, papildināt to, ko Jūs saprota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1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dom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nevaru izlemt vai iet uz slimnīcu priekš nāves slimniekiem vai turpināt ar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ev ir smaga izvēle starp </a:t>
            </a:r>
            <a:r>
              <a:rPr b="0" lang="lv-LV" sz="1100" spc="-1" strike="noStrike">
                <a:solidFill>
                  <a:srgbClr val="cc0066"/>
                </a:solidFill>
                <a:latin typeface="Arial"/>
              </a:rPr>
              <a:t>slimnīcu nāves slimniekiem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un ķīmijterapij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2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emocija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Piemēr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#3: </a:t>
            </a:r>
            <a:r>
              <a:rPr b="0" lang="lv-LV" sz="1100" spc="-1" strike="noStrike">
                <a:solidFill>
                  <a:srgbClr val="000000"/>
                </a:solidFill>
                <a:latin typeface="Calibri"/>
              </a:rPr>
              <a:t>Atspoguļot uzvedību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lv-LV" sz="11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..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DA9-CDC7-4870-840E-AC0F783F06C1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374-1E47-43A1-9D21-94EB78349210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</a:t>
            </a:r>
            <a:r>
              <a:rPr b="0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ētījumi liecina, ka 60 līdz 70 procenti no tā, ko cilvēks vēlas teikts, ir atvasināts no neverbālās uzvedība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"[3]NB, p. 57-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bert Mehrabian, UCLA, 1967, “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oding of Inconsistent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ard I. Nierenberg,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Read a Person Like a Book.</a:t>
            </a:r>
            <a:r>
              <a:rPr b="0" i="1" lang="lv-LV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otwartych rąk i nieskrzyżowanych ramion, delikatne poruszenia i pochylanie się ku drugiej osobie, mówiące ‘Jestem z tobą’, okazujące akceptację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zpięty płaszcz czy marynarka – eksponują serce (przepływ energii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wolne i rozważne gest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nie z rękami opartymi na biodrach i rozstawionymi stopami (entuzjazm i dobre chęc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sunięcie ku przodowi gdy siedzisz na krześle – zainteresow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krzyżowane ramiona lub nogi – jesteś otwarty na wszelkie sugesti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rzyżowane, mocno przyciśnięte do ciała ręce (w odróżnieniu od luźno złożonyc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bronne gesty – szybkie i nieuchwytne dla ok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kanie kontaktu wzrokowego i ustawienie ciała bok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iespokojne ruchy – mogą oznaczać zniecierpliwienie lub zdenerw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obne ges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gesty dłońmi; powyżej szyi: uśmiech, kontakt wzrokowy, uniesione brwi – zainteresowanie; przy przypadkowym spotkaniu – szybkie spojrzenie i opuszczenie oczu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fam ci. Nie obawiam się ciebie’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ydłużone spojrzenie wzmacnia pozytywny sygnał. 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kinienie głową pod konie naszej kwestii – oczekujemy odpowiedzi. mile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łysk rozpozn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marszczone brwi, unikanie kontaktu wzrokowego; twarz bez wyrazu (martwa ryb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r terminu iepazīstināja antropolo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dward T. Hall 1966.[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E93-353C-435E-9375-FCF65DA6DE88}" type="slidenum">
              <a:rPr b="0" lang="pl-PL" sz="1200" spc="-1" strike="noStrike">
                <a:solidFill>
                  <a:srgbClr val="c0504d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11B-B963-4184-AAFB-63B86D5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43B-8FD3-4990-9157-0FFC32D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6E8-3180-4AAA-A8F9-A7C8CC83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0FA-EB3D-40E9-8F2A-0C3C03FC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D0E-2CB4-4D9F-B1AD-277C764C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131-0E93-4B7E-B404-39A91850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F74-D45C-4861-B87D-A7927FA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D557-5CD4-49BB-8F2C-4EC86BC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C2D5-BE2B-4F01-8786-154B213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A84-992F-4CF3-B2DB-FCEDDD03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8895-43AC-4468-9F5D-69DDD00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730-BBE9-4A95-81E1-81071C64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48D1-31E6-48A6-AA32-FA2D551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3A9-9AF5-45A0-B390-0494B2E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640E-F73B-42A1-A351-228568A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58C-725C-4BBE-8C6F-82A8043C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A366-5B5B-4567-ADE3-53B3F5DC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E565-484D-4E39-8EFF-41B2B1A6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3DCC-A896-45AD-8381-B666807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8E7F-827C-48FB-A6A2-17FF896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BFE3-2F21-4707-90CD-9697C75C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C475-3D16-450E-8345-5B17D41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DF1-5B4E-41E3-AC47-C3AFDAE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959A-446F-48F4-9484-A026AFB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9D34-9EF7-4F0A-AE6E-C784ACD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F1F9-E94D-48E8-93B3-3794716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2734-93BD-433A-8AB2-A74730AA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899D-DB20-49D4-B7EB-15C42AB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92BC-8BC8-41CF-BC84-1BD45773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EEC0-1B22-4EA6-A740-9723C8DA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468F-413E-400A-BA56-B65C7372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9824-D1DD-43FE-A9DC-8F5A1C1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59E6-9482-4187-B3F9-7A291ECA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8EC-1B7D-4D4F-B919-22562B47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5174-2130-44C1-BC04-5DB2DA15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64FF-D2C9-4527-8548-6F66438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8C84-0D1C-45EC-943A-AB45E499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BB5C-580F-4C9A-B1F9-FA90B5B9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9D90-609F-49BE-8D80-0BBF81A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E358-F78D-4E5C-B0DF-079331B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CA65-E17F-4C1C-A8DC-2588016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E81E-F039-4412-AE82-053883D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81E50-161D-4014-8376-6B27C7E0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19F67-6FA9-499D-BB16-2827185F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DD5-C23D-4044-93F0-D614679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C899-43C4-47BC-BC57-F8B295C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6544-5FF8-4194-A851-6D234AEE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2CE8-53D3-48EF-8BA7-EE462DB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F9D9A-E63D-42EB-A69C-CEE54FA8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64AC-0CB8-413E-A16B-4495E01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A2B3D-9B10-441B-9EBB-30CE63C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5C08-AD06-4E51-AF79-703E622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4B3E0-8370-45AC-8D64-1ED43A3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2676-711C-4FF9-93EB-E6A7AACE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7239-63FD-464B-B997-1A9879DC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B9A-485C-408C-BA37-2E5FAC2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ABEA2-EA03-4722-A2B1-EBDEBCA7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98C81-B47F-43FE-A408-0365AA28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0B86-BF4F-48A1-B86B-4321C1C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6F64-23FD-435A-842C-AA2FC67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E0C3-E40C-4616-BE17-B0CB491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1603-BF32-48FC-AC0E-BA64DBE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12AE-0B47-4FF4-B50F-0D0B3A5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758E9-B06C-4A11-8622-62BCEEC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DBA9-87E8-4B68-935B-FC68348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D114-1CA6-4FE2-951C-47FAD77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6BA-93DB-4E7D-BB8A-A36E858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40B3-6F74-437D-8729-43F3A7D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50E7-0D74-4A45-B482-407CE239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DD56-EB47-461A-AAF1-8EFA9143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6CDB4-7C18-4B1E-9147-2C7550BB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F42B-9159-4FDB-BADA-3AD72C5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C4036-AEDD-481B-8727-4F68436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1628-498A-4C33-AB4F-BD40D3EE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6ADD4-C235-4C50-82DF-9193788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80E5-C50F-4FEA-98ED-87876A4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1CDA-820E-4A63-BC3A-D7256CB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7D5-0C1C-4335-B54D-D57D8FBE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03781-52B6-4AC6-8F1E-1934666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770E-FAEB-4A19-87A3-9DD73B0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002B-DC07-46F7-A1A0-4E79C174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DFA74-EA0F-4ED2-BEE5-36775B1F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A825-88DD-4B58-9D91-9264353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2088-D9E9-47BF-8026-782E05A4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4D45A-3C1D-45CC-8E84-F0E8564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9B97-54D1-426B-B285-62D2F58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720A-46CE-4A7D-BEE2-29BF925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FBF7-EB13-420F-8C52-A7CC461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A1A-5F6C-426A-B063-3573A28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CFBE-F545-4CF9-83B0-1E63955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4A0C-31E7-4A53-AA9B-EE1333B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C73A-4562-4621-8786-EE18F32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D8D3-B6B4-4FCF-8FAA-5CBA0E87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4C53-6B8A-4885-A7E0-BE4309CC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0D729-9A7A-47EC-8E45-E0EB6FD4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AFB01-1122-4F08-9EFB-C11AA362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85A-2A85-41A4-9266-75E329E0F23D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6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7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5" name="Prostokąt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" name="Prostokąt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" name="Prostokąt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211-9206-4E9B-89C2-5A5CEF362738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0" name="Prostokąt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6ED-15DF-4593-9D79-5329BDD65A49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Łącznik prosty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3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4" name="Trójkąt równoramienny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5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6DBD-599A-4AC2-8FC0-C82A62913897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Łącznik prosty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8" name="Trójkąt równoramienny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F62F-3A67-4B05-9E7B-13DCB76C1AFC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1" name="Łącznik prosty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2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FDE3-CDE6-4FB7-8E2F-950E216132B3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Łącznik prosty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5" name="Trójkąt równoramienny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6" name="Prostokąt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FF2-9CEE-4506-BBC1-10A1422DD5AC}" type="slidenum">
              <a:rPr b="0" lang="pl-P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Łącznik prosty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09" name="Trójkąt równoramienny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0" name="Łącznik prosty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408-C25C-4C22-B8C4-39E4BFA6F695}" type="slidenum">
              <a:rPr b="0" lang="pl-P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BD05584_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304920" y="228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N</a:t>
            </a:r>
            <a:r>
              <a:rPr b="1" i="1" lang="en-US" sz="6600" spc="-1" strike="noStrike">
                <a:solidFill>
                  <a:srgbClr val="000000"/>
                </a:solidFill>
                <a:latin typeface="Stencil"/>
              </a:rPr>
              <a:t>E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VERB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L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OMUN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KĀC</a:t>
            </a:r>
            <a:r>
              <a:rPr b="1" i="1" lang="pl-PL" sz="6600" spc="-1" strike="noStrike">
                <a:solidFill>
                  <a:srgbClr val="000000"/>
                </a:solidFill>
                <a:latin typeface="Stencil"/>
              </a:rPr>
              <a:t>I</a:t>
            </a:r>
            <a:r>
              <a:rPr b="1" i="1" lang="lv-LV" sz="6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66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61" name="RAMPART.MP3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027"/>
          <p:cNvSpPr/>
          <p:nvPr/>
        </p:nvSpPr>
        <p:spPr>
          <a:xfrm>
            <a:off x="380880" y="2133720"/>
            <a:ext cx="8458200" cy="45727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3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Soc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l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1,2m – 3,6m)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paziņām vai cilvēkiem, kurus mēs pavisam nepazīsta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 kā piemēram santehniķis, pastnieks,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„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jauniņai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”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darbā vai skolā, utt.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7" name="Text Box 1028"/>
          <p:cNvSpPr/>
          <p:nvPr/>
        </p:nvSpPr>
        <p:spPr>
          <a:xfrm>
            <a:off x="1828800" y="380880"/>
            <a:ext cx="7010280" cy="173988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8" name="Object 1024" descr=""/>
          <p:cNvPicPr/>
          <p:nvPr/>
        </p:nvPicPr>
        <p:blipFill>
          <a:blip r:embed="rId1"/>
          <a:stretch/>
        </p:blipFill>
        <p:spPr>
          <a:xfrm>
            <a:off x="6956280" y="4419720"/>
            <a:ext cx="218772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1025"/>
          <p:cNvGraphicFramePr/>
          <p:nvPr/>
        </p:nvGraphicFramePr>
        <p:xfrm>
          <a:off x="0" y="228600"/>
          <a:ext cx="175248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17524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Object 1024" descr=""/>
          <p:cNvPicPr/>
          <p:nvPr/>
        </p:nvPicPr>
        <p:blipFill>
          <a:blip r:embed="rId1"/>
          <a:stretch/>
        </p:blipFill>
        <p:spPr>
          <a:xfrm>
            <a:off x="0" y="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28"/>
          <p:cNvSpPr/>
          <p:nvPr/>
        </p:nvSpPr>
        <p:spPr>
          <a:xfrm>
            <a:off x="1676520" y="380880"/>
            <a:ext cx="71625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13" name="Text Box 1029"/>
          <p:cNvSpPr/>
          <p:nvPr/>
        </p:nvSpPr>
        <p:spPr>
          <a:xfrm>
            <a:off x="304920" y="2209680"/>
            <a:ext cx="8534160" cy="46645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ubli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sk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virs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3,6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izmanto publiskām runām vai publiskiem pasākum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14" name="Object 1025"/>
          <p:cNvGraphicFramePr/>
          <p:nvPr/>
        </p:nvGraphicFramePr>
        <p:xfrm>
          <a:off x="7238880" y="4114800"/>
          <a:ext cx="155592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14800"/>
                    <a:ext cx="15559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027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85800" y="2133720"/>
            <a:ext cx="3324240" cy="36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1024"/>
          <p:cNvGraphicFramePr/>
          <p:nvPr/>
        </p:nvGraphicFramePr>
        <p:xfrm>
          <a:off x="7010280" y="990720"/>
          <a:ext cx="182880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8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990720"/>
                    <a:ext cx="1828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1030"/>
          <p:cNvSpPr/>
          <p:nvPr/>
        </p:nvSpPr>
        <p:spPr>
          <a:xfrm>
            <a:off x="1857240" y="914400"/>
            <a:ext cx="538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L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e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c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m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ani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mierā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lēgta attieksme, gatavs pretstāvēt agresijai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0" name="Text Box 1032"/>
          <p:cNvSpPr/>
          <p:nvPr/>
        </p:nvSpPr>
        <p:spPr>
          <a:xfrm>
            <a:off x="4114800" y="4648320"/>
            <a:ext cx="4778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9fb8cd"/>
                </a:solidFill>
                <a:latin typeface="Arial"/>
              </a:rPr>
              <a:t>Un kurš šeit ir pats svarīgākais</a:t>
            </a:r>
            <a:r>
              <a:rPr b="1" lang="pl-PL" sz="3600" spc="-1" strike="noStrike">
                <a:solidFill>
                  <a:srgbClr val="9fb8cd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(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atvērts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 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sirsnīga attieksme</a:t>
            </a:r>
            <a:r>
              <a:rPr b="1" lang="pl-PL" sz="3200" spc="-1" strike="noStrike">
                <a:solidFill>
                  <a:srgbClr val="9fb8cd"/>
                </a:solidFill>
                <a:latin typeface="Arial"/>
              </a:rPr>
              <a:t>,</a:t>
            </a:r>
            <a:r>
              <a:rPr b="1" lang="lv-LV" sz="3200" spc="-1" strike="noStrike">
                <a:solidFill>
                  <a:srgbClr val="9fb8cd"/>
                </a:solidFill>
                <a:latin typeface="Arial"/>
              </a:rPr>
              <a:t> tomēr gatavs dominēt pār citiem)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1" name="Text Box 1033"/>
          <p:cNvSpPr/>
          <p:nvPr/>
        </p:nvSpPr>
        <p:spPr>
          <a:xfrm>
            <a:off x="228600" y="228600"/>
            <a:ext cx="58561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inest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lv-LV" sz="5400" spc="-1" strike="noStrike">
                <a:solidFill>
                  <a:srgbClr val="0000cc"/>
                </a:solidFill>
                <a:latin typeface="Arial"/>
              </a:rPr>
              <a:t>attieksme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i="1" lang="pl-PL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2" name="AutoShape 1035"/>
          <p:cNvSpPr/>
          <p:nvPr/>
        </p:nvSpPr>
        <p:spPr>
          <a:xfrm>
            <a:off x="228600" y="5715000"/>
            <a:ext cx="1295280" cy="914400"/>
          </a:xfrm>
          <a:prstGeom prst="leftArrow">
            <a:avLst>
              <a:gd name="adj1" fmla="val 50000"/>
              <a:gd name="adj2" fmla="val 3541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4" action="ppaction://hlinksldjump"/>
              </a:rPr>
              <a:t>wstecz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23" name="AutoShape 1036"/>
          <p:cNvSpPr/>
          <p:nvPr/>
        </p:nvSpPr>
        <p:spPr>
          <a:xfrm>
            <a:off x="1752480" y="571500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b292ca"/>
                </a:solidFill>
                <a:uFillTx/>
                <a:latin typeface="Stencil"/>
                <a:hlinkClick r:id="rId5" action="ppaction://hlinksldjump"/>
              </a:rPr>
              <a:t>Dalej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0" y="304920"/>
            <a:ext cx="535788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žesti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 )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25" name="Picture 6" descr="BD05928_"/>
          <p:cNvPicPr/>
          <p:nvPr/>
        </p:nvPicPr>
        <p:blipFill>
          <a:blip r:embed="rId1"/>
          <a:stretch/>
        </p:blipFill>
        <p:spPr>
          <a:xfrm>
            <a:off x="3809880" y="4267080"/>
            <a:ext cx="164808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1024"/>
          <p:cNvGraphicFramePr/>
          <p:nvPr/>
        </p:nvGraphicFramePr>
        <p:xfrm>
          <a:off x="228600" y="1676520"/>
          <a:ext cx="1722600" cy="18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17226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025"/>
          <p:cNvGraphicFramePr/>
          <p:nvPr/>
        </p:nvGraphicFramePr>
        <p:xfrm>
          <a:off x="7467480" y="4343400"/>
          <a:ext cx="13716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9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343400"/>
                    <a:ext cx="1371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026"/>
          <p:cNvGraphicFramePr/>
          <p:nvPr/>
        </p:nvGraphicFramePr>
        <p:xfrm>
          <a:off x="7162920" y="1676520"/>
          <a:ext cx="1751040" cy="182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1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1676520"/>
                    <a:ext cx="175104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1027"/>
          <p:cNvGraphicFramePr/>
          <p:nvPr/>
        </p:nvGraphicFramePr>
        <p:xfrm>
          <a:off x="5334120" y="228600"/>
          <a:ext cx="1981080" cy="12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3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2860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šie žesti nozīmē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Man nav ko slēp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?                                               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Uzvaras priek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456720" y="628668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Taisnība ir ma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                   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s nav iespējams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5270040" y="14479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ajā virzienā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304920"/>
            <a:ext cx="817236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ar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seju saistītie</a:t>
            </a:r>
            <a:r>
              <a:rPr b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lv-LV" sz="4800" spc="-1" strike="noStrike">
                <a:solidFill>
                  <a:srgbClr val="0000cc"/>
                </a:solidFill>
                <a:latin typeface="Arial"/>
              </a:rPr>
              <a:t>žest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39" name="Object 1024"/>
          <p:cNvGraphicFramePr/>
          <p:nvPr/>
        </p:nvGraphicFramePr>
        <p:xfrm>
          <a:off x="2895480" y="3962520"/>
          <a:ext cx="1587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962520"/>
                    <a:ext cx="1587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025"/>
          <p:cNvGraphicFramePr/>
          <p:nvPr/>
        </p:nvGraphicFramePr>
        <p:xfrm>
          <a:off x="6994440" y="3962520"/>
          <a:ext cx="17035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4440" y="3962520"/>
                    <a:ext cx="17035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Picture 8" descr="BD06094_"/>
          <p:cNvPicPr/>
          <p:nvPr/>
        </p:nvPicPr>
        <p:blipFill>
          <a:blip r:embed="rId5"/>
          <a:stretch/>
        </p:blipFill>
        <p:spPr>
          <a:xfrm>
            <a:off x="7238880" y="0"/>
            <a:ext cx="1489320" cy="167652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0"/>
          <p:cNvSpPr/>
          <p:nvPr/>
        </p:nvSpPr>
        <p:spPr>
          <a:xfrm>
            <a:off x="2895480" y="60958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īrieti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avē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rīdi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ņemot lēmumu vai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Sieviet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ntereses zudum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izvērtējo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52280" y="3048120"/>
            <a:ext cx="29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pēlējoties ar priekšmetiem tiek bloķēta sapratne.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iesedzot mutes signālus, kas liecina par piesardzību vai meliem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46" name="Picture 14" descr="BD06811_"/>
          <p:cNvPicPr/>
          <p:nvPr/>
        </p:nvPicPr>
        <p:blipFill>
          <a:blip r:embed="rId6"/>
          <a:stretch/>
        </p:blipFill>
        <p:spPr>
          <a:xfrm>
            <a:off x="457200" y="1143000"/>
            <a:ext cx="1343160" cy="1801800"/>
          </a:xfrm>
          <a:prstGeom prst="rect">
            <a:avLst/>
          </a:prstGeom>
          <a:ln w="0">
            <a:noFill/>
          </a:ln>
        </p:spPr>
      </p:pic>
      <p:sp>
        <p:nvSpPr>
          <p:cNvPr id="447" name="Oval 15"/>
          <p:cNvSpPr/>
          <p:nvPr/>
        </p:nvSpPr>
        <p:spPr>
          <a:xfrm>
            <a:off x="2857680" y="1285920"/>
            <a:ext cx="464796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Vai tu piekrīti 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šādam žestu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skaidrojumam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BD07798_"/>
          <p:cNvPicPr/>
          <p:nvPr/>
        </p:nvPicPr>
        <p:blipFill>
          <a:blip r:embed="rId1"/>
          <a:stretch/>
        </p:blipFill>
        <p:spPr>
          <a:xfrm>
            <a:off x="6754680" y="4191120"/>
            <a:ext cx="196560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179280" y="457200"/>
            <a:ext cx="540072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Kinest</a:t>
            </a:r>
            <a:r>
              <a:rPr b="1" lang="lv-LV" sz="5400" spc="-1" strike="noStrike">
                <a:solidFill>
                  <a:srgbClr val="0000cc"/>
                </a:solidFill>
                <a:latin typeface="Arial"/>
              </a:rPr>
              <a:t>ētika</a:t>
            </a:r>
            <a:r>
              <a:rPr b="1" lang="pl-PL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pl-PL" sz="5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lv-LV" sz="5400" spc="-1" strike="noStrike">
                <a:solidFill>
                  <a:srgbClr val="0000cc"/>
                </a:solidFill>
                <a:latin typeface="Arial"/>
              </a:rPr>
              <a:t>plaukstas</a:t>
            </a:r>
            <a:r>
              <a:rPr b="0" i="1" lang="pl-PL" sz="5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i="1" lang="pl-PL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graphicFrame>
        <p:nvGraphicFramePr>
          <p:cNvPr id="450" name="Object 1024"/>
          <p:cNvGraphicFramePr/>
          <p:nvPr/>
        </p:nvGraphicFramePr>
        <p:xfrm>
          <a:off x="3886200" y="4952880"/>
          <a:ext cx="221148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952880"/>
                    <a:ext cx="22114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Picture 5" descr="BD06941_"/>
          <p:cNvPicPr/>
          <p:nvPr/>
        </p:nvPicPr>
        <p:blipFill>
          <a:blip r:embed="rId4"/>
          <a:stretch/>
        </p:blipFill>
        <p:spPr>
          <a:xfrm>
            <a:off x="5257800" y="0"/>
            <a:ext cx="1719360" cy="1808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BD06942_"/>
          <p:cNvPicPr/>
          <p:nvPr/>
        </p:nvPicPr>
        <p:blipFill>
          <a:blip r:embed="rId5"/>
          <a:stretch/>
        </p:blipFill>
        <p:spPr>
          <a:xfrm>
            <a:off x="7086600" y="533520"/>
            <a:ext cx="1719360" cy="18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4" name="Object 1025"/>
          <p:cNvGraphicFramePr/>
          <p:nvPr/>
        </p:nvGraphicFramePr>
        <p:xfrm>
          <a:off x="533520" y="2514600"/>
          <a:ext cx="181116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5" name="Object 10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514600"/>
                    <a:ext cx="1811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Oval 15"/>
          <p:cNvSpPr/>
          <p:nvPr/>
        </p:nvSpPr>
        <p:spPr>
          <a:xfrm>
            <a:off x="2438280" y="1828800"/>
            <a:ext cx="4648320" cy="2362320"/>
          </a:xfrm>
          <a:prstGeom prst="ellipse">
            <a:avLst/>
          </a:prstGeom>
          <a:solidFill>
            <a:srgbClr val="6b5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Ko nozīmē šie žesti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Lūdzu izskaidrojiet tos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6357960" y="285840"/>
            <a:ext cx="235728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1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1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878280" cy="4343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460" name="pole tekstowe 8"/>
          <p:cNvSpPr/>
          <p:nvPr/>
        </p:nvSpPr>
        <p:spPr>
          <a:xfrm>
            <a:off x="2214720" y="4714920"/>
            <a:ext cx="2000160" cy="8251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PRIEK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1" name="pole tekstowe 9"/>
          <p:cNvSpPr/>
          <p:nvPr/>
        </p:nvSpPr>
        <p:spPr>
          <a:xfrm>
            <a:off x="6215040" y="5286240"/>
            <a:ext cx="2214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SKUMJ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657600" y="304920"/>
            <a:ext cx="52005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6800" cy="4305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3335040" cy="4343400"/>
          </a:xfrm>
          <a:prstGeom prst="rect">
            <a:avLst/>
          </a:prstGeom>
          <a:ln w="0">
            <a:noFill/>
          </a:ln>
        </p:spPr>
      </p:pic>
      <p:sp>
        <p:nvSpPr>
          <p:cNvPr id="465" name="pole tekstowe 8"/>
          <p:cNvSpPr/>
          <p:nvPr/>
        </p:nvSpPr>
        <p:spPr>
          <a:xfrm>
            <a:off x="2500200" y="4714920"/>
            <a:ext cx="1785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4800" spc="-1" strike="noStrike">
                <a:solidFill>
                  <a:srgbClr val="000000"/>
                </a:solidFill>
                <a:latin typeface="Stencil"/>
              </a:rPr>
              <a:t>A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LE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66" name="pole tekstowe 9"/>
          <p:cNvSpPr/>
          <p:nvPr/>
        </p:nvSpPr>
        <p:spPr>
          <a:xfrm>
            <a:off x="6072120" y="5214960"/>
            <a:ext cx="2428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RIEBUM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6637320" y="357120"/>
            <a:ext cx="167292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Ī</a:t>
            </a:r>
            <a:r>
              <a:rPr b="0" lang="pl-PL" sz="5400" spc="-1" strike="noStrike">
                <a:solidFill>
                  <a:srgbClr val="9fb8cd"/>
                </a:solidFill>
                <a:latin typeface="Arial Black"/>
              </a:rPr>
              <a:t>MI</a:t>
            </a:r>
            <a:r>
              <a:rPr b="0" lang="lv-LV" sz="5400" spc="-1" strike="noStrike">
                <a:solidFill>
                  <a:srgbClr val="9fb8cd"/>
                </a:solidFill>
                <a:latin typeface="Arial Black"/>
              </a:rPr>
              <a:t>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875040" cy="4419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30600" cy="4419720"/>
          </a:xfrm>
          <a:prstGeom prst="rect">
            <a:avLst/>
          </a:prstGeom>
          <a:ln w="0">
            <a:noFill/>
          </a:ln>
        </p:spPr>
      </p:pic>
      <p:sp>
        <p:nvSpPr>
          <p:cNvPr id="470" name="pole tekstowe 4"/>
          <p:cNvSpPr/>
          <p:nvPr/>
        </p:nvSpPr>
        <p:spPr>
          <a:xfrm>
            <a:off x="1071720" y="5000760"/>
            <a:ext cx="3357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IZBRĪN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71" name="pole tekstowe 5"/>
          <p:cNvSpPr/>
          <p:nvPr/>
        </p:nvSpPr>
        <p:spPr>
          <a:xfrm>
            <a:off x="6084720" y="5357880"/>
            <a:ext cx="2487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DUSMAS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</a:rPr>
              <a:t>SASKAŅ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2193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t saskaņu var gadījumā, kad jūsu ķermenis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lss tonis un vārdi ir vienā ritmā, tas ir, vēsta vienu un to pašu informācij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d jūs uztvers kā patiesu un uzticamu cilvēku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ākumu atslēga ir  PATIESA POZITĪVA ATTIEKSM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 cilvēku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026"/>
          <p:cNvSpPr/>
          <p:nvPr/>
        </p:nvSpPr>
        <p:spPr>
          <a:xfrm>
            <a:off x="1371600" y="304920"/>
            <a:ext cx="6629400" cy="119124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1" lang="pl-PL" sz="7200" spc="-1" strike="noStrike">
                <a:solidFill>
                  <a:srgbClr val="000000"/>
                </a:solidFill>
                <a:latin typeface="Arial Black"/>
              </a:rPr>
              <a:t>OMUNI</a:t>
            </a:r>
            <a:r>
              <a:rPr b="1" lang="lv-LV" sz="7200" spc="-1" strike="noStrike">
                <a:solidFill>
                  <a:srgbClr val="000000"/>
                </a:solidFill>
                <a:latin typeface="Arial Black"/>
              </a:rPr>
              <a:t>KĀCIJA</a:t>
            </a:r>
            <a:endParaRPr b="0" lang="en-US" sz="7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3" name="Text Box 1027"/>
          <p:cNvSpPr/>
          <p:nvPr/>
        </p:nvSpPr>
        <p:spPr>
          <a:xfrm>
            <a:off x="228600" y="2209680"/>
            <a:ext cx="967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0066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9fb8cd"/>
                </a:solidFill>
                <a:latin typeface="Arial"/>
              </a:rPr>
              <a:t>  </a:t>
            </a:r>
            <a:r>
              <a:rPr b="0" lang="lv-LV" sz="4000" spc="-1" strike="noStrike">
                <a:solidFill>
                  <a:srgbClr val="9fb8cd"/>
                </a:solidFill>
                <a:latin typeface="Arial"/>
              </a:rPr>
              <a:t>      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VERB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lv-LV" sz="4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pl-PL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R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AKS</a:t>
            </a:r>
            <a:r>
              <a:rPr b="0" lang="pl-PL" sz="4000" spc="-1" strike="noStrike">
                <a:solidFill>
                  <a:srgbClr val="cc00cc"/>
                </a:solidFill>
                <a:latin typeface="Arial"/>
              </a:rPr>
              <a:t>T</a:t>
            </a:r>
            <a:r>
              <a:rPr b="0" lang="lv-LV" sz="4000" spc="-1" strike="noStrike">
                <a:solidFill>
                  <a:srgbClr val="cc00cc"/>
                </a:solidFill>
                <a:latin typeface="Arial"/>
              </a:rPr>
              <a:t>ISKĀ</a:t>
            </a:r>
            <a:r>
              <a:rPr b="0" lang="pl-PL" sz="4000" spc="-1" strike="noStrike">
                <a:solidFill>
                  <a:srgbClr val="ff3300"/>
                </a:solidFill>
                <a:latin typeface="Stencil"/>
              </a:rPr>
              <a:t>	</a:t>
            </a:r>
            <a:r>
              <a:rPr b="0" lang="lv-LV" sz="4000" spc="-1" strike="noStrike">
                <a:solidFill>
                  <a:srgbClr val="ff3300"/>
                </a:solidFill>
                <a:latin typeface="Stencil"/>
              </a:rPr>
              <a:t>             </a:t>
            </a:r>
            <a:r>
              <a:rPr b="0" lang="lv-LV" sz="4000" spc="-1" strike="noStrike">
                <a:solidFill>
                  <a:srgbClr val="996600"/>
                </a:solidFill>
                <a:latin typeface="Arial"/>
              </a:rPr>
              <a:t>CITA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3300"/>
                </a:solidFill>
                <a:latin typeface="Stencil"/>
              </a:rPr>
              <a:t> 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(</a:t>
            </a:r>
            <a:r>
              <a:rPr b="0" lang="lv-LV" sz="4000" spc="-1" strike="noStrike">
                <a:solidFill>
                  <a:srgbClr val="006600"/>
                </a:solidFill>
                <a:latin typeface="Arial Black"/>
              </a:rPr>
              <a:t>runa</a:t>
            </a:r>
            <a:r>
              <a:rPr b="0" lang="pl-PL" sz="4000" spc="-1" strike="noStrike">
                <a:solidFill>
                  <a:srgbClr val="006600"/>
                </a:solidFill>
                <a:latin typeface="Arial Black"/>
              </a:rPr>
              <a:t>)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(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žesti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mīmika</a:t>
            </a: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, </a:t>
            </a:r>
            <a:r>
              <a:rPr b="0" lang="lv-LV" sz="4000" spc="-1" strike="noStrike">
                <a:solidFill>
                  <a:srgbClr val="ff3300"/>
                </a:solidFill>
                <a:latin typeface="Arial Black"/>
              </a:rPr>
              <a:t>kustības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	</a:t>
            </a:r>
            <a:r>
              <a:rPr b="0" lang="pl-PL" sz="4000" spc="-1" strike="noStrike">
                <a:solidFill>
                  <a:srgbClr val="9fb8cd"/>
                </a:solidFill>
                <a:latin typeface="Arial Black"/>
              </a:rPr>
              <a:t> 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(gra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fik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un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lv-LV" sz="4000" spc="-1" strike="noStrike">
                <a:solidFill>
                  <a:srgbClr val="996600"/>
                </a:solidFill>
                <a:latin typeface="Arial Black"/>
              </a:rPr>
              <a:t>skaņas simboli</a:t>
            </a:r>
            <a:r>
              <a:rPr b="0" lang="pl-PL" sz="4000" spc="-1" strike="noStrike">
                <a:solidFill>
                  <a:srgbClr val="9966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4" name="Line 1028"/>
          <p:cNvSpPr/>
          <p:nvPr/>
        </p:nvSpPr>
        <p:spPr>
          <a:xfrm>
            <a:off x="914400" y="26668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8077320" y="281952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6" name="Line 1036"/>
          <p:cNvSpPr/>
          <p:nvPr/>
        </p:nvSpPr>
        <p:spPr>
          <a:xfrm flipH="1">
            <a:off x="3809880" y="137160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7" name="Line 1037"/>
          <p:cNvSpPr/>
          <p:nvPr/>
        </p:nvSpPr>
        <p:spPr>
          <a:xfrm>
            <a:off x="5486400" y="1371600"/>
            <a:ext cx="9907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8" name="Line 1038"/>
          <p:cNvSpPr/>
          <p:nvPr/>
        </p:nvSpPr>
        <p:spPr>
          <a:xfrm>
            <a:off x="6629400" y="1371600"/>
            <a:ext cx="14479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69" name="Line 1044"/>
          <p:cNvSpPr/>
          <p:nvPr/>
        </p:nvSpPr>
        <p:spPr>
          <a:xfrm flipH="1">
            <a:off x="1142640" y="1295280"/>
            <a:ext cx="1600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0" name="Line 1045"/>
          <p:cNvSpPr/>
          <p:nvPr/>
        </p:nvSpPr>
        <p:spPr>
          <a:xfrm>
            <a:off x="4038480" y="2743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4000" spc="-1" strike="noStrike">
                <a:solidFill>
                  <a:srgbClr val="46465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34136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Pasaki doto vārdu būdam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mīg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garlaikoj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rīnīji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rtēj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r vēl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Man pietie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“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Paskaties uz man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tu esi dzim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3040" indent="-743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464653"/>
                </a:solidFill>
                <a:latin typeface="Times New Roman"/>
              </a:rPr>
              <a:t>DARBĪBA</a:t>
            </a:r>
            <a:r>
              <a:rPr b="1" lang="pl-PL" sz="3600" spc="-1" strike="noStrike">
                <a:solidFill>
                  <a:srgbClr val="464653"/>
                </a:solidFill>
                <a:latin typeface="Times New Roman"/>
              </a:rPr>
              <a:t> (cd.)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876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citam cilvēkam noklausīties apgalvojumus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auj viņam/viņai uzminēt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 no četrām emocijām tu izmantoj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v-LV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viņam/viņai nav skaidrs, mēģini vēl un vēl, līdz viņam/viņai nebūs nekādu šaubu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lai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laim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udz smaid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ēs pat varētu pamanīt nelielu lēcienu, kad viņš staig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atbrīvo sejas muskuļus un veic peldošas kustīb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ungo vai dzied pie sev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tvērtā ķermeņa poza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emier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emier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 un ar sausām lūp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āk svī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ļoti nervozs un strauji kustina ac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krata kāju vai sit ar pēdu pa zem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dara straujas kustības, būdams kādu laiku mierīg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tostā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dusmīg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24000" y="19159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dusmīg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it dūri pret galdu un skaļi run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žmiedz roku dūrē un, runājot ar cilvēku, liecas uz viņa pus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ož zobus un šņāc/rūc runāj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jis muskuļ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skumis/-usi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skumi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ūs trīcošas lūp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spēs paskatīties tieši tev acīs un dažreiz ir saredzamas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i="1" lang="lv-LV" sz="2600" spc="-1" strike="noStrike">
                <a:solidFill>
                  <a:srgbClr val="000000"/>
                </a:solidFill>
                <a:latin typeface="Arial"/>
              </a:rPr>
              <a:t>nošļuci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ķerme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ir zems, vārgs balss ton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rīs lūpas (trīsas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runā bez intonācija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asar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 flipV="1">
            <a:off x="228600" y="307800"/>
            <a:ext cx="49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vēka</a:t>
            </a: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ķermeņa valoda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ec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isuzticamākā un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univers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ālākā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valoda pasaulē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" y="3886200"/>
            <a:ext cx="441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ā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saprašanās pamatā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jūtas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attieksme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gaidas</a:t>
            </a:r>
            <a:endParaRPr b="0" lang="en-US" sz="40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6370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325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825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izbrīnīts/-a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izbrīnīt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ver mut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ādējādi rādot emoc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‘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atkārās žokl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ēkšņi atkāp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laši atver acis vai pieliek roku priekšā mute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paceltas uzaci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viņam ir bai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ņš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aki, kāda rīcība liecina par to, ka viņš/-a, iespējams, ir nobijies/-usies</a:t>
            </a:r>
            <a:r>
              <a:rPr b="1" i="1" lang="pl-PL" sz="2600" spc="-1" strike="noStrike">
                <a:solidFill>
                  <a:srgbClr val="000000"/>
                </a:solidFill>
                <a:latin typeface="Gill Sans MT"/>
              </a:rPr>
              <a:t> …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57120" y="1928520"/>
            <a:ext cx="8501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Ja cilvēks ir nobijies, baidās, viņš (viņam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bāl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vīst, ir sausa mu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inīgs balss ton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sasprindzināti muskuļ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elpošanas spazmas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Kā atpazīt emocijas, vērojot ķermeņa valodu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žas pazīmes var sakris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Cilvēks kurš “šaudās” ar acīm, vainu melo vai ir vienkārši nervozs</a:t>
            </a: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;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 pilnvērtīgi saprastu, ko cilvēks jū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jāņem vērā sarunas konteksts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aļa no ķermeņa lasīšanas spējas ir pieredze, daļa ir izjūt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rostokąt 3"/>
          <p:cNvSpPr/>
          <p:nvPr/>
        </p:nvSpPr>
        <p:spPr>
          <a:xfrm>
            <a:off x="2714760" y="628668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tencil"/>
              </a:rPr>
              <a:t>http://www.20daypersuasion.com/read-emotions.htm</a:t>
            </a:r>
            <a:endParaRPr b="0" lang="en-US" sz="20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64653"/>
                </a:solidFill>
                <a:latin typeface="Arial"/>
              </a:rPr>
              <a:t>Kāpēc pacientu emocijas ir svarīgas?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Emocijas ir ķīmiska un nervu reakcija smadzenē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Izmantojot sejas izteiksmes, ķermeņa valodu, balss toni, netiešu un tiešu uzvedību, mēs sajūtam otra jūtas un neapzināti reaģējam ar mūsu pašu emocijā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piemēram kā smiekli izplatās pa telpu un uzmundrina visus, kas tajā atrodas</a:t>
            </a:r>
            <a:r>
              <a:rPr b="0" lang="lv-LV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pēc pacientu emocijas ir svarīga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d mūsu saspringtās emocijas nespēj atrast pret ko izpausties, laimes sajūta samazinās, izmisums pastiprinās, depresija pastiprinās, dusmas aug un iekšējās emocionālās vajadzības ir nepiepildī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Ņemot vērā to, ka emocijām ir bioķīmisks raksturs, tās ietekmē fizisko, garīgo un psihosociālo veselīb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http://www.hhnmag.com/hhnmag_app/jsp/articledisplay.jsp 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eating the Patient's Emotions</a:t>
            </a: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” 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 Paul Alexander Cla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pacientā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lausie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Nepārtrauc pacientu, kamēr viņš runā</a:t>
            </a:r>
            <a:r>
              <a:rPr b="0" lang="en-US" sz="2300" spc="-1" strike="noStrike">
                <a:solidFill>
                  <a:srgbClr val="464653"/>
                </a:solidFill>
                <a:latin typeface="Arial"/>
                <a:ea typeface="Arial"/>
              </a:rPr>
              <a:t>.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Pacienti un ģimenes, kas saskaras ar </a:t>
            </a:r>
            <a:r>
              <a:rPr b="1" i="1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dzīves beigu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  <a:ea typeface="Arial"/>
              </a:rPr>
              <a:t> lēmumiem, vēlas iespēju izrunāt ar savu ārstu par to, ko viņi domā un jū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23" name="Prostokąt 3"/>
          <p:cNvSpPr/>
          <p:nvPr/>
        </p:nvSpPr>
        <p:spPr>
          <a:xfrm>
            <a:off x="285840" y="571500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Title: Fast Fact and Concept #29: Responding to patient emotions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fb8cd"/>
                </a:solidFill>
                <a:latin typeface="Stencil"/>
              </a:rPr>
              <a:t>Author(s): Bruce Ambuel, PhD; David E. Weissman, MD</a:t>
            </a:r>
            <a:endParaRPr b="0" lang="en-US" sz="1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eklausies sevī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Ņem vērā pats savas emocija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avas skumj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dusma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nemier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ailes vai priek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bieži ir pirmais pierādījums, ka pacients vēlas izpaust svarīgu emocionālu 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i="1" lang="lv-LV" sz="2400" spc="-1" strike="noStrike">
                <a:solidFill>
                  <a:srgbClr val="464653"/>
                </a:solidFill>
                <a:latin typeface="Arial"/>
              </a:rPr>
              <a:t>Izvairieties no ātras emociju izrādīšanas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tspoguļo domas, jūtas un uzvedīb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tspoguļojum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saka pacientam, ka tu klausies un tev viņš ir svarīg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tādā veidā dodot atļauju runāt par privātām, jūtīgām tēm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ieklausīties savās domā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augstinot tādā veidā viņa pašapziņ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ļauj pacientam apstiprināt, izlabot, papildināt to, ko Jūs saprotat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ĶERMEŅA VALO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75" name="Group 22"/>
          <p:cNvGrpSpPr/>
          <p:nvPr/>
        </p:nvGrpSpPr>
        <p:grpSpPr>
          <a:xfrm>
            <a:off x="838080" y="2057400"/>
            <a:ext cx="3276360" cy="3428640"/>
            <a:chOff x="838080" y="2057400"/>
            <a:chExt cx="3276360" cy="3428640"/>
          </a:xfrm>
        </p:grpSpPr>
        <p:grpSp>
          <p:nvGrpSpPr>
            <p:cNvPr id="376" name="Group 18"/>
            <p:cNvGrpSpPr/>
            <p:nvPr/>
          </p:nvGrpSpPr>
          <p:grpSpPr>
            <a:xfrm>
              <a:off x="838080" y="2057400"/>
              <a:ext cx="3276360" cy="3428640"/>
              <a:chOff x="838080" y="2057400"/>
              <a:chExt cx="3276360" cy="3428640"/>
            </a:xfrm>
          </p:grpSpPr>
          <p:sp>
            <p:nvSpPr>
              <p:cNvPr id="377" name="Oval 14"/>
              <p:cNvSpPr/>
              <p:nvPr/>
            </p:nvSpPr>
            <p:spPr>
              <a:xfrm>
                <a:off x="838080" y="2057400"/>
                <a:ext cx="3276360" cy="3428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8" name="Line 15"/>
              <p:cNvSpPr/>
              <p:nvPr/>
            </p:nvSpPr>
            <p:spPr>
              <a:xfrm flipV="1">
                <a:off x="2476440" y="2064960"/>
                <a:ext cx="0" cy="1788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79" name="Line 16"/>
              <p:cNvSpPr/>
              <p:nvPr/>
            </p:nvSpPr>
            <p:spPr>
              <a:xfrm flipV="1">
                <a:off x="2476440" y="2363040"/>
                <a:ext cx="893520" cy="149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  <p:sp>
            <p:nvSpPr>
              <p:cNvPr id="380" name="Line 17"/>
              <p:cNvSpPr/>
              <p:nvPr/>
            </p:nvSpPr>
            <p:spPr>
              <a:xfrm>
                <a:off x="2476440" y="3854160"/>
                <a:ext cx="1042200" cy="119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9fb8cd"/>
                  </a:solidFill>
                  <a:latin typeface="Stencil"/>
                </a:endParaRPr>
              </a:p>
            </p:txBody>
          </p:sp>
        </p:grpSp>
        <p:sp>
          <p:nvSpPr>
            <p:cNvPr id="381" name="Text Box 19"/>
            <p:cNvSpPr/>
            <p:nvPr/>
          </p:nvSpPr>
          <p:spPr>
            <a:xfrm>
              <a:off x="2590560" y="251460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7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3200400" y="35049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38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1218960" y="3504960"/>
              <a:ext cx="781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Stencil"/>
                </a:rPr>
                <a:t>55%</a:t>
              </a:r>
              <a:endParaRPr b="0" lang="en-US" sz="2800" spc="-1" strike="noStrike">
                <a:solidFill>
                  <a:srgbClr val="9fb8cd"/>
                </a:solidFill>
                <a:latin typeface="Stencil"/>
              </a:endParaRPr>
            </a:p>
          </p:txBody>
        </p:sp>
      </p:grpSp>
      <p:sp>
        <p:nvSpPr>
          <p:cNvPr id="384" name="Text Box 23"/>
          <p:cNvSpPr/>
          <p:nvPr/>
        </p:nvSpPr>
        <p:spPr>
          <a:xfrm>
            <a:off x="4495680" y="2743200"/>
            <a:ext cx="42674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ĶERMEŅA VALODA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55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BALSS TONIS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8%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VĀ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D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7%</a:t>
            </a:r>
            <a:r>
              <a:rPr b="1" lang="pl-PL" sz="4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#1: </a:t>
            </a:r>
            <a:r>
              <a:rPr b="0" lang="lv-LV" sz="2900" spc="-1" strike="noStrike">
                <a:solidFill>
                  <a:srgbClr val="464653"/>
                </a:solidFill>
                <a:latin typeface="Arial"/>
              </a:rPr>
              <a:t>Atspoguļot domas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Šī ir grūta izvēl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nevaru izlemt vai iet uz slimnīcu neizdziedināmiem slimniekiem vai turpināt 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ev ir smaga izvēle starp slimnīcu neizdziedināmiem slimniekiem un ķīmijterapij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2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emocij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ci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Es jūto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aikam esmu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kau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"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Tu jau kādu laiku jūties nomākts un izmis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Piemērs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 #3: </a:t>
            </a:r>
            <a:r>
              <a:rPr b="0" lang="lv-LV" sz="3200" spc="-1" strike="noStrike">
                <a:solidFill>
                  <a:srgbClr val="464653"/>
                </a:solidFill>
                <a:latin typeface="Arial"/>
              </a:rPr>
              <a:t>Atspoguļojot uzvedību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cients sāk raudā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rapei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“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redzu, ka tu raud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"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r>
              <a:rPr b="0" lang="pl-PL" sz="3300" spc="-1" strike="noStrike">
                <a:solidFill>
                  <a:srgbClr val="464653"/>
                </a:solidFill>
                <a:latin typeface="Bookman Old Style"/>
              </a:rPr>
              <a:t> – </a:t>
            </a:r>
            <a:r>
              <a:rPr b="0" lang="pl-PL" sz="3300" spc="-1" strike="noStrike">
                <a:solidFill>
                  <a:srgbClr val="cc0066"/>
                </a:solidFill>
                <a:latin typeface="Bookman Old Style"/>
              </a:rPr>
              <a:t>cd.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99680" y="1856880"/>
            <a:ext cx="8358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liecinājums un cieņ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acienti un ģimenes riskē, daloties ar savām emocij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apstiprini un atbalsti pacient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mēr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ldies, ka dalījies ar savām jūtām un dom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Man ir prieks, ka tu runā ar mani par savām jūtā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s labāk daru savu darbu kā tavs ārsts, zinot kā tu jū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īdzjūtīga ziņkā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i ziņkārīgs un pieprasi vēl informāciju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: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gribētu zināt vairāk par šo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Lūdzu, pastāsti vairāk par bēdām, ko jūti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pkop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ārfrāzē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Pārfrāzē pacienta stāstu saviem vārdie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464653"/>
                </a:solidFill>
                <a:latin typeface="Arial"/>
              </a:rPr>
              <a:t>Pretēji atspoguļošanai, pārfrāzēšana un kopsavilkums ietver pacienta stāstījuma interpretāciju un sakoncentrēšanu . Efektīvs komentārs ir īss, bet tajā pat laikā saglabā svarīgo nozīmi un emociju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s jau kādu laiku runājam par to, kā viss virzās uz priekš tev. Ļauj man apkopot to, ko tu esi teici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tad tu man varēsi pateikt vai es esmu tevi sapratis pareiz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...</a:t>
            </a:r>
            <a:r>
              <a:rPr b="0" lang="pl-PL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zveido plānu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žkārt pacients vienkārši grib parunāt par savām jūtā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;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citreiz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darbība ir svarīgāka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Noskaidro, ko pacients sagaid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ā es varu palīdzē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Kam, ja tā ir, būtu jāmainās, tev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?</a:t>
            </a:r>
            <a:r>
              <a:rPr b="0" lang="pl-PL" sz="2300" spc="-1" strike="noStrike">
                <a:solidFill>
                  <a:srgbClr val="464653"/>
                </a:solidFill>
                <a:latin typeface="Gill Sans MT"/>
              </a:rPr>
              <a:t>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464653"/>
                </a:solidFill>
                <a:latin typeface="Arial"/>
              </a:rPr>
              <a:t>Kā reaģēt uz pacienta emocijām?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8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dāvā tikšanās turpinājumus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tkārtotas vizīte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300" spc="-1" strike="noStrike">
                <a:solidFill>
                  <a:srgbClr val="464653"/>
                </a:solidFill>
                <a:latin typeface="Arial"/>
              </a:rPr>
              <a:t>Es vēlētos tevi apraudzīt nākamajā nedēļā, paskatīties kā viss virzās uz priekšu. Tai pašā laikā, lūdzu, sazinies ar mani, ja tu vēlies parunāt ātrāk, labi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029"/>
          <p:cNvSpPr/>
          <p:nvPr/>
        </p:nvSpPr>
        <p:spPr>
          <a:xfrm>
            <a:off x="2436840" y="2209680"/>
            <a:ext cx="562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NEVERBĀLĀS KOMUNIKĀCIJAS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TIPI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6" name="AutoShape 1033"/>
          <p:cNvSpPr/>
          <p:nvPr/>
        </p:nvSpPr>
        <p:spPr>
          <a:xfrm>
            <a:off x="7010280" y="1071720"/>
            <a:ext cx="2133720" cy="761760"/>
          </a:xfrm>
          <a:prstGeom prst="wedgeRoundRectCallout">
            <a:avLst>
              <a:gd name="adj1" fmla="val -87944"/>
              <a:gd name="adj2" fmla="val 9812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Izskat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7" name="AutoShape 1036"/>
          <p:cNvSpPr/>
          <p:nvPr/>
        </p:nvSpPr>
        <p:spPr>
          <a:xfrm>
            <a:off x="5643720" y="285840"/>
            <a:ext cx="1752480" cy="761760"/>
          </a:xfrm>
          <a:prstGeom prst="wedgeRoundRectCallout">
            <a:avLst>
              <a:gd name="adj1" fmla="val -84509"/>
              <a:gd name="adj2" fmla="val 15208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Kā tu sakārto savu apkārtni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8" name="AutoShape 1037"/>
          <p:cNvSpPr/>
          <p:nvPr/>
        </p:nvSpPr>
        <p:spPr>
          <a:xfrm>
            <a:off x="3124080" y="304920"/>
            <a:ext cx="1600200" cy="761760"/>
          </a:xfrm>
          <a:prstGeom prst="wedgeRoundRectCallout">
            <a:avLst>
              <a:gd name="adj1" fmla="val 13097"/>
              <a:gd name="adj2" fmla="val 16854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</a:t>
            </a:r>
            <a:r>
              <a:rPr b="1" lang="lv-LV" sz="2400" spc="-1" strike="noStrike">
                <a:solidFill>
                  <a:srgbClr val="0000cc"/>
                </a:solidFill>
                <a:latin typeface="Times New Roman"/>
              </a:rPr>
              <a:t>Pieskārien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89" name="AutoShape 1038"/>
          <p:cNvSpPr/>
          <p:nvPr/>
        </p:nvSpPr>
        <p:spPr>
          <a:xfrm>
            <a:off x="304920" y="457200"/>
            <a:ext cx="2361960" cy="990720"/>
          </a:xfrm>
          <a:prstGeom prst="wedgeRoundRectCallout">
            <a:avLst>
              <a:gd name="adj1" fmla="val 67740"/>
              <a:gd name="adj2" fmla="val 141185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Skaņas, izņemot vārdu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0" name="AutoShape 1039"/>
          <p:cNvSpPr/>
          <p:nvPr/>
        </p:nvSpPr>
        <p:spPr>
          <a:xfrm>
            <a:off x="228600" y="2514600"/>
            <a:ext cx="1371600" cy="990720"/>
          </a:xfrm>
          <a:prstGeom prst="wedgeRoundRectCallout">
            <a:avLst>
              <a:gd name="adj1" fmla="val 129166"/>
              <a:gd name="adj2" fmla="val 123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Ķermeņa stāja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1" name="AutoShape 1040"/>
          <p:cNvSpPr/>
          <p:nvPr/>
        </p:nvSpPr>
        <p:spPr>
          <a:xfrm>
            <a:off x="380880" y="4419720"/>
            <a:ext cx="1524240" cy="914400"/>
          </a:xfrm>
          <a:prstGeom prst="wedgeRoundRectCallout">
            <a:avLst>
              <a:gd name="adj1" fmla="val 127499"/>
              <a:gd name="adj2" fmla="val -10746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Žesti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2" name="AutoShape 1041"/>
          <p:cNvSpPr/>
          <p:nvPr/>
        </p:nvSpPr>
        <p:spPr>
          <a:xfrm>
            <a:off x="2057400" y="5410080"/>
            <a:ext cx="1600200" cy="838440"/>
          </a:xfrm>
          <a:prstGeom prst="wedgeRoundRectCallout">
            <a:avLst>
              <a:gd name="adj1" fmla="val 76189"/>
              <a:gd name="adj2" fmla="val -18087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fb8cd"/>
                </a:solidFill>
                <a:latin typeface="Times New Roman"/>
              </a:rPr>
              <a:t>    </a:t>
            </a: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Mīmika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3" name="AutoShape 1042"/>
          <p:cNvSpPr/>
          <p:nvPr/>
        </p:nvSpPr>
        <p:spPr>
          <a:xfrm>
            <a:off x="5105520" y="5638680"/>
            <a:ext cx="1752480" cy="762120"/>
          </a:xfrm>
          <a:prstGeom prst="wedgeRoundRectCallout">
            <a:avLst>
              <a:gd name="adj1" fmla="val -73643"/>
              <a:gd name="adj2" fmla="val -25041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Balss tonis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394" name="AutoShape 1043"/>
          <p:cNvSpPr/>
          <p:nvPr/>
        </p:nvSpPr>
        <p:spPr>
          <a:xfrm>
            <a:off x="6553080" y="4267080"/>
            <a:ext cx="2362320" cy="990720"/>
          </a:xfrm>
          <a:prstGeom prst="wedgeRoundRectCallout">
            <a:avLst>
              <a:gd name="adj1" fmla="val -80643"/>
              <a:gd name="adj2" fmla="val -7612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ff"/>
                </a:solidFill>
                <a:latin typeface="Times New Roman"/>
              </a:rPr>
              <a:t>Attālums no citiem cilvēkiem</a:t>
            </a:r>
            <a:endParaRPr b="0" lang="en-US" sz="2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71760" y="1500120"/>
            <a:ext cx="7162560" cy="338580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– 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ir pētījums par izmērāmu attālumu starp cilvēkiem, kad tie mijiedarbojas</a:t>
            </a:r>
            <a:r>
              <a:rPr b="1" i="1" lang="pl-PL" sz="48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743120" y="614520"/>
            <a:ext cx="5657760" cy="5628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00160" y="152280"/>
            <a:ext cx="66866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PRO</a:t>
            </a:r>
            <a:r>
              <a:rPr b="0" lang="lv-LV" sz="3200" spc="-1" strike="noStrike">
                <a:solidFill>
                  <a:srgbClr val="464653"/>
                </a:solidFill>
                <a:latin typeface="Bookman Old Style"/>
              </a:rPr>
              <a:t>KSĒMIK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lv-LV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īms attālums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- apskāvieni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pieskārieniem vai čuksti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issvarīgāk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s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rik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aizsargāt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Tiek pielaisti tikai tie ar kuriem mēs esam emocionāli saistīt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piemēram, vecāki,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laulātai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bērn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 tuvi draug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  <a:ea typeface="Arial"/>
              </a:rPr>
              <a:t>vecvecāki, u.c.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24" descr="BD06263_"/>
          <p:cNvPicPr/>
          <p:nvPr/>
        </p:nvPicPr>
        <p:blipFill>
          <a:blip r:embed="rId1"/>
          <a:stretch/>
        </p:blipFill>
        <p:spPr>
          <a:xfrm>
            <a:off x="5257800" y="4416480"/>
            <a:ext cx="3581280" cy="240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BD06328_"/>
          <p:cNvPicPr/>
          <p:nvPr/>
        </p:nvPicPr>
        <p:blipFill>
          <a:blip r:embed="rId2"/>
          <a:stretch/>
        </p:blipFill>
        <p:spPr>
          <a:xfrm>
            <a:off x="228600" y="228600"/>
            <a:ext cx="13557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028"/>
          <p:cNvSpPr/>
          <p:nvPr/>
        </p:nvSpPr>
        <p:spPr>
          <a:xfrm>
            <a:off x="304920" y="2209680"/>
            <a:ext cx="8534160" cy="393336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cc0066"/>
                </a:solidFill>
                <a:latin typeface="Arial"/>
              </a:rPr>
              <a:t>2. 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Person</a:t>
            </a:r>
            <a:r>
              <a:rPr b="1" lang="en-US" sz="4800" spc="-1" strike="noStrike" u="sng">
                <a:solidFill>
                  <a:srgbClr val="cc0066"/>
                </a:solidFill>
                <a:uFillTx/>
                <a:latin typeface="Arial"/>
              </a:rPr>
              <a:t>isk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ā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lv-LV" sz="4800" spc="-1" strike="noStrike" u="sng">
                <a:solidFill>
                  <a:srgbClr val="cc0066"/>
                </a:solidFill>
                <a:uFillTx/>
                <a:latin typeface="Arial"/>
              </a:rPr>
              <a:t>telpa</a:t>
            </a:r>
            <a:r>
              <a:rPr b="1" lang="pl-PL" sz="48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(46 cm – 1,2m)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- kontaktēšanās ar draugiem vai ģimenes locekļ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0" lang="lv-LV" sz="4800" spc="-1" strike="noStrike">
                <a:solidFill>
                  <a:srgbClr val="cc0066"/>
                </a:solidFill>
                <a:latin typeface="Arial"/>
              </a:rPr>
              <a:t>citiem, labi pazīstamiem cilvēkiem</a:t>
            </a:r>
            <a:r>
              <a:rPr b="0" lang="pl-PL" sz="48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fb8cd"/>
              </a:solidFill>
              <a:latin typeface="Stencil"/>
            </a:endParaRPr>
          </a:p>
        </p:txBody>
      </p:sp>
      <p:sp>
        <p:nvSpPr>
          <p:cNvPr id="402" name="Text Box 1029"/>
          <p:cNvSpPr/>
          <p:nvPr/>
        </p:nvSpPr>
        <p:spPr>
          <a:xfrm>
            <a:off x="3000240" y="500040"/>
            <a:ext cx="4143600" cy="916920"/>
          </a:xfrm>
          <a:prstGeom prst="rect">
            <a:avLst/>
          </a:prstGeom>
          <a:solidFill>
            <a:srgbClr val="b2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cc0066"/>
                </a:solidFill>
                <a:latin typeface="Arial"/>
              </a:rPr>
              <a:t>PRO</a:t>
            </a:r>
            <a:r>
              <a:rPr b="1" i="1" lang="lv-LV" sz="5400" spc="-1" strike="noStrike">
                <a:solidFill>
                  <a:srgbClr val="cc0066"/>
                </a:solidFill>
                <a:latin typeface="Arial"/>
              </a:rPr>
              <a:t>KSĒMIKA</a:t>
            </a:r>
            <a:endParaRPr b="0" lang="en-US" sz="5400" spc="-1" strike="noStrike">
              <a:solidFill>
                <a:srgbClr val="9fb8cd"/>
              </a:solidFill>
              <a:latin typeface="Stencil"/>
            </a:endParaRPr>
          </a:p>
        </p:txBody>
      </p:sp>
      <p:pic>
        <p:nvPicPr>
          <p:cNvPr id="403" name="Picture 1030" descr="BD06858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09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Object 1024"/>
          <p:cNvGraphicFramePr/>
          <p:nvPr/>
        </p:nvGraphicFramePr>
        <p:xfrm>
          <a:off x="6477120" y="4714920"/>
          <a:ext cx="2133360" cy="14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714920"/>
                    <a:ext cx="21333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11:34Z</dcterms:created>
  <dc:creator>Damian Jankowski</dc:creator>
  <dc:description/>
  <dc:language>en-US</dc:language>
  <cp:lastModifiedBy>Daina</cp:lastModifiedBy>
  <dcterms:modified xsi:type="dcterms:W3CDTF">2012-10-19T17:05:35Z</dcterms:modified>
  <cp:revision>232</cp:revision>
  <dc:subject/>
  <dc:title>KOMUNIKACJA    NIEWERBALNA</dc:title>
</cp:coreProperties>
</file>