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9D6C-3275-481D-B7A4-146ECA7C3BC3}"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AC08-C1D6-4B14-BE40-B65480E67B75}"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6. modulis </a:t>
            </a:r>
            <a:r>
              <a:rPr b="1" lang="en-GB" sz="3200" spc="-1" strike="noStrike">
                <a:solidFill>
                  <a:srgbClr val="c6168d"/>
                </a:solidFill>
                <a:latin typeface="Arial Narrow"/>
              </a:rPr>
              <a:t>-ps</a:t>
            </a:r>
            <a:r>
              <a:rPr b="1" lang="lv-LV" sz="3200" spc="-1" strike="noStrike">
                <a:solidFill>
                  <a:srgbClr val="c6168d"/>
                </a:solidFill>
                <a:latin typeface="Arial Narrow"/>
              </a:rPr>
              <a:t>iholoģija</a:t>
            </a:r>
            <a:r>
              <a:rPr b="1" lang="en-GB" sz="3200" spc="-1" strike="noStrike">
                <a:solidFill>
                  <a:srgbClr val="c6168d"/>
                </a:solidFill>
                <a:latin typeface="Arial Narrow"/>
              </a:rPr>
              <a:t>:</a:t>
            </a:r>
            <a:r>
              <a:rPr b="0" lang="en-GB" sz="3200" spc="-1" strike="noStrike">
                <a:solidFill>
                  <a:srgbClr val="c6168d"/>
                </a:solidFill>
                <a:latin typeface="Arial Narrow"/>
              </a:rPr>
              <a:t> </a:t>
            </a:r>
            <a:r>
              <a:rPr b="0" lang="lv-LV" sz="3200" spc="-1" strike="noStrike">
                <a:solidFill>
                  <a:srgbClr val="c6168d"/>
                </a:solidFill>
                <a:latin typeface="Arial Narrow"/>
              </a:rPr>
              <a:t>4.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Personības traucējumi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475920"/>
            <a:ext cx="82296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Starptautiskie pētījumi rāda, ka personības traucējumu sastopamība ir 10 līdz 15% starp parastajiem iedzīvotājiem. Nīderlandē 13.5% no parasto iedzīvotāju skaita, 60.4% no psihiatrijas pacientiem,  56.5% no pacientiem, kuri lieto narkotiskās vielas, ir vismaz viena personības traucējumu problēma</a:t>
            </a:r>
            <a:r>
              <a:rPr b="0" lang="lv-LV" sz="2000" spc="-1" strike="noStrike">
                <a:solidFill>
                  <a:srgbClr val="1b2764"/>
                </a:solidFill>
                <a:latin typeface="Lucida Sans"/>
              </a:rPr>
              <a:t> </a:t>
            </a:r>
            <a:r>
              <a:rPr b="0" lang="lv-LV" sz="1200" spc="-1" strike="noStrike">
                <a:solidFill>
                  <a:srgbClr val="1b2764"/>
                </a:solidFill>
                <a:latin typeface="Lucida Sans"/>
              </a:rPr>
              <a:t>(Brandt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HIV pacientu vidū ir no 10 līdz 36%, bet pacientiem, kuriem nav HIV infekcijas, tikai 15% ir personības traucējumi.  Šie procentuālie dati būtiski atšķirās no parasto iedzīvotāju datiem</a:t>
            </a:r>
            <a:r>
              <a:rPr b="0" lang="lv-LV" sz="2000" spc="-1" strike="noStrike">
                <a:solidFill>
                  <a:srgbClr val="1b2764"/>
                </a:solidFill>
                <a:latin typeface="Lucida Sans"/>
              </a:rPr>
              <a:t> </a:t>
            </a:r>
            <a:r>
              <a:rPr b="0" lang="lv-LV" sz="1200" spc="-1" strike="noStrike">
                <a:solidFill>
                  <a:srgbClr val="1b2764"/>
                </a:solidFill>
                <a:latin typeface="Lucida Sans"/>
              </a:rPr>
              <a:t>(Weisman, 1993).</a:t>
            </a:r>
            <a:r>
              <a:rPr b="0" lang="lv-LV" sz="2000" spc="-1" strike="noStrike">
                <a:solidFill>
                  <a:srgbClr val="1b2764"/>
                </a:solidFill>
                <a:latin typeface="Lucida Sans"/>
              </a:rPr>
              <a:t> </a:t>
            </a:r>
            <a:r>
              <a:rPr b="0" lang="nl-NL" sz="2000" spc="-1" strike="noStrike">
                <a:solidFill>
                  <a:srgbClr val="1b2764"/>
                </a:solidFill>
                <a:latin typeface="Lucida Sans"/>
              </a:rPr>
              <a:t>Pētījumi arī norāda, ka antisociālie traucējumi un psiholoģiskie robežlīniju traucējumi biežāk sastopami tieši HIV pacientiem</a:t>
            </a:r>
            <a:r>
              <a:rPr b="0" lang="lv-LV" sz="2000" spc="-1" strike="noStrike">
                <a:solidFill>
                  <a:srgbClr val="1b2764"/>
                </a:solidFill>
                <a:latin typeface="Lucida Sans"/>
              </a:rPr>
              <a:t> </a:t>
            </a:r>
            <a:r>
              <a:rPr b="0" lang="lv-LV" sz="1200" spc="-1" strike="noStrike">
                <a:solidFill>
                  <a:srgbClr val="1b2764"/>
                </a:solidFill>
                <a:latin typeface="Lucida Sans"/>
              </a:rPr>
              <a:t>(Golding,1996).</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96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1</a:t>
            </a:r>
            <a:endParaRPr b="0" lang="en-US" sz="2000" spc="-1" strike="noStrike">
              <a:solidFill>
                <a:srgbClr val="c6168d"/>
              </a:solidFill>
              <a:latin typeface="Lucida Sans"/>
            </a:endParaRPr>
          </a:p>
        </p:txBody>
      </p:sp>
      <p:sp>
        <p:nvSpPr>
          <p:cNvPr id="109" name="PlaceHolder 2"/>
          <p:cNvSpPr>
            <a:spLocks noGrp="1"/>
          </p:cNvSpPr>
          <p:nvPr>
            <p:ph/>
          </p:nvPr>
        </p:nvSpPr>
        <p:spPr>
          <a:xfrm>
            <a:off x="324000" y="764640"/>
            <a:ext cx="8229600" cy="5688360"/>
          </a:xfrm>
          <a:prstGeom prst="rect">
            <a:avLst/>
          </a:prstGeom>
          <a:noFill/>
          <a:ln w="0">
            <a:noFill/>
          </a:ln>
        </p:spPr>
        <p:txBody>
          <a:bodyPr anchor="t">
            <a:normAutofit fontScale="98000"/>
          </a:bodyPr>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ar personības traucējumiem ir lielāka iespējamība inficēties ar HIV un C hepatītu, nekā pacientiem, kuriem šādu traucējumu nav. Ja pacients ar personības traucējumiem ir inficēts ar HIV, tad ir lielāks risks, ka infekcija izplatīsies tālāk, nekā tiem HIV pacientiem, kuriem nav personības traucējumu.  It īpaši B tipa/modeļa pacientam  piedēvētajiem faktiem  par personības traucējumiem; antisociāliem , psiholoģiskajām robežlīnijām un teatrāliem personības traucējumiem, ir liela saistība ar augstākminēto risku. Citos personības traucējumu gadījumos vēl nav veikti pētījumi</a:t>
            </a:r>
            <a:r>
              <a:rPr b="0" lang="lv-LV" sz="1200" spc="-1" strike="noStrike">
                <a:solidFill>
                  <a:srgbClr val="1b2764"/>
                </a:solidFill>
                <a:latin typeface="Lucida Sans"/>
              </a:rPr>
              <a:t>(Singh, 2006).</a:t>
            </a: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tipa  pacientos dominē vāja impulsa kontrole.  Viņiem ir mazāk bail no savas uzvedības un domāšanas sekām, viņi nedomā par braukšanas risku vai vienkārši to izslēdz.  Tas notiek tāpēc, ka šiem pacientiem ir raksturīga zema pašapziņa un mazvērtības kompleksi, samazināta emociju regulācijas sistēma, tolerances trūkums, impulsivitāte un problēmas saskarsmē ar citiem cilvēkiem. Kā arī iespējams, šie pacienti lieto kādas atkarību izraisošas viela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7628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 2</a:t>
            </a:r>
            <a:endParaRPr b="0" lang="en-US" sz="2000" spc="-1" strike="noStrike">
              <a:solidFill>
                <a:srgbClr val="c6168d"/>
              </a:solidFill>
              <a:latin typeface="Lucida Sans"/>
            </a:endParaRPr>
          </a:p>
        </p:txBody>
      </p:sp>
      <p:sp>
        <p:nvSpPr>
          <p:cNvPr id="111" name="PlaceHolder 2"/>
          <p:cNvSpPr>
            <a:spLocks noGrp="1"/>
          </p:cNvSpPr>
          <p:nvPr>
            <p:ph/>
          </p:nvPr>
        </p:nvSpPr>
        <p:spPr>
          <a:xfrm>
            <a:off x="324000" y="980640"/>
            <a:ext cx="8496000" cy="5877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ntiretrovīrusu medikamentu blakusparādības var izraisīt viņos neapmierinātību un neiecietību, kas vēl vairāk var pakļaut viņus riskam. </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Ņemot vērā pacientu spontāno uzvedību un impulsivitāti, maz iespējams, ka viņi, seksuālā kontakta laikā, izmantos prezervatīvu</a:t>
            </a:r>
            <a:r>
              <a:rPr b="0" lang="lv-LV" sz="2000" spc="-1" strike="noStrike">
                <a:solidFill>
                  <a:srgbClr val="1b2764"/>
                </a:solidFill>
                <a:latin typeface="Lucida Sans"/>
              </a:rPr>
              <a:t>. </a:t>
            </a:r>
            <a:r>
              <a:rPr b="0" lang="lv-LV" sz="1200" spc="-1" strike="noStrike">
                <a:solidFill>
                  <a:srgbClr val="1b2764"/>
                </a:solidFill>
                <a:latin typeface="Lucida Sans"/>
              </a:rPr>
              <a:t>(Hutton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lnSpc>
                <a:spcPct val="90000"/>
              </a:lnSpc>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žreiz viņi netiek galā ar stresu, kas radies no seksuālajām aktivitātēm, pastāv risks,ka pacients neaizdomāsies par izsargāšanās līdzekļiem.  Bieži vien pacienti jūtas atviegloti, ja sekss notiek ar cilvēku, kurš arī ir inficēts ar HIV. Viņi labprāt bieži maina seksuālos partnerus, dažreiz šeit ir arī prostitūcija</a:t>
            </a:r>
            <a:r>
              <a:rPr b="0" lang="lv-LV" sz="2000" spc="-1" strike="noStrike">
                <a:solidFill>
                  <a:srgbClr val="1b2764"/>
                </a:solidFill>
                <a:latin typeface="Lucida Sans"/>
              </a:rPr>
              <a:t> </a:t>
            </a:r>
            <a:r>
              <a:rPr b="0" lang="lv-LV" sz="1200" spc="-1" strike="noStrike">
                <a:solidFill>
                  <a:srgbClr val="1b2764"/>
                </a:solidFill>
                <a:latin typeface="Lucida Sans"/>
              </a:rPr>
              <a:t>(Hutton 2008). </a:t>
            </a:r>
            <a:endParaRPr b="0" lang="en-US" sz="12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skās robežlīnijas personības traucējumu un antisociālo traucējumu gadījumos, pacienti bieži aizraujas ar alkoholu un narkotikām. Ja pacients lieto intravenozās narkotikas, lielāka uzmanība jāpievērš adatu un šļirču tīrībai.</a:t>
            </a:r>
            <a:r>
              <a:rPr b="0" lang="lv-LV" sz="2000" spc="-1" strike="noStrike">
                <a:solidFill>
                  <a:srgbClr val="1b2764"/>
                </a:solidFill>
                <a:latin typeface="Lucida Sans"/>
              </a:rPr>
              <a:t> (</a:t>
            </a:r>
            <a:r>
              <a:rPr b="0" lang="lv-LV" sz="1200" spc="-1" strike="noStrike">
                <a:solidFill>
                  <a:srgbClr val="1b2764"/>
                </a:solidFill>
                <a:latin typeface="Lucida Sans"/>
              </a:rPr>
              <a:t>Hutton 2008). </a:t>
            </a: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br>
              <a:rPr sz="2000"/>
            </a:br>
            <a:endParaRPr b="0" lang="en-US" sz="2000" spc="-1" strike="noStrike">
              <a:solidFill>
                <a:srgbClr val="c6168d"/>
              </a:solidFill>
              <a:latin typeface="Lucida Sans"/>
            </a:endParaRPr>
          </a:p>
        </p:txBody>
      </p:sp>
      <p:sp>
        <p:nvSpPr>
          <p:cNvPr id="113" name="PlaceHolder 2"/>
          <p:cNvSpPr>
            <a:spLocks noGrp="1"/>
          </p:cNvSpPr>
          <p:nvPr>
            <p:ph/>
          </p:nvPr>
        </p:nvSpPr>
        <p:spPr>
          <a:xfrm>
            <a:off x="303120" y="980640"/>
            <a:ext cx="8229600" cy="532764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u ārstēšana, kuriem ir personības traucējumi un HIV infekcija, var būt liels izaicinājums mediķiem  un var sagraut speciālista cerības palīdzēt pacientam. Pacientu impulsīvā daba un labilā emocionalitāte reizēm rada neveiklību un traucē darbiniekiem ārstēt pacientu </a:t>
            </a:r>
            <a:r>
              <a:rPr b="0" lang="lv-LV" sz="1200" spc="-1" strike="noStrike">
                <a:solidFill>
                  <a:srgbClr val="1b2764"/>
                </a:solidFill>
                <a:latin typeface="Lucida Sans"/>
              </a:rPr>
              <a:t>(Hutton, 2008).</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Ne tikai zināšanas par HIV un speciālista ietekme uz pacientu, bet arī praktiķa attieksme un iejūtība var pozitīvi ietekmēt ārstēšanu</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kuriem ir personības traucējumi un HIV vīrusa infekcija, ir īpaši svarīga viņiem pieņemama ārstēšana. Visticamāk, ja viņi ir līdzestīgi  antiretrovīrusu ārstēšanai un neizrādīs neadekvātu uzvedību. Ārstiem ir jādubulto savas pūles un jābruņojas ar pacietību, lai šos pacientus piedabūtu ārstēti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115" name="PlaceHolder 2"/>
          <p:cNvSpPr>
            <a:spLocks noGrp="1"/>
          </p:cNvSpPr>
          <p:nvPr>
            <p:ph/>
          </p:nvPr>
        </p:nvSpPr>
        <p:spPr>
          <a:xfrm>
            <a:off x="303120" y="981000"/>
            <a:ext cx="8661600" cy="5688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pēc ir svarīgi koncentrēties  uz pacienta personības iezīmēm, kas var izraisīt riskantu uzvedību un novest pie medikamentu nelietošanas un seksa bez izsargāšanās. Lielāka uzmanība jāpievērš pacienta uzvedībai un veselības stāvoklim, nevis viņa emocijām. Ierobežojumu noteikšana, kontrollīmeņa samazināšana un pacienta priekšrocību apstiprināšana ir svarīgi terapijas līdzekļi </a:t>
            </a:r>
            <a:r>
              <a:rPr b="0" lang="lv-LV" sz="1400" spc="-1" strike="noStrike">
                <a:solidFill>
                  <a:srgbClr val="1b2764"/>
                </a:solidFill>
                <a:latin typeface="Lucida Sans"/>
              </a:rPr>
              <a:t>(Gelder 1999).</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Depresīvo un trauksmes sajūtu ārstēšanai arī ir jābūt daļai no ārstēšanas plāna.</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 modeļa  pacientiem ar personības traucējumiem, mazāk ir nepieciešama  profesionālā distance, bet ļoti svarīga ir atbilstošas cieņas sajūta uz viņu privātu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3</a:t>
            </a:r>
            <a:endParaRPr b="0" lang="en-US" sz="2400" spc="-1" strike="noStrike">
              <a:solidFill>
                <a:srgbClr val="c6168d"/>
              </a:solidFill>
              <a:latin typeface="Lucida Sans"/>
            </a:endParaRPr>
          </a:p>
        </p:txBody>
      </p:sp>
      <p:sp>
        <p:nvSpPr>
          <p:cNvPr id="117" name="PlaceHolder 2"/>
          <p:cNvSpPr>
            <a:spLocks noGrp="1"/>
          </p:cNvSpPr>
          <p:nvPr>
            <p:ph/>
          </p:nvPr>
        </p:nvSpPr>
        <p:spPr>
          <a:xfrm>
            <a:off x="303120" y="981000"/>
            <a:ext cx="8661600" cy="56880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modeļa pacientiem, ir būtiski noteikt ierobežojumus (neizmantojot agresiju un draudus). Pozitīvisma pilna pieeja būs visa pamatā šī modeļa pacientu ārstēšanā.</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ret C modeļa pacientiem ir svarīgi izturēties ar iejūtību, jo viņi bieži raizējas par savām sajūtām un noslēdzas sevī. Atbilstoša pieeja ar labu un pilnīgu informāciju par ārstēšanu un tās prognozi, ir ļoti svarīga. </a:t>
            </a:r>
            <a:r>
              <a:rPr b="0" lang="nl-NL" sz="1200" spc="-1" strike="noStrike">
                <a:solidFill>
                  <a:srgbClr val="1b2764"/>
                </a:solidFill>
                <a:latin typeface="Lucida Sans"/>
              </a:rPr>
              <a:t>(Brandt 2008) </a:t>
            </a:r>
            <a:r>
              <a:rPr b="0" lang="lv-LV" sz="1200" spc="-1" strike="noStrike">
                <a:solidFill>
                  <a:srgbClr val="1b2764"/>
                </a:solidFill>
                <a:latin typeface="Lucida Sans"/>
              </a:rPr>
              <a:t>.</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sihotropā ārstēšana ar medikamentiem</a:t>
            </a:r>
            <a:br>
              <a:rPr sz="2000"/>
            </a:br>
            <a:endParaRPr b="0" lang="en-US" sz="2000" spc="-1" strike="noStrike">
              <a:solidFill>
                <a:srgbClr val="c6168d"/>
              </a:solidFill>
              <a:latin typeface="Lucida Sans"/>
            </a:endParaRPr>
          </a:p>
        </p:txBody>
      </p:sp>
      <p:sp>
        <p:nvSpPr>
          <p:cNvPr id="11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tropie medikamenti ir maz efektīvas pacientu ārstēšanai, kuriem ir personības traucējumi.</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et ir svarīgi, ka tiek ārstētas blakusslimības, piemēram, trauksmes sajūta un depresija. It īpaši tā sauktie selektīvie serotonīna reversie inhibitori (SSRI), var būtiski samazināt pacienta depresiju un impulsveida traucējumus. </a:t>
            </a:r>
            <a:r>
              <a:rPr b="0" lang="lv-LV" sz="2000" spc="-1" strike="noStrike">
                <a:solidFill>
                  <a:srgbClr val="1b2764"/>
                </a:solidFill>
                <a:latin typeface="Lucida Sans"/>
              </a:rPr>
              <a:t>(www.guidelines.org).</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urklāt, izvērtējot psihotropās vielas, jāņem vērā iespējamo negatīvo mijiedarbību ar antiretrovīrusu terapij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Individuālā un grupu psihoterapija</a:t>
            </a:r>
            <a:br>
              <a:rPr sz="2000"/>
            </a:br>
            <a:endParaRPr b="0" lang="en-US" sz="2000" spc="-1" strike="noStrike">
              <a:solidFill>
                <a:srgbClr val="c6168d"/>
              </a:solidFill>
              <a:latin typeface="Lucida Sans"/>
            </a:endParaRPr>
          </a:p>
        </p:txBody>
      </p:sp>
      <p:sp>
        <p:nvSpPr>
          <p:cNvPr id="12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udznozaru vadlīnijas par personības traucējumiem pierāda, ka individuālā un grupas terapija ir ļoti efektīva dažādu personības traucējumu ārstēšanā </a:t>
            </a:r>
            <a:r>
              <a:rPr b="0" lang="lv-LV" sz="1200" spc="-1" strike="noStrike">
                <a:solidFill>
                  <a:srgbClr val="1b2764"/>
                </a:solidFill>
                <a:latin typeface="Lucida Sans"/>
              </a:rPr>
              <a:t>(Brandt 2008).</a:t>
            </a:r>
            <a:r>
              <a:rPr b="0" lang="lv-LV" sz="2000" spc="-1" strike="noStrike">
                <a:solidFill>
                  <a:srgbClr val="1b2764"/>
                </a:solidFill>
                <a:latin typeface="Lucida Sans"/>
              </a:rPr>
              <a:t> </a:t>
            </a: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ialektiskās uzvedības terapijas un terapijas shēma ir vislabāk pierādīta. Ir arī citas ārstēšanas metodes, piemēram, kognitīvā terapija, izvērsta orientēta psihoterapija un kognitīvi analītiskā terapija. Ārstēšana saskaņā ar starppersonu psihodinamisko modeli ir ļoti efektīva metode, bet to vajadzētu dziļāk izpētīt </a:t>
            </a:r>
            <a:r>
              <a:rPr b="0" lang="lv-LV" sz="1200" spc="-1" strike="noStrike">
                <a:solidFill>
                  <a:srgbClr val="1b2764"/>
                </a:solidFill>
                <a:latin typeface="Lucida Sans"/>
              </a:rPr>
              <a:t>(Brandt 2008).</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1</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3" name="PlaceHolder 2"/>
          <p:cNvSpPr>
            <a:spLocks noGrp="1"/>
          </p:cNvSpPr>
          <p:nvPr>
            <p:ph/>
          </p:nvPr>
        </p:nvSpPr>
        <p:spPr>
          <a:xfrm>
            <a:off x="303120" y="1412640"/>
            <a:ext cx="8229600" cy="4895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
            </a:r>
            <a:r>
              <a:rPr b="0" lang="nl-NL" sz="2400" spc="-1" strike="noStrike">
                <a:solidFill>
                  <a:srgbClr val="1b2764"/>
                </a:solidFill>
                <a:latin typeface="Lucida Sans"/>
              </a:rPr>
              <a:t> -manipul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dusmas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sīva – agresīva uzved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garastāvokļa svārstīb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droš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sekss bez izsargāšanā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lkohola un narkotiku lieto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šnāvības mēģinājumi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vajadzīb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tkarības</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2</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5" name="PlaceHolder 2"/>
          <p:cNvSpPr>
            <a:spLocks noGrp="1"/>
          </p:cNvSpPr>
          <p:nvPr>
            <p:ph/>
          </p:nvPr>
        </p:nvSpPr>
        <p:spPr>
          <a:xfrm>
            <a:off x="303120" y="981000"/>
            <a:ext cx="8229600" cy="5688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Igors ir 33.gadus jauns vīrietis. 5 gadus viņš ir inficēts ar HIV. 2. Gadus viņš lieto antiretrovīrusu medikamentus, dažreiz, uz dažām nedēļām, viņš medikamentu lietošanu pārstāj, jo viņam nepatīk lietot zāles katru dienu.  Viņš ir ļoti nemierīg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pš 20 gadu vecuma, viņš cieš no garastāvokļa svārtībām un nevajadzības sajūtas. Viņš jūtas nelāgi, kad ir viens. Reizēm lieto kokaīnu, bet, ne pārāk bieži.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Tagad viņš ir vērsies pie sava ģimenes ārsta. Viņš cīnās ar savu seksuālo identitāti. 6 mēnešus viņam ir depresīvs garastāvoklis un miega problēmas. Kad jūs viņu pirmo reizi satikāt, viņš vēlējās, lai tiktu parakstīts līgums, ka geju seksualitāte netiks apspriesta</a:t>
            </a:r>
            <a:r>
              <a:rPr b="0" lang="lv-LV" sz="2000" spc="-1" strike="noStrike">
                <a:solidFill>
                  <a:srgbClr val="1b2764"/>
                </a:solidFill>
                <a:latin typeface="Lucida Sans"/>
              </a:rPr>
              <a:t>. Kad jūs neparakstījāt šādu līgumu, Igors pārstāja lietot antiretrovīrusu medikamentu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Saruna ar Igoru. Vai jūs parakstītu šādu līgumu?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260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836280"/>
            <a:ext cx="8516880" cy="576108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iem ir raksturīga ilglaicīga neadekvāta uzvedība, kas izraisa ciešanas gan pacientam ar šīm problēmām, gan cilvēkiem, ar kuriem viņš kontaktējas. Šie traucējumi nopietni ietekmē pacienta dzīves kvalitāti, jo rada problēmas dažādās dzīves jom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u kritēriji pēc DSM-IV klasifikācijas sistē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 </a:t>
            </a:r>
            <a:r>
              <a:rPr b="0" lang="nl-NL" sz="2000" spc="-1" strike="noStrike">
                <a:solidFill>
                  <a:srgbClr val="1b2764"/>
                </a:solidFill>
                <a:latin typeface="Lucida Sans"/>
              </a:rPr>
              <a:t>Stabils modelis – pieredze un rīcība, ko nepārprotami ietekmē katra indivīda iekšējā kultūra. Šis modelis ir novērojams divās </a:t>
            </a:r>
            <a:r>
              <a:rPr b="0" lang="lv-LV" sz="2000" spc="-1" strike="noStrike">
                <a:solidFill>
                  <a:srgbClr val="1b2764"/>
                </a:solidFill>
                <a:latin typeface="Lucida Sans"/>
              </a:rPr>
              <a:t>(</a:t>
            </a:r>
            <a:r>
              <a:rPr b="0" lang="nl-NL" sz="2000" spc="-1" strike="noStrike">
                <a:solidFill>
                  <a:srgbClr val="1b2764"/>
                </a:solidFill>
                <a:latin typeface="Lucida Sans"/>
              </a:rPr>
              <a:t>vai vairākās</a:t>
            </a:r>
            <a:r>
              <a:rPr b="0" lang="lv-LV" sz="2000" spc="-1" strike="noStrike">
                <a:solidFill>
                  <a:srgbClr val="1b2764"/>
                </a:solidFill>
                <a:latin typeface="Lucida Sans"/>
              </a:rPr>
              <a:t>)</a:t>
            </a:r>
            <a:r>
              <a:rPr b="0" lang="nl-NL" sz="2000" spc="-1" strike="noStrike">
                <a:solidFill>
                  <a:srgbClr val="1b2764"/>
                </a:solidFill>
                <a:latin typeface="Lucida Sans"/>
              </a:rPr>
              <a:t> sfērās:</a:t>
            </a:r>
            <a:br>
              <a:rPr sz="2000"/>
            </a:br>
            <a:r>
              <a:rPr b="0" lang="nl-NL" sz="2000" spc="-1" strike="noStrike">
                <a:solidFill>
                  <a:srgbClr val="1b2764"/>
                </a:solidFill>
                <a:latin typeface="Lucida Sans"/>
              </a:rPr>
              <a:t> </a:t>
            </a:r>
            <a:br>
              <a:rPr sz="2000"/>
            </a:br>
            <a:r>
              <a:rPr b="0" lang="lv-LV" sz="2000" spc="-1" strike="noStrike">
                <a:solidFill>
                  <a:srgbClr val="1b2764"/>
                </a:solidFill>
                <a:latin typeface="Lucida Sans"/>
              </a:rPr>
              <a:t>       </a:t>
            </a:r>
            <a:r>
              <a:rPr b="0" lang="nl-NL" sz="2000" spc="-1" strike="noStrike">
                <a:solidFill>
                  <a:srgbClr val="1b2764"/>
                </a:solidFill>
                <a:latin typeface="Lucida Sans"/>
              </a:rPr>
              <a:t>  - Izziņas spējas  (veids, kā uztvert un interpretēt sevi, citus, uztverot apkārtējos notikumus) </a:t>
            </a:r>
            <a:br>
              <a:rPr sz="2000"/>
            </a:br>
            <a:r>
              <a:rPr b="0" lang="nl-NL" sz="2000" spc="-1" strike="noStrike">
                <a:solidFill>
                  <a:srgbClr val="1b2764"/>
                </a:solidFill>
                <a:latin typeface="Lucida Sans"/>
              </a:rPr>
              <a:t>        - Emocijas  (intensitāte, atbildība, vajadzības sajūta, dažādas emocionālo reakciju izpausmes)</a:t>
            </a:r>
            <a:br>
              <a:rPr sz="2000"/>
            </a:br>
            <a:r>
              <a:rPr b="0" lang="nl-NL" sz="2000" spc="-1" strike="noStrike">
                <a:solidFill>
                  <a:srgbClr val="1b2764"/>
                </a:solidFill>
                <a:latin typeface="Lucida Sans"/>
              </a:rPr>
              <a:t>        - Kontaktēšanās ar citiem</a:t>
            </a:r>
            <a:br>
              <a:rPr sz="2000"/>
            </a:br>
            <a:r>
              <a:rPr b="0" lang="nl-NL" sz="2000" spc="-1" strike="noStrike">
                <a:solidFill>
                  <a:srgbClr val="1b2764"/>
                </a:solidFill>
                <a:latin typeface="Lucida Sans"/>
              </a:rPr>
              <a:t>        - Impulsu kontrole</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2640"/>
            <a:ext cx="8229600" cy="4895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nl-NL" sz="2000" spc="-1" strike="noStrike">
                <a:solidFill>
                  <a:srgbClr val="1b2764"/>
                </a:solidFill>
                <a:latin typeface="Lucida Sans"/>
              </a:rPr>
              <a:t>B. Noturīgs modelis – ir neelastīgs un plaši izpaužas  personiskajā un sociālajā situācijā.</a:t>
            </a:r>
            <a:r>
              <a:rPr b="0" lang="lv-LV" sz="2000" spc="-1" strike="noStrike">
                <a:solidFill>
                  <a:srgbClr val="1b2764"/>
                </a:solidFill>
                <a:latin typeface="Lucida Sans"/>
              </a:rPr>
              <a:t> </a:t>
            </a:r>
            <a:br>
              <a:rPr sz="2000"/>
            </a:br>
            <a:br>
              <a:rPr sz="2000"/>
            </a:br>
            <a:r>
              <a:rPr b="0" lang="nl-NL" sz="2000" spc="-1" strike="noStrike">
                <a:solidFill>
                  <a:srgbClr val="1b2764"/>
                </a:solidFill>
                <a:latin typeface="Lucida Sans"/>
              </a:rPr>
              <a:t> C. Ilgtermiņā šim modelim novērojama medicīniska pasliktināšanās, kas traucē sociālajās, profesionālajās un citās nozīmīgās sfērās.</a:t>
            </a:r>
            <a:br>
              <a:rPr sz="2000"/>
            </a:br>
            <a:br>
              <a:rPr sz="2000"/>
            </a:br>
            <a:r>
              <a:rPr b="0" lang="lv-LV" sz="2000" spc="-1" strike="noStrike">
                <a:solidFill>
                  <a:srgbClr val="1b2764"/>
                </a:solidFill>
                <a:latin typeface="Lucida Sans"/>
              </a:rPr>
              <a:t>D. </a:t>
            </a:r>
            <a:r>
              <a:rPr b="0" lang="nl-NL" sz="2000" spc="-1" strike="noStrike">
                <a:solidFill>
                  <a:srgbClr val="1b2764"/>
                </a:solidFill>
                <a:latin typeface="Lucida Sans"/>
              </a:rPr>
              <a:t>Modelis ir stabils un to var kontrolēt līdz pusaudža vecumam vai agrīnās jaunības gadiem. </a:t>
            </a:r>
            <a:br>
              <a:rPr sz="2000"/>
            </a:br>
            <a:br>
              <a:rPr sz="2000"/>
            </a:br>
            <a:r>
              <a:rPr b="0" lang="lv-LV" sz="2000" spc="-1" strike="noStrike">
                <a:solidFill>
                  <a:srgbClr val="1b2764"/>
                </a:solidFill>
                <a:latin typeface="Lucida Sans"/>
              </a:rPr>
              <a:t>E. </a:t>
            </a:r>
            <a:r>
              <a:rPr b="0" lang="nl-NL" sz="2000" spc="-1" strike="noStrike">
                <a:solidFill>
                  <a:srgbClr val="1b2764"/>
                </a:solidFill>
                <a:latin typeface="Lucida Sans"/>
              </a:rPr>
              <a:t>Ilgtermiņa modelis – piemīt arī garīgās veselības traucējumi</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000" y="260280"/>
            <a:ext cx="7761240" cy="633744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 ar personības traucējumiem bieži cieš no domāšanas traucējumiem (izzināšanas spējām un problēmām, kas saistītas ar emociju izpausmi).  Emocijas bieži ir neadekvātas, jo pacientiem ir grūti kontrolēt savus impulsus. Šiem pacientiem ir lielāks risks inficēties ar HIV un inficēt citus cilvēkus, ja paši jau ir inficēti. Jau inficētiem pacientiem ir grūti nozīmēt stingru medicīniskās ārstēšanas režīmu. </a:t>
            </a:r>
            <a:endParaRPr b="0" lang="en-US" sz="2000" spc="-1" strike="noStrike">
              <a:solidFill>
                <a:srgbClr val="1b2764"/>
              </a:solidFill>
              <a:latin typeface="Lucida Sans"/>
            </a:endParaRPr>
          </a:p>
          <a:p>
            <a:pPr indent="262080">
              <a:lnSpc>
                <a:spcPct val="90000"/>
              </a:lnSpc>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HIV pacientu vidū personības traucējumu problēmas ir biežāk sastopamas (19-36%) nekā cilvēkiem, kuri nav inficēti ar HIV (15) %) </a:t>
            </a:r>
            <a:r>
              <a:rPr b="0" lang="nl-NL" sz="1200" spc="-1" strike="noStrike">
                <a:solidFill>
                  <a:srgbClr val="1b2764"/>
                </a:solidFill>
                <a:latin typeface="Lucida Sans"/>
              </a:rPr>
              <a:t>(Ea1993 Perkins, Jacob Berg et al 1995, Johnson et al 1995</a:t>
            </a:r>
            <a:r>
              <a:rPr b="0" lang="nl-NL" sz="2000" spc="-1" strike="noStrike">
                <a:solidFill>
                  <a:srgbClr val="1b2764"/>
                </a:solidFill>
                <a:latin typeface="Lucida Sans"/>
              </a:rPr>
              <a:t>.</a:t>
            </a:r>
            <a:r>
              <a:rPr b="0" lang="lv-LV" sz="2000" spc="-1" strike="noStrike">
                <a:solidFill>
                  <a:srgbClr val="1b2764"/>
                </a:solidFill>
                <a:latin typeface="Lucida Sans"/>
              </a:rPr>
              <a:t>) </a:t>
            </a:r>
            <a:r>
              <a:rPr b="0" lang="nl-NL" sz="2000" spc="-1" strike="noStrike">
                <a:solidFill>
                  <a:srgbClr val="1b2764"/>
                </a:solidFill>
                <a:latin typeface="Lucida Sans"/>
              </a:rPr>
              <a:t>Personības traucējumu problēmas HIV pacientiem ir sarežģītākas  un ievērojami atšķiras no pārējās sabiedrības personības traucējumiem </a:t>
            </a:r>
            <a:r>
              <a:rPr b="0" lang="lv-LV" sz="2000" spc="-1" strike="noStrike">
                <a:solidFill>
                  <a:srgbClr val="1b2764"/>
                </a:solidFill>
                <a:latin typeface="Lucida Sans"/>
              </a:rPr>
              <a:t> </a:t>
            </a:r>
            <a:r>
              <a:rPr b="0" lang="lv-LV" sz="1200" spc="-1" strike="noStrike">
                <a:solidFill>
                  <a:srgbClr val="1b2764"/>
                </a:solidFill>
                <a:latin typeface="Lucida Sans"/>
              </a:rPr>
              <a:t>(Weisman 1993).</a:t>
            </a:r>
            <a:br>
              <a:rPr sz="1200"/>
            </a:br>
            <a:br>
              <a:rPr sz="1200"/>
            </a:br>
            <a:r>
              <a:rPr b="0" lang="lv-LV" sz="2000" spc="-1" strike="noStrike">
                <a:solidFill>
                  <a:srgbClr val="1b2764"/>
                </a:solidFill>
                <a:latin typeface="Lucida Sans"/>
              </a:rPr>
              <a:t> </a:t>
            </a:r>
            <a:r>
              <a:rPr b="0" lang="nl-NL" sz="2000" spc="-1" strike="noStrike">
                <a:solidFill>
                  <a:srgbClr val="1b2764"/>
                </a:solidFill>
                <a:latin typeface="Lucida Sans"/>
              </a:rPr>
              <a:t>Visbiežākie HIV pacientu personības traucējumi ir antisociālie un robežstāvokļa personības traucējumi</a:t>
            </a:r>
            <a:r>
              <a:rPr b="0" lang="lv-LV" sz="2000" spc="-1" strike="noStrike">
                <a:solidFill>
                  <a:srgbClr val="1b2764"/>
                </a:solidFill>
                <a:latin typeface="Lucida Sans"/>
              </a:rPr>
              <a:t> </a:t>
            </a:r>
            <a:r>
              <a:rPr b="0" lang="lv-LV" sz="1200" spc="-1" strike="noStrike">
                <a:solidFill>
                  <a:srgbClr val="1b2764"/>
                </a:solidFill>
                <a:latin typeface="Lucida Sans"/>
              </a:rPr>
              <a:t>(Golding ea1996).</a:t>
            </a:r>
            <a:br>
              <a:rPr sz="1200"/>
            </a:br>
            <a:br>
              <a:rPr sz="1200"/>
            </a:br>
            <a:r>
              <a:rPr b="0" lang="nl-NL" sz="2000" spc="-1" strike="noStrike">
                <a:solidFill>
                  <a:srgbClr val="1b2764"/>
                </a:solidFill>
                <a:latin typeface="Lucida Sans"/>
              </a:rPr>
              <a:t> Pareiza diagnozes noteikšana un ārstēšana pacientiem ar personības traucējumiem gan HIV pacientiem, gan citiem, uzlabo pacientu dzīves kvalitāti un veicina sabiedrības vispārējo veselības stāvokli. </a:t>
            </a:r>
            <a:br>
              <a:rPr sz="2000"/>
            </a:b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a:t>
            </a:r>
            <a:br>
              <a:rPr sz="2000"/>
            </a:br>
            <a:endParaRPr b="0" lang="en-US" sz="2000" spc="-1" strike="noStrike">
              <a:solidFill>
                <a:srgbClr val="c6168d"/>
              </a:solidFill>
              <a:latin typeface="Lucida Sans"/>
            </a:endParaRPr>
          </a:p>
        </p:txBody>
      </p:sp>
      <p:sp>
        <p:nvSpPr>
          <p:cNvPr id="97" name="PlaceHolder 2"/>
          <p:cNvSpPr>
            <a:spLocks noGrp="1"/>
          </p:cNvSpPr>
          <p:nvPr>
            <p:ph/>
          </p:nvPr>
        </p:nvSpPr>
        <p:spPr>
          <a:xfrm>
            <a:off x="303120" y="1052640"/>
            <a:ext cx="8229600" cy="5184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tiek diagnosticēti ņemot vērā medicīnisko vēsturi, apspriežot tagadējās un pagātnē bijušās problēmas.  Svarīga ir uzvedības noskaidrošana problēmas sākuma stadijā, uzvedība dažādos apstākļos un situācijās, ieradumos, garastāvokļa maiņās un saskarsmē ar citiem cilvēkiem. Ieteicams izmantot pašnovērtējuma anketas, strukturētas intervijas, tādas kā SCIDII. Var izmantot arī psihiatrisko izmeklēšanu</a:t>
            </a:r>
            <a:r>
              <a:rPr b="0" lang="lv-LV" sz="2000" spc="-1" strike="noStrike">
                <a:solidFill>
                  <a:srgbClr val="1b2764"/>
                </a:solidFill>
                <a:latin typeface="Lucida Sans"/>
              </a:rPr>
              <a:t>(Van </a:t>
            </a:r>
            <a:r>
              <a:rPr b="0" lang="lv-LV" sz="1200" spc="-1" strike="noStrike">
                <a:solidFill>
                  <a:srgbClr val="1b2764"/>
                </a:solidFill>
                <a:latin typeface="Lucida Sans"/>
              </a:rPr>
              <a:t>den Brink ea1994).</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tēšana-2</a:t>
            </a:r>
            <a:endParaRPr b="0" lang="en-US" sz="2400" spc="-1" strike="noStrike">
              <a:solidFill>
                <a:srgbClr val="c6168d"/>
              </a:solidFill>
              <a:latin typeface="Lucida Sans"/>
            </a:endParaRPr>
          </a:p>
        </p:txBody>
      </p:sp>
      <p:sp>
        <p:nvSpPr>
          <p:cNvPr id="99"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jā un psihiatrijā ir pieņemts, ka personības traucējumi ir saistīti ar ģenētiskiem faktoriem, arī pacienta audzināšanu un vidi, kurā tas uzturējies. Ģenētiskie faktori nosaka temperamenta tipu un indivīda jutīgumu. Šie ģenētiskie faktori, savukārt, nosaka pozitīvu vai negatīvu audzinšanas un vides ietekmi uz personību. Dzīves pieredze, arī nevērīga emocionāla attieksme, seksuāla izmantošana, vardarbība apkārtējā sabiedrībā arī var ietekmēt cilvēka temperamentu, jutīgumu un pašcieņas veidošanos, katras personības attīstībā </a:t>
            </a:r>
            <a:r>
              <a:rPr b="0" lang="lv-LV" sz="2000" spc="-1" strike="noStrike">
                <a:solidFill>
                  <a:srgbClr val="1b2764"/>
                </a:solidFill>
                <a:latin typeface="Lucida Sans"/>
              </a:rPr>
              <a:t>. </a:t>
            </a:r>
            <a:r>
              <a:rPr b="0" lang="lv-LV" sz="1200" spc="-1" strike="noStrike">
                <a:solidFill>
                  <a:srgbClr val="1b2764"/>
                </a:solidFill>
                <a:latin typeface="Lucida Sans"/>
              </a:rPr>
              <a:t>(Rinne, 2005).</a:t>
            </a:r>
            <a:endParaRPr b="0" lang="en-US" sz="1200" spc="-1" strike="noStrike">
              <a:solidFill>
                <a:srgbClr val="1b2764"/>
              </a:solidFill>
              <a:latin typeface="Lucida Sans"/>
            </a:endParaRPr>
          </a:p>
          <a:p>
            <a:pPr indent="262080">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nficējoties ar HIV, jūs nevarat iegūt personības traucējumus.  Taču iespējams, inficējoties ar HIV,var parādīties personības traucējumi, kuri agrāk bijuši latenti (slēpti).  </a:t>
            </a:r>
            <a:endParaRPr b="0" lang="en-US" sz="20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1200"/>
            </a:b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3</a:t>
            </a:r>
            <a:br>
              <a:rPr sz="2000"/>
            </a:br>
            <a:endParaRPr b="0" lang="en-US" sz="2000" spc="-1" strike="noStrike">
              <a:solidFill>
                <a:srgbClr val="c6168d"/>
              </a:solidFill>
              <a:latin typeface="Lucida Sans"/>
            </a:endParaRPr>
          </a:p>
        </p:txBody>
      </p:sp>
      <p:sp>
        <p:nvSpPr>
          <p:cNvPr id="101"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var izpausties kā depresija, trauksmes sajūta un pārmērīga kaitīgu vielu lietošana. Šīs pazīmes ir ļoti izplatītas. Pētījumi rāda, ka 75% pacientu ar personības traucējumiem cieš  no depresīviem traucējumiem, trauksmes sajūtas un no vēlmes pēc atkarību izraisošām vielām</a:t>
            </a:r>
            <a:r>
              <a:rPr b="0" lang="lv-LV" sz="2000" spc="-1" strike="noStrike">
                <a:solidFill>
                  <a:srgbClr val="1b2764"/>
                </a:solidFill>
                <a:latin typeface="Lucida Sans"/>
              </a:rPr>
              <a:t> </a:t>
            </a:r>
            <a:r>
              <a:rPr b="0" lang="lv-LV" sz="1200" spc="-1" strike="noStrike">
                <a:solidFill>
                  <a:srgbClr val="1b2764"/>
                </a:solidFill>
                <a:latin typeface="Lucida Sans"/>
              </a:rPr>
              <a:t>(Hengeveld 2005).</a:t>
            </a:r>
            <a:br>
              <a:rPr sz="1200"/>
            </a:b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 bieži gadās arī tad, ja cilvēkam ir vairāk kā viena personības traucējumu problēma. Daudzos gadījumos vienlaicīgi rodas vairāki personības traucējumi </a:t>
            </a:r>
            <a:r>
              <a:rPr b="0" lang="lv-LV" sz="1200" spc="-1" strike="noStrike">
                <a:solidFill>
                  <a:srgbClr val="1b2764"/>
                </a:solidFill>
                <a:latin typeface="Lucida Sans"/>
              </a:rPr>
              <a:t>(Brandt 2008).</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052280"/>
            <a:ext cx="8229600" cy="56163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bieži tiek diagnosticēti novērojot cilvēka uzvedību, kā viņš uzvedas saskarsmē ar citiem, kā kontrolē savas emociju izpausmes.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r svarīgi ņemt vērā arī citu aspektus, piemēram, fiziskās spējas, apkārtējo vidi, iespējamo iepriekšējās un patreizējās vides ietekmi uz personu. Šie aspekti jāņem vērā uzstādot diagnozi, jo uzvedības traucējumiem var būt ļoti dažādi iemesli</a:t>
            </a:r>
            <a:r>
              <a:rPr b="0" lang="lv-LV" sz="2000" spc="-1" strike="noStrike">
                <a:solidFill>
                  <a:srgbClr val="1b2764"/>
                </a:solidFill>
                <a:latin typeface="Lucida Sans"/>
              </a:rPr>
              <a:t>.</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Reizēm HIV pacientiem pamatā ir arī ārstējamas psihiskās problēmas, piemēram – demence (plānprātība) (www.hivguidelines.org, 2006).  Dažām antiretrovīrusu zālēm, tādām, kā efavirenzs , iespējamas blakusparādības.  Šie medikamenti var izraisīt izmaiņas uzvedībā un emociju izrādīšanā.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2</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341000"/>
            <a:ext cx="8229600" cy="532764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Ja kādam cilvēkam, ar netradicionālu orientāciju, ir nenosakāma skaita seksa partneri un viņš regulāri lieto alkoholu un apreibinošās vielas un viņam ir zema pašcieņa, tas vēl nenozīmē, ka viņam ir personības traucējumi. Daudzi seksa partneri un regulāra alkohola un narkotiku lietošana  var būt normāla uzvedība cilvēkam, ar netradicionālu seksuālo orientāciju. Zemu pašvērtējumu var izraisīt sarežģīts atteikšanās process no minētajiem ieradumiem</a:t>
            </a:r>
            <a:r>
              <a:rPr b="0" lang="lv-LV" sz="2000" spc="-1" strike="noStrike">
                <a:solidFill>
                  <a:srgbClr val="1b2764"/>
                </a:solidFill>
                <a:latin typeface="Lucida Sans"/>
              </a:rPr>
              <a:t> </a:t>
            </a:r>
            <a:r>
              <a:rPr b="0" lang="lv-LV" sz="1200" spc="-1" strike="noStrike">
                <a:solidFill>
                  <a:srgbClr val="1b2764"/>
                </a:solidFill>
                <a:latin typeface="Lucida Sans"/>
              </a:rPr>
              <a:t>(Singh 2006).</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Citiem cilvēkiem, kuri agri guvuši sliktu dzīves pieredzi, bieži ir uzvedības traucējumi, kuri nav saistīti ar personības traucējumiem.  Ja cilvēks, kura ģimenē notiek vardarbība, bieži ir nervozs, arī tad viņa uzvedība ir dīvaina. Šie notikumi ģimenē ir nomācoši, cilvēks ir nobijies, ne ar vienu par to nerunā, un ir viegli nodomāt, ka šeit ir runa par personības traucējumiem</a:t>
            </a:r>
            <a:r>
              <a:rPr b="0" lang="lv-LV" sz="2000" spc="-1" strike="noStrike">
                <a:solidFill>
                  <a:srgbClr val="1b2764"/>
                </a:solidFill>
                <a:latin typeface="Lucida Sans"/>
              </a:rPr>
              <a:t> </a:t>
            </a:r>
            <a:r>
              <a:rPr b="0" lang="lv-LV" sz="1200" spc="-1" strike="noStrike">
                <a:solidFill>
                  <a:srgbClr val="1b2764"/>
                </a:solidFill>
                <a:latin typeface="Lucida Sans"/>
              </a:rPr>
              <a:t>(www.hivguidelines.org 2006).</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1:03:06Z</dcterms:modified>
  <cp:revision>401</cp:revision>
  <dc:subject/>
  <dc:title>The treatment of alcohol dependent patients with a comorbid anxiety disorder</dc:title>
</cp:coreProperties>
</file>