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125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6168d"/>
                </a:solidFill>
                <a:latin typeface="Lucida Sans"/>
              </a:rPr>
              <a:t> </a:t>
            </a:r>
            <a:r>
              <a:rPr b="0" lang="lv-LV" sz="2000" spc="-1" strike="noStrike">
                <a:solidFill>
                  <a:srgbClr val="c6168d"/>
                </a:solidFill>
                <a:latin typeface="Lucida Sans"/>
              </a:rPr>
              <a:t>	</a:t>
            </a:r>
            <a:r>
              <a:rPr b="0" lang="lv-LV" sz="2400" spc="-1" strike="noStrike">
                <a:solidFill>
                  <a:srgbClr val="c6168d"/>
                </a:solidFill>
                <a:latin typeface="Arial Black"/>
              </a:rPr>
              <a:t>6. Modulis </a:t>
            </a:r>
            <a:r>
              <a:rPr b="0" lang="nl-NL" sz="2400" spc="-1" strike="noStrike">
                <a:solidFill>
                  <a:srgbClr val="c6168d"/>
                </a:solidFill>
                <a:latin typeface="Arial Black"/>
              </a:rPr>
              <a:t>–</a:t>
            </a:r>
            <a:r>
              <a:rPr b="0" lang="lv-LV" sz="2400" spc="-1" strike="noStrike">
                <a:solidFill>
                  <a:srgbClr val="c6168d"/>
                </a:solidFill>
                <a:latin typeface="Arial Black"/>
              </a:rPr>
              <a:t> psihologi, 7. nodaļa</a:t>
            </a:r>
            <a:endParaRPr b="0" lang="en-US" sz="2400" spc="-1" strike="noStrike">
              <a:solidFill>
                <a:srgbClr val="c6168d"/>
              </a:solidFill>
              <a:latin typeface="Lucida Sans"/>
            </a:endParaRPr>
          </a:p>
        </p:txBody>
      </p:sp>
      <p:sp>
        <p:nvSpPr>
          <p:cNvPr id="83" name="PlaceHolder 2"/>
          <p:cNvSpPr>
            <a:spLocks noGrp="1"/>
          </p:cNvSpPr>
          <p:nvPr>
            <p:ph/>
          </p:nvPr>
        </p:nvSpPr>
        <p:spPr>
          <a:xfrm>
            <a:off x="303120" y="2205000"/>
            <a:ext cx="8229600" cy="373392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Arial Black"/>
              </a:rPr>
              <a:t>Skumja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Annemiek Schadé, MD, PhD</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Expert Center and treatment team HIV and Mental Health</a:t>
            </a:r>
            <a:r>
              <a:rPr b="0" lang="lv-LV" sz="1400" spc="-1" strike="noStrike">
                <a:solidFill>
                  <a:srgbClr val="1b2764"/>
                </a:solidFill>
                <a:latin typeface="Arial"/>
                <a:ea typeface="Arial"/>
              </a:rPr>
              <a:t> Ekspertu</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GGZ inGeest/ VU Medical Center</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Arial"/>
                <a:ea typeface="Arial"/>
              </a:rPr>
              <a:t>Amsterdam</a:t>
            </a:r>
            <a:endParaRPr b="0" lang="en-US" sz="1400" spc="-1" strike="noStrike">
              <a:solidFill>
                <a:srgbClr val="1b2764"/>
              </a:solidFill>
              <a:latin typeface="Lucida Sans"/>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764"/>
                </a:solidFill>
                <a:latin typeface="Arial"/>
                <a:ea typeface="Arial"/>
              </a:rPr>
              <a:t>The Netherlands</a:t>
            </a:r>
            <a:endParaRPr b="0" lang="en-US" sz="14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0" name=""/>
          <p:cNvSpPr txBox="1"/>
          <p:nvPr/>
        </p:nvSpPr>
        <p:spPr>
          <a:xfrm>
            <a:off x="303120" y="1412640"/>
            <a:ext cx="8229600" cy="4730760"/>
          </a:xfrm>
          <a:prstGeom prst="rect">
            <a:avLst/>
          </a:prstGeom>
          <a:noFill/>
          <a:ln w="0">
            <a:noFill/>
          </a:ln>
        </p:spPr>
        <p:txBody>
          <a:bodyPr anchor="t">
            <a:normAutofit fontScale="99000"/>
          </a:bodyPr>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lvēkiem ar HIV, ir vairāki periodi, ko varētu nosaukt par sērām. Diapazonā no “normālas” skumju reakcijas līdz garīgu traucējumu attīstībai. Drīz pēc pozitīva HIV testa rezultāta, dažas nedēļas var sekot spēcīga emocionālā reakcija, salīdzinoši ar pirmo Boulbija (Bowlby) sēru posmu. Varētu būt neticības izjūtas un sastingums. Tas ir, ja ziņa nav pieņemta vai izprasta līdz galam.</a:t>
            </a:r>
            <a:endParaRPr b="0" lang="en-US" sz="1800" spc="-1" strike="noStrike">
              <a:solidFill>
                <a:srgbClr val="1b2764"/>
              </a:solidFill>
              <a:latin typeface="Lucida Sans"/>
            </a:endParaRPr>
          </a:p>
          <a:p>
            <a:pPr marL="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394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Kad cilvēki ar primāro HIV infekciju ir nopietni slimi, reizēm seko ilgs fiziskās atveseļošanās periods. Tas ir skaidri saprotams, cik radikāli ir mainījusies dzīve uz visiem laikiem. Šķiet ir jānotiek dzīves satura un jēgas pārorientēšanai.</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0004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2"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iem cilvēkiem ar HIV diagnozi ir nepieciešams nepārtraukti pielāgoties mainīgajiem apstākļiem, piemērām, antiretrovīrusu medikamentu lietošanas sākumā. Arī sastapšanās ar nozīmīgām grūtībām (sarežģījumiem) pieprasa pielāgošanos. Tādas kā: kognitīvie traucējumi, vai citas (redzamas) fiziskās grūtības. Tas ir tā, kā, ja cilvēki atkal uztaisa soli atpakaļ HIV pieņemšanas procesā. To varētu pavadīt ar intensīvas bailes, nolieguma, skumju vai dusmu sajūtas.</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33360"/>
            <a:ext cx="8229600" cy="57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4" name=""/>
          <p:cNvSpPr txBox="1"/>
          <p:nvPr/>
        </p:nvSpPr>
        <p:spPr>
          <a:xfrm>
            <a:off x="285840" y="1143000"/>
            <a:ext cx="8229600" cy="5214960"/>
          </a:xfrm>
          <a:prstGeom prst="rect">
            <a:avLst/>
          </a:prstGeom>
          <a:noFill/>
          <a:ln w="0">
            <a:noFill/>
          </a:ln>
        </p:spPr>
        <p:txBody>
          <a:bodyPr anchor="t">
            <a:normAutofit/>
          </a:bodyPr>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s un skumjas kā HIV rezultāts netradicionālās orientācijas vīriešu vidū ir sarežģītas daudzu specifisku apstākļu dēļ.</a:t>
            </a: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Pēdējos gados viņi bieži zaudēja savus dzīvesbiedrus un draugus. It sevišķi, tagad vidējā (pusmūža) vecumā vīrieši, kam nācās pārdzīvot šo traumatisko pagātnes stāstu. Viņi dzīvo ar bailēm un draudiem no atmiņām par pirmajiem HIV epidēmijas gadiem un vairāku radinieku zaudējumiem. Reizēm sēras no vairāku radinieku zaudējuma uzliek smagu nastu. Tas ka viņi paši ir HIV inficēti,  bieži vien ir papildus emocionālais apgrūtinājums.</a:t>
            </a:r>
            <a:endParaRPr b="0" lang="en-US" sz="1800" spc="-1" strike="noStrike">
              <a:solidFill>
                <a:srgbClr val="1b2764"/>
              </a:solidFill>
              <a:latin typeface="Lucida Sans"/>
            </a:endParaRPr>
          </a:p>
          <a:p>
            <a:pPr marL="343080" indent="-8100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lv-LV" sz="1800" spc="-1" strike="noStrike">
                <a:solidFill>
                  <a:srgbClr val="1b2764"/>
                </a:solidFill>
                <a:latin typeface="Arial"/>
                <a:ea typeface="Arial"/>
              </a:rPr>
              <a:t>Dažādu zaudējumu dēļ rodas “izdzīvošanas vaina”, kas ir saistīta ar vainas izjūtu, atbildību un kaunu.</a:t>
            </a:r>
            <a:endParaRPr b="0" lang="en-US" sz="1800" spc="-1" strike="noStrike">
              <a:solidFill>
                <a:srgbClr val="1b2764"/>
              </a:solidFill>
              <a:latin typeface="Lucida Sans"/>
            </a:endParaRPr>
          </a:p>
          <a:p>
            <a:pPr marL="343080" indent="-810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6" name=""/>
          <p:cNvSpPr txBox="1"/>
          <p:nvPr/>
        </p:nvSpPr>
        <p:spPr>
          <a:xfrm>
            <a:off x="303120" y="1052280"/>
            <a:ext cx="8229600" cy="532908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stoņdesmito gadu beigās, tika atrasta liela sēru dominēšana netradicionāli orientēto vīriešu vidē Ņujorkā, un Sanfrancisko un noteikta kā sekundāra epidēmija (Martin 1988). Šķiet ir savstarpēja saistība starp psiholoģisko simptomu klātbūtni un pārdzīvoto agrīno AIDS epidēmiju. Tas tiek minēts arī ar postraumatiskā stresa simptomu rašanos kombinācijā ar pašiznīcinošu riska uzvedību un samazinātu ikdienas darbību (funkcionēšanu). (Cox 2007).</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Citi šķēršļi HIV pārstrādē ir piedzīvotas stigmatizācijas un diskriminācijas sekas un fakts, ka HIV ir saistīts ar seksuālām problēmām, arī HIV inficētām sievietēm. Skumjas un zaudējuma process viņām dažreiz ir arī sarežģīts ar noslēgtību un nošķirtību (izolēšanu). Vainas izjūta un kauns bieži ir klāt un padara viņus viegli ievainojamus depresijas simptomu attīstība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as cilvēkiem ar HIV</a:t>
            </a:r>
            <a:endParaRPr b="0" lang="en-US" sz="2400" spc="-1" strike="noStrike">
              <a:solidFill>
                <a:srgbClr val="c6168d"/>
              </a:solidFill>
              <a:latin typeface="Lucida Sans"/>
            </a:endParaRPr>
          </a:p>
        </p:txBody>
      </p:sp>
      <p:sp>
        <p:nvSpPr>
          <p:cNvPr id="108"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pstrīdami, taču vairāki pētījumi liecina par savstarpējo saistību starp ar HIV saistītām skumjām un izmaiņām imunitātē. Kad cilvēki spēj izjust skumjas kā jēgpilnu dzīves pieredzi, tas ir saistīts ar lēnāku CD4-šūnu skaita samazināšanos un veselības stāvokļa uzlabošanos. (Bower, 1998).</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zīvojošana ar vainas izjūtu un depresiju par dzīvesbiedra vai drauga ar HIV diagnozi nāvi ir saistīta ar CD4-šūnu skaita straujāku pazemināšanos. </a:t>
            </a:r>
            <a:r>
              <a:rPr b="0" lang="ru-RU" sz="2000" spc="-1" strike="noStrike">
                <a:solidFill>
                  <a:srgbClr val="1b2764"/>
                </a:solidFill>
                <a:latin typeface="Arial"/>
                <a:ea typeface="Arial"/>
              </a:rPr>
              <a:t>(Kemeny et al 1995).</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0" name=""/>
          <p:cNvSpPr txBox="1"/>
          <p:nvPr/>
        </p:nvSpPr>
        <p:spPr>
          <a:xfrm>
            <a:off x="285840" y="1213920"/>
            <a:ext cx="8229600" cy="49453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ažādi pētījumi liecina, ka normālu nesarežģītu skumju gadījumos, terapija bieži vien nav nepieciešama. Uzraudzība un ārstēšana šķiet, dod pozitīvu ietekmi uz cilvēkiem sarežģītos skumju gadījumos. Ir svarīgi, lai cilvēki saņemtu pienācīgu ārstēšanu un iemācītos aktīvas pārvarēšanas stratēģijas, kas ļauj viņiem tikt galā ar zaudējumu. (Goforth et al 2009). </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Tas ir pretstatā pasīvām stratēģijām, emociju apspiešanai un noliegumam priekšplānā. Turklāt individuālajā ārstēšanā saruna par sērām, saistītām ar HIV ir ļoti vērtīg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Ārstēšana</a:t>
            </a:r>
            <a:endParaRPr b="0" lang="en-US" sz="2400" spc="-1" strike="noStrike">
              <a:solidFill>
                <a:srgbClr val="c6168d"/>
              </a:solidFill>
              <a:latin typeface="Lucida Sans"/>
            </a:endParaRPr>
          </a:p>
        </p:txBody>
      </p:sp>
      <p:sp>
        <p:nvSpPr>
          <p:cNvPr id="112" name=""/>
          <p:cNvSpPr txBox="1"/>
          <p:nvPr/>
        </p:nvSpPr>
        <p:spPr>
          <a:xfrm>
            <a:off x="285840" y="1357200"/>
            <a:ext cx="8229600" cy="45259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Ārstēšana izmantojot zāles ir norādīta sarežģītajos skumju gadījumos ar depresīviem traucējumiem vai iepriekšējo psihiatrisko traucējumu atdzimšanas gadījumos.</a:t>
            </a: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Profesionāļiem ir ļoti svarīgi atšķirt normālo sēru procesu no psihopatoloģijas, kas ir jāārstē. Piemērām, nav ieteicams uzreiz uzsākt ārstēšanu, tik līdz pacients uzzina, ka ir HIV pozitīvs, ja vien viņš/viņa nav suicidāls. Lielākoties smagas jūtas un simptomi pāries vai varētu tikt “ārstēti” ar draugu un ģimenes palīdzīb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rituāli</a:t>
            </a:r>
            <a:endParaRPr b="0" lang="en-US" sz="2400" spc="-1" strike="noStrike">
              <a:solidFill>
                <a:srgbClr val="c6168d"/>
              </a:solidFill>
              <a:latin typeface="Lucida Sans"/>
            </a:endParaRPr>
          </a:p>
        </p:txBody>
      </p:sp>
      <p:sp>
        <p:nvSpPr>
          <p:cNvPr id="114" name=""/>
          <p:cNvSpPr txBox="1"/>
          <p:nvPr/>
        </p:nvSpPr>
        <p:spPr>
          <a:xfrm>
            <a:off x="303120" y="1413000"/>
            <a:ext cx="8229600" cy="4525920"/>
          </a:xfrm>
          <a:prstGeom prst="rect">
            <a:avLst/>
          </a:prstGeom>
          <a:noFill/>
          <a:ln w="0">
            <a:noFill/>
          </a:ln>
        </p:spPr>
        <p:txBody>
          <a:bodyPr anchor="t">
            <a:normAutofit/>
          </a:bodyPr>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Rituāliem ir svarīga loma zaudējumu apstrādāšanā. Atbildot uz to, ko HIV izraisīja astoņdesmito gadu sākumā, Amerikas Savienotājās valstīs radās jauns rituāls, “AIDS piemiņas diena”. Ikgadējs, vispasaules organizētais memoriāls, lai atspoguļot HIV ietekmi. </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eatņemama programmas sastāvdaļa ir skaļi teikt mirušo cilvēku vārdus un uzkārt desmitiem segas vai atmiņas drānas. “AIDS piemiņas dienas” pieminēšana ir sapulces vieta rituāliem no atšķirīgām kultūrām un cilvēkiem no dažādam vidē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5840" y="499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Arial Black"/>
              </a:rPr>
              <a:t>Ievads</a:t>
            </a:r>
            <a:endParaRPr b="0" lang="en-US" sz="2400" spc="-1" strike="noStrike">
              <a:solidFill>
                <a:srgbClr val="c6168d"/>
              </a:solidFill>
              <a:latin typeface="Lucida Sans"/>
            </a:endParaRPr>
          </a:p>
        </p:txBody>
      </p:sp>
      <p:sp>
        <p:nvSpPr>
          <p:cNvPr id="85" name=""/>
          <p:cNvSpPr txBox="1"/>
          <p:nvPr/>
        </p:nvSpPr>
        <p:spPr>
          <a:xfrm>
            <a:off x="250920" y="1125360"/>
            <a:ext cx="8229600" cy="5159520"/>
          </a:xfrm>
          <a:prstGeom prst="rect">
            <a:avLst/>
          </a:prstGeom>
          <a:noFill/>
          <a:ln w="0">
            <a:noFill/>
          </a:ln>
        </p:spPr>
        <p:txBody>
          <a:bodyPr anchor="t">
            <a:normAutofit/>
          </a:bodyPr>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Atšķirībā no agrīnas HIV epidēmijas, HIV vairs nav uzreiz dzīvību apdraudoša slimība. Ar antiretrovīrusu zāļu parādīšanos (ARVT) , HIV ir kļuvusi ārstējama infekcijas slimība, tomēr cilvēki joprojām mirst no tā.</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Zaudējumi un skumjas (bēdas) bieži ir saistīti ar mīļa cilvēka nāvi. Cilvēki ar HIV diagnozi arī piedzīvo zaudējumu un sēras veselības un dzīvotspējas nozīmē. </a:t>
            </a: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marL="343080" algn="just">
              <a:lnSpc>
                <a:spcPct val="15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Šī daļa ir vērsta uz skumju jēdziena izzināšanu no dažādiem leņķiem. Mēs arī apskatīsim, cik lielu lomu spēlē zaudējums un skumjas cilvēka dzīvē ar HIV diagnozi.</a:t>
            </a:r>
            <a:endParaRPr b="0" lang="en-US" sz="1800" spc="-1" strike="noStrike">
              <a:solidFill>
                <a:srgbClr val="1b2764"/>
              </a:solidFill>
              <a:latin typeface="Lucida Sans"/>
            </a:endParaRPr>
          </a:p>
          <a:p>
            <a:pPr marL="343080">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357120"/>
            <a:ext cx="82296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br>
              <a:rPr sz="2400"/>
            </a:br>
            <a:br>
              <a:rPr sz="2400"/>
            </a:br>
            <a:r>
              <a:rPr b="0" lang="lv-LV" sz="2400" spc="-1" strike="noStrike">
                <a:solidFill>
                  <a:srgbClr val="c6168d"/>
                </a:solidFill>
                <a:latin typeface="Lucida Sans"/>
              </a:rPr>
              <a:t>	</a:t>
            </a:r>
            <a:r>
              <a:rPr b="0" lang="lv-LV" sz="2400" spc="-1" strike="noStrike">
                <a:solidFill>
                  <a:srgbClr val="c6168d"/>
                </a:solidFill>
                <a:latin typeface="Arial Black"/>
              </a:rPr>
              <a:t>Skumju definīcija</a:t>
            </a:r>
            <a:br>
              <a:rPr sz="2400"/>
            </a:br>
            <a:br>
              <a:rPr sz="2400"/>
            </a:br>
            <a:endParaRPr b="0" lang="en-US" sz="2400" spc="-1" strike="noStrike">
              <a:solidFill>
                <a:srgbClr val="c6168d"/>
              </a:solidFill>
              <a:latin typeface="Lucida Sans"/>
            </a:endParaRPr>
          </a:p>
        </p:txBody>
      </p:sp>
      <p:sp>
        <p:nvSpPr>
          <p:cNvPr id="87" name=""/>
          <p:cNvSpPr txBox="1"/>
          <p:nvPr/>
        </p:nvSpPr>
        <p:spPr>
          <a:xfrm>
            <a:off x="303120" y="1413000"/>
            <a:ext cx="8229600" cy="487368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airākos gadījumos, skumjas ir veselīga reakcija uz lieliem zaudējumiem dzīvē. </a:t>
            </a:r>
            <a:endParaRPr b="0" lang="en-US" sz="2000" spc="-1" strike="noStrike">
              <a:solidFill>
                <a:srgbClr val="1b2764"/>
              </a:solidFill>
              <a:latin typeface="Lucida Sans"/>
            </a:endParaRPr>
          </a:p>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Veidu, kā cilvēks reaģē, daļēji ietekmē ar iepriekšējo zaudējumu pieredze. Citi faktori, kas spēlē lomu, personības īpašības, sociālā vide, kultūras tradīcijas un reliģiskā pārliecība.</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Boulbijs (Bowlby) (1986) izšķir četras sēru fāzes (posmus). Ne visi iziet visus posmus vienādi, un ne katrs iet cauri visiem posmiem vienā secīb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333000"/>
            <a:ext cx="8229600" cy="43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 </a:t>
            </a:r>
            <a:r>
              <a:rPr b="0" lang="nl-NL" sz="2400" spc="-1" strike="noStrike">
                <a:solidFill>
                  <a:srgbClr val="c6168d"/>
                </a:solidFill>
                <a:latin typeface="Arial Black"/>
              </a:rPr>
              <a:t>Bo</a:t>
            </a:r>
            <a:r>
              <a:rPr b="0" lang="lv-LV" sz="2400" spc="-1" strike="noStrike">
                <a:solidFill>
                  <a:srgbClr val="c6168d"/>
                </a:solidFill>
                <a:latin typeface="Arial Black"/>
              </a:rPr>
              <a:t>u</a:t>
            </a:r>
            <a:r>
              <a:rPr b="0" lang="nl-NL" sz="2400" spc="-1" strike="noStrike">
                <a:solidFill>
                  <a:srgbClr val="c6168d"/>
                </a:solidFill>
                <a:latin typeface="Arial Black"/>
              </a:rPr>
              <a:t>l</a:t>
            </a:r>
            <a:r>
              <a:rPr b="0" lang="lv-LV" sz="2400" spc="-1" strike="noStrike">
                <a:solidFill>
                  <a:srgbClr val="c6168d"/>
                </a:solidFill>
                <a:latin typeface="Arial Black"/>
              </a:rPr>
              <a:t>bijs (Bowlby)</a:t>
            </a:r>
            <a:endParaRPr b="0" lang="en-US" sz="2400" spc="-1" strike="noStrike">
              <a:solidFill>
                <a:srgbClr val="c6168d"/>
              </a:solidFill>
              <a:latin typeface="Lucida Sans"/>
            </a:endParaRPr>
          </a:p>
        </p:txBody>
      </p:sp>
      <p:sp>
        <p:nvSpPr>
          <p:cNvPr id="89" name=""/>
          <p:cNvSpPr txBox="1"/>
          <p:nvPr/>
        </p:nvSpPr>
        <p:spPr>
          <a:xfrm>
            <a:off x="303120" y="1052280"/>
            <a:ext cx="8229600" cy="4886280"/>
          </a:xfrm>
          <a:prstGeom prst="rect">
            <a:avLst/>
          </a:prstGeom>
          <a:noFill/>
          <a:ln w="0">
            <a:noFill/>
          </a:ln>
        </p:spPr>
        <p:txBody>
          <a:bodyPr anchor="t">
            <a:normAutofit/>
          </a:bodyPr>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1b2764"/>
                </a:solidFill>
                <a:uFillTx/>
                <a:latin typeface="Arial"/>
                <a:ea typeface="Arial"/>
              </a:rPr>
              <a:t>1.fāze:</a:t>
            </a:r>
            <a:r>
              <a:rPr b="0" lang="lv-LV" sz="1800" spc="-1" strike="noStrike" u="sng">
                <a:solidFill>
                  <a:srgbClr val="1b2764"/>
                </a:solidFill>
                <a:uFillTx/>
                <a:latin typeface="Arial"/>
                <a:ea typeface="Arial"/>
              </a:rPr>
              <a:t> Šoks un sastingum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ā ir pirmā reakcija, dzirdot sliktas ziņas. Neticība un noliegums parādās priekšplānā, tas viss ir nereāl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2.fāze: </a:t>
            </a:r>
            <a:r>
              <a:rPr b="0" lang="lv-LV" sz="1800" spc="-1" strike="noStrike" u="sng">
                <a:solidFill>
                  <a:srgbClr val="1b2764"/>
                </a:solidFill>
                <a:uFillTx/>
                <a:latin typeface="Arial"/>
                <a:ea typeface="Arial"/>
              </a:rPr>
              <a:t>Sacelšanās pret zaudējumu vai ilgas pēc mīļa cilvēk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Sēras par mirušo cilvēku tiek pavadītas ar skumju sajūtām, trauksmi, dusmām, vainas izjūtu, vai vēlēšanos veikt pārmaiņas.</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3.fāze: </a:t>
            </a:r>
            <a:r>
              <a:rPr b="0" lang="lv-LV" sz="1800" spc="-1" strike="noStrike" u="sng">
                <a:solidFill>
                  <a:srgbClr val="1b2764"/>
                </a:solidFill>
                <a:uFillTx/>
                <a:latin typeface="Arial"/>
                <a:ea typeface="Arial"/>
              </a:rPr>
              <a:t>Dezorganizācij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tad, kad zaudējuma realitāte tiek arvien vairāk un vairāk pieņemta. Dzīve, kāda tā bija agrāk, neatgriezīsies un nākotne ir nenoteikta. Šī fāze var izraisīt depresijas un izmisuma izjūtas, vai tendenci uz nošķirtību.</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lv-LV" sz="1800" spc="-1" strike="noStrike" u="sng">
                <a:solidFill>
                  <a:srgbClr val="1b2764"/>
                </a:solidFill>
                <a:uFillTx/>
                <a:latin typeface="Arial"/>
                <a:ea typeface="Arial"/>
              </a:rPr>
              <a:t>4.fāze:</a:t>
            </a:r>
            <a:r>
              <a:rPr b="0" lang="lv-LV" sz="1800" spc="-1" strike="noStrike" u="sng">
                <a:solidFill>
                  <a:srgbClr val="1b2764"/>
                </a:solidFill>
                <a:uFillTx/>
                <a:latin typeface="Arial"/>
                <a:ea typeface="Arial"/>
              </a:rPr>
              <a:t> Pārstrukturēšana</a:t>
            </a:r>
            <a:endParaRPr b="0" lang="en-US" sz="1800" spc="-1" strike="noStrike">
              <a:solidFill>
                <a:srgbClr val="1b2764"/>
              </a:solidFill>
              <a:latin typeface="Lucida Sans"/>
            </a:endParaRPr>
          </a:p>
          <a:p>
            <a:pPr marL="343080" indent="-81000" algn="just">
              <a:lnSpc>
                <a:spcPct val="100000"/>
              </a:lnSpc>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1b2764"/>
                </a:solidFill>
                <a:latin typeface="Arial"/>
                <a:ea typeface="Arial"/>
              </a:rPr>
              <a:t>Tas ir atgūšanas, pieņemšanas un jauna līdzsvara atrašanas posms. Reizēm ir sāpju un zaudējuma izjūtas, bet atmiņas vairs nav neizturamas.</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2920" y="713880"/>
            <a:ext cx="8229600" cy="5737320"/>
          </a:xfrm>
          <a:prstGeom prst="rect">
            <a:avLst/>
          </a:prstGeom>
          <a:noFill/>
          <a:ln w="0">
            <a:noFill/>
          </a:ln>
        </p:spPr>
        <p:txBody>
          <a:bodyPr anchor="t">
            <a:normAutofit/>
          </a:bodyPr>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Sēras var uzskatīt kā emocionālo, fizisko, kognitīvo un uzvedības reakciju kopumu, kas parādās pēc cilvēka zaudējuma (bojāejas), ar kuru bija ievērojami tuvas attiecības. (Prince et al 2006). Skumjas pēc mīļa cilvēka zaudējuma atspoguļojas katras ikdienas darbības līmenī: izjūtās, ķermeņa sajūtās, domāšanā un uzvedībā. Bet arī attieksme pret HIV ir uzskatāma kā reakcija uz veselības zaudējumu un slimību mūža garumā, kas bieži ir stigmatizācijas un tabu ieskaut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1b2764"/>
                </a:solidFill>
                <a:latin typeface="Arial"/>
                <a:ea typeface="Arial"/>
              </a:rPr>
              <a:t>Var rasties plašs reakciju spektrs, tai skaitā:</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Emocionālās reakcijas: </a:t>
            </a:r>
            <a:r>
              <a:rPr b="0" lang="lv-LV" sz="1900" spc="-1" strike="noStrike">
                <a:solidFill>
                  <a:srgbClr val="1b2764"/>
                </a:solidFill>
                <a:latin typeface="Arial"/>
                <a:ea typeface="Arial"/>
              </a:rPr>
              <a:t>skumjas, dusmas, bailes, vainas izjūta, bezspēks. Pat pozitīvam emocijām var būt nozīme, atvieglojums un apmierinātība ar apkārtējiem notikumiem dzīves beigā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Fiziskās reakcijas: </a:t>
            </a:r>
            <a:r>
              <a:rPr b="0" lang="lv-LV" sz="1900" spc="-1" strike="noStrike">
                <a:solidFill>
                  <a:srgbClr val="1b2764"/>
                </a:solidFill>
                <a:latin typeface="Arial"/>
                <a:ea typeface="Arial"/>
              </a:rPr>
              <a:t>miega traucējumi, samazināta ēstgriba, ķermeņa sāpes vai saspringuma galvassāpes.</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Kognitīvās reakcijas: </a:t>
            </a:r>
            <a:r>
              <a:rPr b="0" lang="lv-LV" sz="1900" spc="-1" strike="noStrike">
                <a:solidFill>
                  <a:srgbClr val="1b2764"/>
                </a:solidFill>
                <a:latin typeface="Arial"/>
                <a:ea typeface="Arial"/>
              </a:rPr>
              <a:t>koncentrēšanas zudums, pazemināts pašvērtējums, bezcerība</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900" spc="-1" strike="noStrike">
                <a:solidFill>
                  <a:srgbClr val="1b2764"/>
                </a:solidFill>
                <a:latin typeface="Arial"/>
                <a:ea typeface="Arial"/>
              </a:rPr>
              <a:t>Uzvedības reakcijas: </a:t>
            </a:r>
            <a:r>
              <a:rPr b="0" lang="lv-LV" sz="1900" spc="-1" strike="noStrike">
                <a:solidFill>
                  <a:srgbClr val="1b2764"/>
                </a:solidFill>
                <a:latin typeface="Arial"/>
                <a:ea typeface="Arial"/>
              </a:rPr>
              <a:t>atteikšanās, uzbudinājums (satraukums), meklēšanas uzvedība, izvairīšanās no cilvēkiem vai situācijām.</a:t>
            </a:r>
            <a:endParaRPr b="0" lang="en-US" sz="1900" spc="-1" strike="noStrike">
              <a:solidFill>
                <a:srgbClr val="1b2764"/>
              </a:solidFill>
              <a:latin typeface="Lucida Sans"/>
            </a:endParaRPr>
          </a:p>
          <a:p>
            <a:pPr marL="343080" indent="-81000" algn="just">
              <a:lnSpc>
                <a:spcPct val="100000"/>
              </a:lnSpc>
              <a:spcBef>
                <a:spcPts val="476"/>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2" name=""/>
          <p:cNvSpPr txBox="1"/>
          <p:nvPr/>
        </p:nvSpPr>
        <p:spPr>
          <a:xfrm>
            <a:off x="303120" y="1412640"/>
            <a:ext cx="8229600" cy="4802040"/>
          </a:xfrm>
          <a:prstGeom prst="rect">
            <a:avLst/>
          </a:prstGeom>
          <a:noFill/>
          <a:ln w="0">
            <a:noFill/>
          </a:ln>
        </p:spPr>
        <p:txBody>
          <a:bodyPr anchor="t">
            <a:normAutofit fontScale="94000"/>
          </a:bodyPr>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Sēras ir darbības vārds un ir saistīts ar sēru uzdevumiem, kas  jāizpilda, lai atjaunotu līdzsvaru un pabeigtu skumju procesu. (Will, 1992. Šis uzdevums ietver aktīvu procesu visā sēru periodā un var iet kopā.)</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Četri skumju uzdevumi:</a:t>
            </a:r>
            <a:endParaRPr b="0" lang="en-US" sz="2000" spc="-1" strike="noStrike">
              <a:solidFill>
                <a:srgbClr val="1b2764"/>
              </a:solidFill>
              <a:latin typeface="Lucida Sans"/>
            </a:endParaRPr>
          </a:p>
          <a:p>
            <a:pPr marL="32220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1. Realitātes un zaudējuma pieņemšana. Lai pieņemtu zaudēšanas realitāti, ir svarīgi zināt, kas notika dzīvē. Cilvēkiem ar HIV, tas varētu būt svarīgi procesam, ka viņi zina, kā vai kad kļuva inficēti. Ja viņi neatrod paskaidrojumu, tad pieņemšanas process var aizkavētie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uzdevumi</a:t>
            </a:r>
            <a:endParaRPr b="0" lang="en-US" sz="2400" spc="-1" strike="noStrike">
              <a:solidFill>
                <a:srgbClr val="c6168d"/>
              </a:solidFill>
              <a:latin typeface="Lucida Sans"/>
            </a:endParaRPr>
          </a:p>
        </p:txBody>
      </p:sp>
      <p:sp>
        <p:nvSpPr>
          <p:cNvPr id="94" name=""/>
          <p:cNvSpPr txBox="1"/>
          <p:nvPr/>
        </p:nvSpPr>
        <p:spPr>
          <a:xfrm>
            <a:off x="303120" y="1413000"/>
            <a:ext cx="8229600" cy="4525920"/>
          </a:xfrm>
          <a:prstGeom prst="rect">
            <a:avLst/>
          </a:prstGeom>
          <a:noFill/>
          <a:ln w="0">
            <a:noFill/>
          </a:ln>
        </p:spPr>
        <p:txBody>
          <a:bodyPr anchor="t">
            <a:normAutofit fontScale="96000"/>
          </a:bodyPr>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2. Izpratne par zaudējuma sāpēm. Ir svarīgi atpazīt mainīgās emocijas, saistītas ar šo uzdevumu, un izteikt, ko tās dod.</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3. Pielāgošanas jaunai dzīvei. Šis uzdevums arī ir piemērots veselības zaudējumam no HIV. Tas prasa korekciju daudzās ikdienas dzīves jomās.</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 </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4. Turpināt dzīvot. Uzņemt saistību ar HIV nozīmē, ka kāds jūt, ka HIV ir kļuvis par neatņemamu dzīves sastāvdaļu, un ir iespējams dzīvot labi.</a:t>
            </a:r>
            <a:endParaRPr b="0" lang="en-US" sz="2000" spc="-1" strike="noStrike">
              <a:solidFill>
                <a:srgbClr val="1b2764"/>
              </a:solidFill>
              <a:latin typeface="Lucida Sans"/>
            </a:endParaRPr>
          </a:p>
          <a:p>
            <a:pPr marL="329040" indent="-77760" algn="just">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Arial"/>
                <a:ea typeface="Arial"/>
              </a:rPr>
              <a:t>Lai izietu cauri sēru noslogojumam ir nepieciešams nepalikt vienam. Sociālais tīkls ir svarīgs avots zaudējuma pārstrādāšanas laikā un tā sekās.</a:t>
            </a:r>
            <a:endParaRPr b="0" lang="en-US" sz="2000" spc="-1" strike="noStrike">
              <a:solidFill>
                <a:srgbClr val="1b2764"/>
              </a:solidFill>
              <a:latin typeface="Lucida Sans"/>
            </a:endParaRPr>
          </a:p>
          <a:p>
            <a:pPr marL="329040" indent="-77760">
              <a:lnSpc>
                <a:spcPct val="10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6" name=""/>
          <p:cNvSpPr txBox="1"/>
          <p:nvPr/>
        </p:nvSpPr>
        <p:spPr>
          <a:xfrm>
            <a:off x="285840" y="1499760"/>
            <a:ext cx="8229600" cy="4232520"/>
          </a:xfrm>
          <a:prstGeom prst="rect">
            <a:avLst/>
          </a:prstGeom>
          <a:noFill/>
          <a:ln w="0">
            <a:noFill/>
          </a:ln>
        </p:spPr>
        <p:txBody>
          <a:bodyPr anchor="t">
            <a:normAutofit/>
          </a:bodyPr>
          <a:p>
            <a:pPr marL="3430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Nav iespējams prognozēt, kurā brīdī zaudējums tiek pārstrādāts. Cilvēkiem ir nepieciešams vairāk vai mazāk laika, no dažām nedēļām līdz vairākiem gadiem. Reizēm sāpes nekad pilnībā neaiziet prom, tomēr dzīve atkal ir uztverama par jēgpilnu. Cilvēkiem ar HIV infekciju, dažreiz joprojām ir neatrisināta pieredze, kā ģimenes homoseksualitātes nepieņemšana, kas var veicināt sēru procesu. Vecā un žēlabainā pagātnes sāpju pieredze aktivizējas no jauna.</a:t>
            </a:r>
            <a:endParaRPr b="0" lang="en-US" sz="2000" spc="-1" strike="noStrike">
              <a:solidFill>
                <a:srgbClr val="1b2764"/>
              </a:solidFill>
              <a:latin typeface="Lucida Sans"/>
            </a:endParaRPr>
          </a:p>
          <a:p>
            <a:pPr marL="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428760"/>
            <a:ext cx="8229600" cy="49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Arial Black"/>
              </a:rPr>
              <a:t>Sēru procesa ilgums</a:t>
            </a:r>
            <a:endParaRPr b="0" lang="en-US" sz="2400" spc="-1" strike="noStrike">
              <a:solidFill>
                <a:srgbClr val="c6168d"/>
              </a:solidFill>
              <a:latin typeface="Lucida Sans"/>
            </a:endParaRPr>
          </a:p>
        </p:txBody>
      </p:sp>
      <p:sp>
        <p:nvSpPr>
          <p:cNvPr id="98" name=""/>
          <p:cNvSpPr txBox="1"/>
          <p:nvPr/>
        </p:nvSpPr>
        <p:spPr>
          <a:xfrm>
            <a:off x="303120" y="1197000"/>
            <a:ext cx="8229600" cy="4741920"/>
          </a:xfrm>
          <a:prstGeom prst="rect">
            <a:avLst/>
          </a:prstGeom>
          <a:noFill/>
          <a:ln w="0">
            <a:noFill/>
          </a:ln>
        </p:spPr>
        <p:txBody>
          <a:bodyPr anchor="t">
            <a:normAutofit fontScale="99000"/>
          </a:bodyPr>
          <a:p>
            <a:pPr marL="3394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Ir svarīgi atšķirt normālo skumju reakciju no depresijas. Saskaņā ar diagnostiskas DSM-IV kritēriju, daži skumju reakcijas simptomi ir līdzīgi kā depresijas gadījumā (piemērām, skumju sajūtas, bezmiegs, slikta apetīte un svara zudums). Tomēr, depresijas diagnoze nav iespējama, kamēr simptomi nav ilguši 2 mēnešus pēc zaudējuma(bojāejas) vai kamēr simptomi neatbilst “normālai” skumju reakcijai (DSM-IV-TR 2001). </a:t>
            </a: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39480" algn="just">
              <a:lnSpc>
                <a:spcPct val="15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Arial"/>
                <a:ea typeface="Arial"/>
              </a:rPr>
              <a:t>Divi mēneši ir ļoti īss periods, kas ir tipiski amerikāņu skaidrojums. Protams, sēras var turēties vairāk nekā 2 mēnešu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6:06:58Z</dcterms:modified>
  <cp:revision>319</cp:revision>
  <dc:subject/>
  <dc:title>Dia 1</dc:title>
</cp:coreProperties>
</file>