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FD8-3210-4454-B4FA-1EFFBEAB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951-07E7-4792-81F6-18AB7F61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718-A616-44EE-A176-515B041E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413-6FD5-4A83-A772-6F11C6D9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C16-DA87-4641-ADB0-D0A96D31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DAB-D49C-4082-B958-77D3556F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91A-F3F2-4578-AD5E-238425CC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E66-95E6-4D36-AAC6-737821B2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EC4-8311-48B4-BB22-16174AFD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0BA-3BD2-43D4-9F3E-32089A56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7B6-843D-4DF4-9972-79266870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29C-7866-4A5F-8758-DE0D19D9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F9C3-C34F-4380-95F8-8E0C3C621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012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.modulis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.nodarbī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2320" y="3886200"/>
            <a:ext cx="6580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ersonības traucējumi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un izaicinoša uzved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Personības traucējum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DS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ersonīgās īpašīb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m raksturīgs elastības trūku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nepietiek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ociāl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un psiholoģiskā) adaptācija, kas stipri traucē cilvēkam funkcionēt ikdienas dzīvē un/vai izraisa subjektīvu distre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itiem vārdi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augstākā mērā izaicinoša uzvedīb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traucējumu ti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ersonības traucējumi</a:t>
            </a:r>
            <a:r>
              <a:rPr b="1" lang="ru-MD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kas raksturīgi HIV inficētaj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Robežstāvokļa personības traucē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iek novērota nestabilitāte savstarpējās attiecībās un garastāvoklī, nenoteikts Es – tēls.</a:t>
            </a:r>
            <a:r>
              <a:rPr b="0" lang="ru-MD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pilgti izteikta impulsivitāte, bieži pārmērīga alkohola un narkotiku lietošana</a:t>
            </a:r>
            <a:r>
              <a:rPr b="0" lang="ru-MD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tisociālas personības traucē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Citu cilvēku tiesību ignorēšana un ierobežošana. Empātijas trūkums. Bieži pārmērīga alkohola un narkotiku lietoš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Risk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am pakļauti cilvēki ar personības traucējumi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ļoti riskanta seksuālā uzvedība un/vai injekciju narkotiku lietošana. Augstāks risks inficēties ar H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vadošie psihiskie traucējumi, piemēram depresija, trauksme, psihoze un pārmērīga alkohola un citu psihoaktīvu vielu lietoš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Ārstēšanas shēmas neievēroš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Tipiskās emocijas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7226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usm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aid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gresivitā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žēlum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patik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pārliecinātī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ārākuma sajūt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mier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Darbības, kas vērstas uz ārstēšanas rekomendāciju ievērošanas kvalitātes paaugstināšanu Marin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iņas psihisko traucējumu noteikš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epresijas, trauksmes un atkarības ārstēšan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ieņemšana katru reizi jāveic vienam un tam pašam speciālistam; svarīgi atrast Marinai piemērotu speciālist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iņai saprotamas informācijas par HIV un ART pasniegš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37:56Z</dcterms:created>
  <dc:creator>AnnemiSC</dc:creator>
  <dc:description/>
  <dc:language>en-US</dc:language>
  <cp:lastModifiedBy>Arnis</cp:lastModifiedBy>
  <cp:lastPrinted>2003-06-11T10:27:27Z</cp:lastPrinted>
  <dcterms:modified xsi:type="dcterms:W3CDTF">2011-03-06T14:56:26Z</dcterms:modified>
  <cp:revision>295</cp:revision>
  <dc:subject/>
  <dc:title>The treatment of alcohol dependent patients with a comorbid anxiety disorder</dc:title>
</cp:coreProperties>
</file>