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AE0-30EB-421C-B559-7235D7B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9D7-5FB1-4D9A-AB65-79DF8AC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8A9-A376-4365-837D-9081B223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9E8-7D8F-4926-9561-EEA90D1F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E71-53A4-4160-832C-C912E0E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E02-341B-4928-889B-0987DCF2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839-18F2-4011-B8ED-E936C950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4CF-31FD-40F8-8B4F-265E2764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4A6-EB57-45A4-A200-01F892FD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61B-C080-42FB-BE9C-529A43F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37B-3522-405D-A464-9F74C8F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9F8-C3D8-43DA-80C4-ECD770D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2BB-8B8F-48D3-8D15-B8A4D9B4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7. 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9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Bēdu pārdzīvojums cilvēkiem, kas dzīvo ar HIV/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4240"/>
            <a:ext cx="80773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Bēdu pārdzīvojums :reakciju g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331720"/>
            <a:ext cx="754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espējama vesela reakciju gamma uz HIV testa pozitīvu rezultātu – no “normālas” bēdu reakcijas līdz novirzēm psihiskajā sfērā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44240"/>
            <a:ext cx="80773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Bēdu reakcijas pārdzīv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085840"/>
            <a:ext cx="842472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bīstamākie iespējamo psihiskās veselības problēmu attīstībai ir divi mom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zreiz pēc pozitīva testa rezultāta saņemšan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limības attīstības jaunas fāzes sākumā, piemēram, uzsākot antiretrovīrusu terapiju (ART) vai HIV asociētās demences pirmajās stadijās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37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Psihisko traucējumu rašanās iemesli CD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Sociālie apstākļ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abadzība, stigmatizācija, diskriminācija, izolācija no sabiedrīb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Personīgie apstākļ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sihiskie traucēju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amnēzē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spēja tikt galā ar situāciju, alkohola/narkotiku lieto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Notikumi dzīvē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uvu cilvēku nā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 A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ezdarbs, šķiršanā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Ar HIV saistīti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T, AID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sociētā demence, psihoze, delīr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Bēdu pārdzīvojuma pazīmes CDH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les, noliegums, skumjas, nospiestība, nemiers, vainas sajūt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arīgās ciešanas vienmēr ietekmē sociālie apstākļi un individuālie fakto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Bēdu pārdzīvojuma pazīmes CDH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mesli piesardzīb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d cilvēks pēc vairākām nedēļām vēl joprojām nav spējīgs atjaunot ikdienas darbīb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kohola/ narkotiku lieto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ielos daudzu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lgākā laika period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omas par pašnāvību, pašnāvības mēģinājum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ziļa depresija, agresivitāte un nemiers, kas ilgst vairāk nekā trīs nedēļ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as nepieciešams CDHA, kuri pārdzīvo bē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i no viņiem neizvairītos citi cilvēk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i pret viņiem izturētos ar izpratni, bez stigmatizācijas un diskriminācij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adinieks, ģimenes loceklis, skolotājs, darbinieks, ārsts, medmāsa u.t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as viņu uzklausīt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ntakts ar citiem CDHA un to atbals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i viņiem dotu lai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5T20:29:12Z</dcterms:modified>
  <cp:revision>308</cp:revision>
  <dc:subject/>
  <dc:title>The treatment of alcohol dependent patients with a comorbid anxiety disorder</dc:title>
</cp:coreProperties>
</file>