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88ED-7BF1-40DE-9180-52A2E999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E1D-DF5D-4A67-92A3-661982ED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4EE0-BA9F-458C-A592-F6FA876B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A44-61BB-49A1-BFB3-EFE3FFAE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554-84DA-4DB7-B528-AA05BA09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3F6-A7E3-46B5-9349-09A5B99D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1AE-F5FF-4A51-9E7E-D2D72295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C0F8-7968-401E-9A58-1ABA81C9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23CF-FA80-4052-8CE2-01877439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EA8-3B02-4A71-90B7-FBCD9234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5C9-D7AA-44C3-8563-91F08734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9FD-7BCF-45E7-8E7B-14EC69C5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7CA8-C1B6-4753-8865-7308F6EF7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2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lv-LV" sz="5400" spc="-1" strike="noStrike">
                <a:solidFill>
                  <a:srgbClr val="000000"/>
                </a:solidFill>
                <a:latin typeface="Arial"/>
              </a:rPr>
              <a:t>. modulis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18</a:t>
            </a:r>
            <a:r>
              <a:rPr b="0" lang="lv-LV" sz="5400" spc="-1" strike="noStrike">
                <a:solidFill>
                  <a:srgbClr val="000000"/>
                </a:solidFill>
                <a:latin typeface="Arial"/>
              </a:rPr>
              <a:t>.nodarbī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Antiretrovīrusu terap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Augsti aktīvas antiretrovīrusu terapijas (ART) ietek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8920" y="2285640"/>
            <a:ext cx="871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aži preparāti, piemēram, antipsihotiķi, antidepresanti un benzodiazepīna atvasinājumi savstarpēji mijiedarbojas ar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ART ietek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ādā pat pakāpē ART ietekmē dažu preparātu iedarbību, izraisot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ast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etadona koncentrācijas samazināšan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tipsihotiķu, antidepresantu un benzodiazepīna atvasinājumu koncentrācijas paaugstināšanos vai pazemināšan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Šaubīgos gadījumos konsultējieties ar farmakolog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emesli līdzestības trūkumam ART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47640"/>
            <a:ext cx="777240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Obsesīvi- kompulsīvie traucējum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augstināts trauksmes līmeni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Robežstāvokļa personības traucējum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haotisms, impulsivitāte, depresija, alkohola/ narkotiku lietošana, suicidālas doma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Antisociālas personības traucējum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alkohola/ narkotiku lietošan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Uzmanības deficīta sindroms ar hiperaktivitāt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haotisms, koncentrēšanās trūku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Iemesli, kāpēc nav līdzestības AR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epresij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epietiekama koncentrēšanās, enerģijas samazināšanās, suicidālas doma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lkohola un narkotiku lietošan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itas prioritātes, reibuma stāvokl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sihoze, mānija, demenc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realitātes sajūtas zudums, nepietiekama koncentrēšanās, kritikas trūkums attiecībā pret slimīb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Līdzestības uzlabošana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sihisko traucējumu ārstēšan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ilnīgas informācijas par ART pasniegšana pieejamā formā nesteidziet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ociālo atbalsta sistēmu iesaistīšan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tneru, draugu, kaimiņu u.c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var apgrūtināt nevēlēšanās atklāt savu HIV pozitīvo statusu un bailes no stigma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teicamie palīglīdzekļ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dinātājs, rokas pulkstenis ar modinātāju, kārbiņa ar iedaļām zāļu preparātiem, preparātu lietošanas saraksts u.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ART blakusparādības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ietekme uz psihisko veselīb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auksm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iega traucējum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kumj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jums, apātij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nija, psihoze, paaugstināts trauksmes līmenis, smaga depresija – pacienti, kam agrāk ir bijuši psihiskie traucējumi, pieder pie paaugstināta riska grup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7:37:56Z</dcterms:created>
  <dc:creator>AnnemiSC</dc:creator>
  <dc:description/>
  <dc:language>en-US</dc:language>
  <cp:lastModifiedBy>Arnis</cp:lastModifiedBy>
  <cp:lastPrinted>2003-06-11T10:27:27Z</cp:lastPrinted>
  <dcterms:modified xsi:type="dcterms:W3CDTF">2011-03-06T15:46:49Z</dcterms:modified>
  <cp:revision>305</cp:revision>
  <dc:subject/>
  <dc:title>The treatment of alcohol dependent patients with a comorbid anxiety disorder</dc:title>
</cp:coreProperties>
</file>