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947-D6C8-4D18-B9B0-0D02243C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541-963D-4488-B02D-B455A0E2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930-16CD-4213-884A-361E9307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1BB-4D1A-4D24-95DF-A8F45672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FF2-B534-4190-B06D-F410E98F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E1A-E946-4051-BD4D-DC1FA49E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7FF-4727-4327-82F1-4D173818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B9F-F1C6-4C36-95E1-A814CDE8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7E1-A709-4293-B1BD-C71C5E47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F73-4BF3-44FB-BADB-837676FE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2C9-3AFB-4280-9266-88FBE4C7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9E1-CFED-47BF-A513-ED6AE691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39CA-2496-4543-B0AE-29AC0F1D8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5400" spc="-1" strike="noStrike">
                <a:solidFill>
                  <a:srgbClr val="000000"/>
                </a:solidFill>
                <a:latin typeface="Arial"/>
              </a:rPr>
              <a:t>. modulis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lang="lv-LV" sz="5400" spc="-1" strike="noStrike">
                <a:solidFill>
                  <a:srgbClr val="000000"/>
                </a:solidFill>
                <a:latin typeface="Arial"/>
              </a:rPr>
              <a:t>. nodarbī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epresija cilvēkiem, kas dzīvo ar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2. Konkrētā situācij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Jeļ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Ārstēšanas plān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zveidot klienta un terapeita aktīvu kontakt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epresijas ārstēša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HIV ārstēša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karības no narkotikām ārstēša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i vispirms 4., pēc tam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Neārstētas depresijas bīstamī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augstināts suicīda risk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Zema ART preparātu lietošanas shēmas un citu ārstniecisku rekomendāciju ievērošanas kvalitā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skanta seksuālā uzvedīb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augstināts atkarības no alkohola un citām psihoaktīvām vielām attīstības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Motivācija ārstēšan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skaidrojiet, ka ārstēšana ir nepieciešama; pasakiet pacientei, ka viņai ir depresij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stāstiet par psihisko traucējumu ārstēšanas svarīgo nozīmi CDH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stāstiet, kādas ir depresijas ārstēšanas iespēj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izdariet uz viņu spiedienu, ja viņa atsakā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radiet viņai vainas apziņu; nozīmējiet citu tikšan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Ārstēšana. Uzturošā psihoterap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mata terapija pie jebkuras psihiskās pataloģij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emēram, pacientiem ar psihozes, demences, personības traucējumu un bēdu pārdzīvojuma simptomi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abam aktīvam kontaktam nepieciešams, lai ar pacientu strādātu viens un tas pats terapeits. Par terapijas daļu var kļūt palīdzība praktisko jautājumu, piemēram dzīvokļa un naudas problēmu, risināšan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Ārstēšana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Kognitīvā-uzvedības terap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iek pielietota pie depresijas, trauksmes traucējumiem, personības traucējumiem, bēdu pārdzīvoj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dividuālā vai grupu terap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Šīs terapijas centrā – cilvēka d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alvenais komponent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gnitīvo procesu restrukturizācij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isfunkcionālās domas tiek nomainītas ar domām, kas neizsauc distres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alamērķi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epresīvo un trauksmaino domu un uzvedības formu nomaiņ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Ārstēšana</a:t>
            </a:r>
            <a:br>
              <a:rPr sz="4400"/>
            </a:b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terpersonālā terap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iek lietota pie bēdu pārdzīvojuma, depresijas, ģimenes attiecību problēmām, pie personības traucējumie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Uzmanības centr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cienta attiecības ar citiem cilvēk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Ārstēšana</a:t>
            </a:r>
            <a:br>
              <a:rPr sz="4400"/>
            </a:b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sihodinamiskā terap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84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iek lietota pie bēdu pārdzīvojuma, viegliem personības traucējumiem, depresij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īgi, lai personībai un simptomiem būtu zināma stabilitā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erapija tiek koncentrēta uz attiecībām ar terapeitu un klienta (agro) bērnī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epres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epresija un nomāktības sajūta – visplašāk izplatītās psihiskās veselības problēmas CD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ā kā HIV infekcija ir smaga slimība, tā atstāj milzīgu iespaidu uz depresijas simptomiem un veicina to padziļināš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epresij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(DSM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Obligāta pazīme: nomākts garastāvoklis un intereses un apmierinājuma sajūtas zudums, kas ilgst vismaz divas nedēļ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ozīmīgs svara zudums vai svara pieaugum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ezmiegs vai pastiprināta miegainīb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sihomotorā ažitācija vai apjukum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ogurums vai samazināta enerģi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švērtējuma samazināšanās un pārmērīga vainas apziņ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omāšanas un koncentrēšanās spēju pasliktināšanā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kārtotas domas par nā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līniski nozīmīgs vājums vai funkcionēšanas pasliktināšanā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epresija CD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06240"/>
            <a:ext cx="777240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bligāta pazīm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nomākts garastāvoklis un intereses un apmierinātības sajūtas zudums, kas ilgst vismaz divas nedēļas (</a:t>
            </a:r>
            <a:r>
              <a:rPr b="1" i="1" lang="lv-LV" sz="2800" spc="-1" strike="noStrike">
                <a:solidFill>
                  <a:srgbClr val="000000"/>
                </a:solidFill>
                <a:latin typeface="Arial"/>
              </a:rPr>
              <a:t>pastiprinās alkohola lietošanas rezultātā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ozīmīgs svara zudums vai svara pieaugu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saistībā ar HIV/AID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ezmiegs vai pastiprināta miegainīb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saistībā ar HIV/AIDS vai AR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sihomotorā ažitācija vai apjukums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saistībā ar HIV/AID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ogurums vai enerģijas zudum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saistībā ar HIV/AIDS vai AR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epresija CD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zemināts pašvērtējums un pārmērīga vainas apziņ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ar HIV/AIDS saistītās stgmas dēļ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omāšanas un koncentrēšanās spēju pasliktināšanā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sakarā ar HIV/AIDS vai AR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kārtotas domas par nā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saistībā ar HIV/AIDS un iespējamo letālo iznākum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līniski nozīmīgs vājums vai funkciju pazemināšanā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Depresijas attīstības riska fak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0448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HIV infekci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priekšēji psihiskie traucējumi, īpaši depresīvi traucējumi anamnēz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ievietes ir vairāk pakļautas depresijas attīstības risk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epresija ģimenes anamnēz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lkohola, kokaīna amfetamīnu lietoša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Heroīns nav depresijas iemesls, taču atkarība no heroīna bieži to veic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ociālie faktori, atbalsta trūkums, stigm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inga st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: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espēja tikt galā ar grūtībā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Nomākta garastāvokļa diferenciāla diagnostik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ormāla reakci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vilkušies sēru un smaga zaudējuma pārdzīvojum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zmisums, garīgo spēku zudum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usma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daptācijas traucējumi, ko pavada depresīvs garastāvokl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maga depresīva epiz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onopolāra, atsevišķa (HIV) vai rekuren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stīmiski trauc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polāri traucējumi, depresīvā fā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aucējumi, kas saistīti ar psihoaktīvo vielu, galvenokārt kokaīna un amfetamīna lie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Nomākta garastāvokļa diferenciāla diagnostik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141640"/>
            <a:ext cx="80629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ātija, ko izraisījusi progresējoša sistēmiska saslimš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HIV/A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ātija, ko izraisījusi ar AIDS saistīta demen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ekundāri garastāvokļa traucēju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fekciozi centrālās nervu sistēmas bojājumi, zāļu preparā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ems testosterona līme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HIV/AIDS/AR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2. Konkrētā situācij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Jeļ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ievie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a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V inficēta, ar psihiskās veselības problēm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epres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enerģijas zudum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a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saistīts ar HI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kumjš garastāvokl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omas par pašnāvīb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Uzmanības traucēju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ai 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saistīti ar HI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tkarība no narkotikā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37:56Z</dcterms:created>
  <dc:creator>AnnemiSC</dc:creator>
  <dc:description/>
  <dc:language>en-US</dc:language>
  <cp:lastModifiedBy>Arnis</cp:lastModifiedBy>
  <cp:lastPrinted>2003-06-11T10:27:27Z</cp:lastPrinted>
  <dcterms:modified xsi:type="dcterms:W3CDTF">2011-03-06T14:49:27Z</dcterms:modified>
  <cp:revision>379</cp:revision>
  <dc:subject/>
  <dc:title>The treatment of alcohol dependent patients with a comorbid anxiety disorder</dc:title>
</cp:coreProperties>
</file>