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D384-8DEC-4854-8A49-19F45E41EB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CB7-B07C-440C-98D5-C1C08C1F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CBB-1354-4385-803E-89DAAD88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2FA-382E-464F-A0C6-107ED955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2AD-784B-4213-8EEC-51E60C4F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3F2-71F0-43A4-93EB-3B67E03D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B9A-A586-4568-9C9F-E1074203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C73-9352-4612-9CFD-40FD265F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EAB-9DD0-4178-95B6-AA033106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159-8591-4EE0-87A3-AD8988FF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018-81AF-4F37-9A43-3B0B029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6E2-A721-4699-B454-11D3A68F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B11-C11F-4B6B-9227-82E70271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23E6-3AFD-479B-9E8F-EF6EFEFC5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6000" spc="-1" strike="noStrike">
                <a:solidFill>
                  <a:srgbClr val="000000"/>
                </a:solidFill>
                <a:latin typeface="Arial"/>
              </a:rPr>
              <a:t>.modulis</a:t>
            </a: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 14</a:t>
            </a:r>
            <a:r>
              <a:rPr b="0" lang="lv-LV" sz="6000" spc="-1" strike="noStrike">
                <a:solidFill>
                  <a:srgbClr val="000000"/>
                </a:solidFill>
                <a:latin typeface="Arial"/>
              </a:rPr>
              <a:t>.nodarbība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Ar narkotiku lietošanu saistītais risks un kaitīguma mazināšanas met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mfetamīns/ metamfetamī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alts pulveris bez smaržas, viegli šķīst ūden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aurspīdīgi drupataini kristāl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lielas, košas krāsas tabletes vai graudiņ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Lietošanas vei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jekcij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elpošana caur degun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mēķē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erorāl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Amfetamīnu lietošanas iespējamās se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karība, psihotiski simptomi, galvas smadzeņu darbības traucējum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roniska lietošana var novest pie agresīvas uzvedības, trauksmes stāvokļa, psihiska apjukuma, bezmiega, dzirdes halucinācijām, murgiem un paranoj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traukšanas simptomi ir depresija, trauksme, nogurums, paranoja, agres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lubu” narkoti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niegsim dažu nelegālo narkotiku, ko parasti lieto diskotēkās vai nakts “reivu” laikā, piemērus. Visizplatītākie ir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etilēndioksimetamfetamī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—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ekstaz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etamī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amma hidroksibutirā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etamīns un gamma hidroksibutirāts ir pazīstami arī kā “narkotikas izvarošanai”, jo tās lieto seksuālās vardarbības atvieglošan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Metilēndioksiamfetamīns (ekstaz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Ekstazi (vai ‘E’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iek izplatīts tablešu veidā, bieži ar zīmējumiem vai komerciāliem logotipie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Kā to lie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erorāli kā tablet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asmalcina pulverī un ieelpo caur degun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travenoz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ieto kā supozitorij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Ekstazi lietošanas se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omāc apetīti, slāpes un vajadzību pēc mieg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ar izraisīt nopietnu organisma atūdeņošanu un pārkaršanu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ar izsaukt panikas lēkmes, samaņas zudumu un krampju lēkm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reģistrēti nāves gadījumi pēc ekstazi lietoš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etamīns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alvenokārt veterinārijā lietots trankviliz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ezkrāsains šķidrums vai balts/dzeltens pulver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000" spc="-1" strike="noStrike">
                <a:solidFill>
                  <a:srgbClr val="000000"/>
                </a:solidFill>
                <a:latin typeface="Arial"/>
              </a:rPr>
              <a:t>Kā to lie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jekciju veid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zšķīdina dzērien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evieno cigaretē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etamīna lietošanas se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las devas rada “iziešanas no sava ķermeņa” efektu vai stāvokli, kas tuvs nāve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elīrijs, amnēzija, depresija, ilglaicīgās atmiņas un kognitīvo funkciju traucējum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provocēt seksuālo vardarbī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Halucinogē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intētiski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iemēram, LS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i augu valsts izcelsme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iemēram, noteikti sēņu veid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novest pie ārkārtīgi sarežģītām psiholoģiskajām sekā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izraisa fizisko atkarī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epresa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lkohol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arbiturāt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intētiskie sedatīvie preparāt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iega zāl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izraisīt miegainību, patīkamu relaksācijas sajūtu vai uzrādīt sedatīvu iedarbību. Pārtraukšanas simptomi var būt pietiekoši smagi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Opiāt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opioīd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piju iegūst no opija magonē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satur morfīnu un citas psihoaktīvas viel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o morfīna var iegūt heroīn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pioīd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ās ir sintētiskas vielas ar opiātiem līdzīgu iedarbī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Narkotiku lietošana un H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tiecībā uz HIV izplatīšanos kopienā, īpaša uzmanība jāpievērš narkotiku lietotāj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HIV izplatīšanos narkotiku lietotāju vidū var aizkavēt ar pašu narkotiku lietotāju un citu kopienas locekļu palīdzī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Heroīns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īrs Heroīns ir balts, pēc garšas rūgts pulver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legālā heroīna krāsa galvenokārt variējas no baltas līdz tumši brūna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eroīns “melnā darva” ir viskozs un tā krāsa variējas no tumši brūnas līdz melna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Kā to li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jekciju veid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mēķ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elpo caur degun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Heroīna lietošanas se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karīb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ikko kā cilvēkam izstrādājas tolerance, vēlamā efekta sasniegšanai viņam vajadzīga lielāka deva, kas noved pie fiziskās atkarīb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nu tromboze, infekcijas, abscesi, aknu un plaušu saslimšan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epresija un galvas smadzeņu disfunkc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92468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HIV</a:t>
            </a:r>
            <a:br>
              <a:rPr sz="4000"/>
            </a:br>
            <a:r>
              <a:rPr b="0" i="1" lang="lv-LV" sz="4000" spc="-1" strike="noStrike">
                <a:solidFill>
                  <a:srgbClr val="000000"/>
                </a:solidFill>
                <a:latin typeface="Arial"/>
              </a:rPr>
              <a:t>Riska pakāpe ir atkarīga no apstākļiem un uzvedīb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Narkotiku lietošanas paņēmi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3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jekcija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eroīns, kokaīns, amfetamī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elpošana caur degunu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mfetamīns pulverī, kokaīns, heroīn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mēķēša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nabiss – marihuāna, hašiš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ai narkotikas pievienošana cigaretē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erorāl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r ēdienu, dzērieniem vai košļājo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mfetamīns, metamfetamīns, ekstazi, LS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halāc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eroīns, “brūnais cukurs”, “kreks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Uzvedības formas, kas narkotiku lietotājiem paaugstina risku inficēties ar H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Arial"/>
              </a:rPr>
              <a:t>Dzimumdzī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Liels partneru skait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Grupveida seks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Sekss apmaiņā pret narkotikā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Izvarošanas iespēj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Prostitūcij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Kontroles trūkum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Droša seksa noteikumu neievērošan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Sekss bez aizsargāšanā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Arial"/>
              </a:rPr>
              <a:t>Citi riska fakto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Agresij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ardarbīb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Noziegums un atrašanās ieslodzījum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Nosliece uz riskantu uzvedīb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Piesardzības pasākumu riska pakāpes mazināšanai neievēroša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Faktori, kas paaugstina risku inficēties ar H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arkotiku lietošana injekciju ceļā (injicēt var jebkuru vielu, kas šķīst ūdenī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augstināta seksuālā tieksme, ko izraisa noteiktas viel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okaīns, amfetamīn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Grupas locekļu piekrišana seksuālajiem sakariem ar dažādiem partnerie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ostitūc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Injekciju narkotiku lietošan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INL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5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Risks inficēties ar HIV būtiski pieaug ievadot narkotikas injekciju ceļā, īpaši tādos gadīju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pīgi lietojot adatas, šļirces un citu instrumentārij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kārtoti lietojot adatas un šļirc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ietojot savu adatu, bet svešu šļirc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gādājoties jau piepildītu šļirci vai konteiner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zvelkot narkotiku no kopējā konteiner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avstarpēji palīdzot ar injekcijā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Kopīga instrumentārija lieto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datas un šļirc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arkotikas izvilkšana no kopīgā konteinera vai jau piepildītām šļircē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almiņi, caurulītes, žņaugi, filtr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tes bumbiņas un citi materiāli asiņošanas apturēšana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Ūdens, glāzes, burkas, konteiner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arotes, spoguļi, citas ierī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r narkotikām saistītā riska inficēties ar HIV novērt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Riska pakāpes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ugsta riska pakā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dēja riska pakā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Zema riska pakā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av ri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Riska pakāpes novērtēšan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narkotiku lietošanas paņēmien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2091960"/>
            <a:ext cx="8018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Injekcija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kopīga adatu un šļirču lietošana bez drošības pasākumu ievērošana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kopīga adatu un šļirču lietošana, ievērojot dažus drošības pasākumu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dezinfekcija pēc katras lietošana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bieža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periodiska dezinfekcija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stāvīga savas adatas lietošana, kopīgi izmantojot cita instrumentāriju</a:t>
            </a:r>
            <a:r>
              <a:rPr b="0" lang="lv-LV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stāvīga tikai sava instrumentārija lietošana</a:t>
            </a:r>
            <a:r>
              <a:rPr b="0" lang="lv-LV" sz="2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Nosliece uz injekciju narkotiku lietošan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Arial"/>
              </a:rPr>
              <a:t>Ļoti reti injekciju narkotiku lietošanas gadījum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āpēc cilvēki lieto narkoti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radīcij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ā simbolisku vai reliģisku ceremoniju komponen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šārstēšanā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ai atbrīvotos no baiļu, trauksmes sajūtām un depresij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āp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ai noņemtu to fiziskos simptom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aud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tīkamām sajūtām, izklaide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askarsmes lok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ā piederības zīmi noteiktai grupa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iziešana no realitāte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ai aizmirstu par nelaimi, nabadzību, nepatikšanām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Riska pakāpes novērtēšan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narkotiku lietošanas paņēmieni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šķirīgi no injekcijā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elpošana caur degun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mēķēšan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halācij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upozitorija veid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erorā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r dzērieniem, ēdienu vai košļājo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iti paņēmien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teikšanās no narkotikā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Riska pakāpes novērtēšanas kategor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20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av risk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av reģistrētu vai potenciāli iespējamu inficēšanās veidu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Zema riska pakāp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orētiski iespējama inficēšanās ar bioloģiskajiem šķidrumie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nav reģistrētu inficēšanās gadīju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Vidēja riska pakāp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otenciālais risk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astāv vienmēr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aistīts ar kontaktu ar gļotādām un bioloģiskajiem šķidrumie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ir reģistrēti inficēšanās gadījumi ar HIV pie noteiktiem apstākļie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ugsta riska pakā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 pastāv gan potenciāls, gan reģistrēts inficēšanās veids ar HI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Narkotiku lietotāju ārstēšanas program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ogrammas ar pilnīgu atteikšanos no narkotikā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acionāras un ambulator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izstājterapijas program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izstājterapija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ozīmē, ka pacienta lietoto narkotiku aizstāj ar analoģisku vai līdzīgu (sintētisku) viel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uras lietošanu atļauj likums un kuras lietošana notiek drošos apstākļos stingrā speciālista kontrolē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Aizstājterapijas uzdevumi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Narkotiku radītā fiziskā, psiholoģiskā, sociālā un ekonomiskā kaitējuma mazināšana atsevišķiem cilvēkiem un sabiedrīb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384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ficēšanās un HIV izplatīšanas riska samazināša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arkotiku lietotāju pārorientēšana uz atļautu vielu, kuru tīrība un iedarbība ir labi zināma, lietošan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dozēšanas un citu medicīnisku sarežģījumu riska samazināš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nsultēšanas, izmeklēšanas un ārstēšanas pakalpojumu sniegš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līdzība narkotiku lietotājiem savas dzīves stabilizācijā un viņu reintegrācijā sabiedrīb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Aizstājterapija: metad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etadon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lgstošas iedarbības sintētisks preparāts, kas atvieglo simptomus pēc opiātu lietošanas pārtraukšan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Uzturošā aizstājterapija ar metadon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lgstoša ārstēšanas programma, kas būtiski uzlabo fizisko, psihisko un sociālo stāvokli un ir veiksmīgi sevi apliecinājusi cīņā ar HIV infekc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Aizstājterapija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buprenorfī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uprenorfīn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ir sintētisks preparāts, ko izmanto kā pretsāpju līdzekli, kā arī aizstājēj terapijas programmās pie opiātu lietošanas pārtraukšan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iek plaši pielietots Āzijas valstī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uboteks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aitējuma mazinā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arkomānijas postošo seku novēršana bez nepieciešamības atteikties no narkotik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aitējuma mazināšana paredz plašu iedarbības spekt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žādās programmas drīzāk papildina viena otru nekā pretendē uz vislabākās nosaukum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aitējuma mazināšana</a:t>
            </a:r>
            <a:br>
              <a:rPr sz="4400"/>
            </a:b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Kaitējuma mazināšana paredz visas iespējamās</a:t>
            </a:r>
            <a:r>
              <a:rPr b="0" i="1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darbības, lai samazinātu kaitējumu vai tā potenciālo risku narkotiku lietotājiem viņu ģimenēm un sabiedrīb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255760"/>
            <a:ext cx="815328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Šīs pieejas priekšrocība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arkotiku lietotāji spēj kontrolēt un mainīt savu uzvedīb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aktiska atbalsta sniegša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ži narkotiku lietošanas veidi ir drošāki par citie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Efektīvai pieejai nepieciešams novērtēt narkotiku lietotāja sociālo situāciju un viņa dalību nākotnes plānu izstrādāšan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asība pilnīgi atteikties no narkotikā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 nav pati labākā atbalsta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Kaitējuma mazināšanas program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datu un šļirču apmaiņas programm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rošu injekciju tehnikas un dezinfekcijas metožu apgū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ācija par drošākām narkotiku lietošanas metodēm, kas atšķiras no injicēšanas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ēšana par droša seksa praksi un prezervatīvu izdalī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RT CDHA, aktīviem narkotiku lietotājiem un aizstājterapijas programmu dalībnieki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Adatu un šļirču apmaiņas programmas </a:t>
            </a:r>
            <a:br>
              <a:rPr sz="4400"/>
            </a:b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Programmas nodarbojas ar adatu, šļirču, dezinfekcijas komplektu izplatīšanu un lietotā instrumentārija iznīcināš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iekšrocīb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ficēšanās gadījumu ar HIV skaita samazināšanās bez nevēlamiem smagiem blakusefektie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epalielina narkotiku lietošanas vai INL skaita rādītāj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ficēšanās riska ar HIV samazināšanās ne tikai starp INL, bet arī citiem cilvēkiem, pateicoties lietotā instrumentārija iznīcināšanas programm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Narkoscēna un paši izplatītākie narkotiku vei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Drošas injekciju tehnikas un dezinfekcijas metožu apgū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r HIV var inficēties ne tikai ar kopīgām adatām un šļircēm, bet arī ar karotēm, korķiem, vates bumbiņām un citiem materiāliem, ko izmanto sagatavošanās stadijā injekcija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viss ir inficēts un var nodot tālāk infekcij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ezinfekcijas metožu apmācīb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ezinfekcijas komplektu izdalīš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Informēšana par drošākām narkotiku lietošanas metodēm, kas atšķiras no injicēša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r dažiem neinjekciju narkotiku lietošanas veidiem arī var inficēties ar HIV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iemēram, aso plastikāta salmiņu amfetamīnam vai kokaīnam kopīga lietošana, kopīga stikla pīpju marihuānai un krekam smēķēšan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Vienmēr lietojiet individuālo instrumentāriju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udzināšanas darbs ar mērķgrupu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iemēram, “līdzīgs apmāca līdzīgu”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ezinfekcijas komplektu un tīra instrumentārija izdalīš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Informēšana par droša seksa tēm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22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s par drošu seksu izplatīša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iemēram, brošūru, lapiņu izdalīšana, ielu darb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rvatīvu izdalīša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ršanās pie mērķauditorijā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iemēram, ballītēs, darbs pēc principa “līdzīgs līdzīgam”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DHA un viņu partneru informēšana par drošāka seksa tēm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Kāpēc INL ar pozitīvu HIV statusu nepieņem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RT dārdzīb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zplatītie mī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cientam nevajag lietot narkotikas pirms ART uzsākšana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L nav spējīgi regulāri saņemt ART, tāpēc paaugstinās rezistences attīstības iespēj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vadošā C hepatīta esamīb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 hepatīta vīru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amazina ART efektivitā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ART CDHA, aktīviem narkotiku lietotājiem un aizstājterapijas programmu dalībniek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cientiem ir jābūt informētiem par iespējamo risku, kas saistīts ar aizliegto narkotiku vai to aizstājēju un antiretrovīrusu preparātu savstarpējo mijiedarbī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edicīnas darbiniekiem ir jānoskaidro, vai pacients pārmērīgi nelieto alkoholu vai narkotikas, pirms apskatīt ART nozīmēšanas iespēj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Marihuāna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Zaļš, brūns vai pelēks maisījums no sausām sasmalcinātām kaņepju (kanabisa) lapām, stiebriem, sēklām un ziedie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its, mazāk izplatīts veids – hašišs un hašiša eļļ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Kā to li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asti marihuānu smēķē kā cigareti (tā saucamais kāsis), vai kā pīpi vai kaljan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žās kultūrās marihuānu vai hašišu lieto iekšķīgi (ēd vai košļā, izmanto ēdiena pagatavošana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Marihuānas lietošanas iespējamās se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5540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miņas un iemācīšanās spēju pavājināšanā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auksme un panikas lēkm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olerance un fiziskā atkarīb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Hroniskiem smēķētājiem var attīstīties smagas elpošanas ceļu saslimšan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timula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okaīns, ko iegūst no kokas krū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intētiskie stimulatori, piemēram amfetamī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okaīna for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alts kristālisks pulveri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ek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zeltenīga kunkuļaina substanc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Kā to lie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aīnu pulverītī parasti ieelpo caur degunu, vai arī izšķīdina ūdenī un ievada injekcijas ceļ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ku parasti smēķē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okaīna lietošanas se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ieži pacilāts garastāvokl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eksuālais uzbudinājum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ugsts psiholoģiskās atkarības attīstības risk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reka smēķēšana var izsaukt asas sāpes krūtīs, izraisīt plaušu bojājumus un plaušu asiņošanu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enlaicīga kokaīna un alkohola lietošana paaugstina pēkšņas nāves ris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35:48Z</dcterms:created>
  <dc:creator>Wiewióra</dc:creator>
  <dc:description/>
  <dc:language>en-US</dc:language>
  <cp:lastModifiedBy>Arnis</cp:lastModifiedBy>
  <dcterms:modified xsi:type="dcterms:W3CDTF">2011-03-06T15:23:09Z</dcterms:modified>
  <cp:revision>278</cp:revision>
  <dc:subject/>
  <dc:title>DRUG USE</dc:title>
</cp:coreProperties>
</file>