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5482-E5FE-4A60-BDE4-27D51FDF6A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en you need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957-4615-4C3F-8CF5-2089BF12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B86-99AE-498E-B883-CD33603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C57-5CF4-4417-B006-2896CCA7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C5F-CC11-47AD-B255-47CE17B8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71C-B9BE-4AD1-AB21-3BB78610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822-DF98-4019-8443-906694D0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F48-D070-414B-8E40-10202EB2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1A5-BCD9-410A-A4C5-739FB8F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6BD-6F03-4AF8-B5BC-59AA456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BB1-4BF0-4B8F-B083-2B11333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E8A-FC36-4198-8135-59FD314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202-B089-4DB5-960F-77DE40C6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F118-821A-4424-BDA1-284BF56C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Riska samazināšan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kss, HIV un psihiskā veselī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800" spc="-1" strike="noStrike">
                <a:solidFill>
                  <a:srgbClr val="000000"/>
                </a:solidFill>
                <a:latin typeface="Arial"/>
              </a:rPr>
              <a:t>Nenozīmīgs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3800" spc="-1" strike="noStrike">
                <a:solidFill>
                  <a:srgbClr val="000000"/>
                </a:solidFill>
                <a:latin typeface="Arial"/>
              </a:rPr>
              <a:t>teorētiski iespējams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800"/>
            </a:br>
            <a:r>
              <a:rPr b="1" lang="lv-LV" sz="38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kss ar prezervatīv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reizi to lietoj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rālais seks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ieviešu ārējo dzimumorgānu laizīšana un skūpstī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ziļais skūps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franču skūpsts, skūpsts ar mēl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pīga seksa rotaļlietu lieto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omazgātas vai ar jaunu prezervatīv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nuāli-ģenitālais kontak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ugsta riska pakā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sīvais partneris pie anālā dzimumak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īrietis vai sievie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ginālais dzimumakts nelietojot prezervatīvu, īpaši menstruāciju laik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vīrietim inficēšanās risks ir trīs reizes augstā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Orālais dzimumakts ar ejakulāciju mutes dobum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zimumakts narkotiku / alkohola reibum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ktīvais partneris pie anālā dzimumak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pīga seksa rotaļlietu lietošana bez prezervatīva vai pietiekošas dezinfekci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Zema riska pakā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rāli - ģenitālās prakse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 noteiktiem apstākļi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pīga seksa rotaļlietu lieto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16200000">
            <a:off x="-572040" y="5218560"/>
            <a:ext cx="2971800" cy="15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Vairāk dzimumpartneru</a:t>
            </a:r>
            <a:endParaRPr b="1" i="1" lang="en-US" sz="1400" spc="1" strike="noStrike">
              <a:ln w="32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19320" y="852480"/>
            <a:ext cx="144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852480"/>
            <a:ext cx="180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85248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567480"/>
            <a:ext cx="304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8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5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Nekārtīgi dzimumsak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16200000">
            <a:off x="5266440" y="9457560"/>
            <a:ext cx="5791320" cy="28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Unicode MS"/>
              </a:rPr>
              <a:t>Каtra partnera maiņa</a:t>
            </a:r>
            <a:endParaRPr b="0" i="1" lang="en-US" sz="1200" spc="1" strike="noStrike">
              <a:ln w="32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Unicode MS"/>
              <a:ea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696080" y="838080"/>
            <a:ext cx="1800" cy="3353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809880"/>
            <a:ext cx="1440" cy="2743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16200000">
            <a:off x="-381600" y="7695360"/>
            <a:ext cx="2590920" cy="15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3240">
                  <a:solidFill>
                    <a:srgbClr val="00cc00"/>
                  </a:solidFill>
                  <a:miter/>
                </a:ln>
                <a:solidFill>
                  <a:srgbClr val="00cc00"/>
                </a:solidFill>
                <a:latin typeface="Arial Unicode MS"/>
              </a:rPr>
              <a:t>Mazāk dzimumparneru</a:t>
            </a:r>
            <a:endParaRPr b="1" i="1" lang="en-US" sz="1400" spc="1" strike="noStrike">
              <a:ln w="3240">
                <a:solidFill>
                  <a:srgbClr val="00cc00"/>
                </a:solidFill>
                <a:miter/>
              </a:ln>
              <a:solidFill>
                <a:srgbClr val="00cc00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752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Tieksme pēc pastāvīga part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114800"/>
            <a:ext cx="304920" cy="1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114800"/>
            <a:ext cx="304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114800"/>
            <a:ext cx="304560" cy="1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4114800"/>
            <a:ext cx="304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114800"/>
            <a:ext cx="304920" cy="1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14800"/>
            <a:ext cx="304920" cy="1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114800"/>
            <a:ext cx="304560" cy="14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1148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304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819520"/>
            <a:ext cx="4876920" cy="174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Ir pastāvīgs partneri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ie noteikumiem, ka ir uzticīgi viens otram un uz attiecību sākumu nav infekcija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57913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ersonīgs lēmums, pieredzes trūkum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1148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tturēšanās no dzimumdzī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zimumdzīves s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eksuālās prakses vei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38360" y="1142640"/>
            <a:ext cx="0" cy="518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420040" y="1142640"/>
            <a:ext cx="0" cy="518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16200000">
            <a:off x="-2781000" y="9182160"/>
            <a:ext cx="586728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GĻOTĀDU UN ĀDAS BOJĀJUMI</a:t>
            </a:r>
            <a:endParaRPr b="0" i="1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5714640" y="3352680"/>
            <a:ext cx="586728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KONTAKTS AR SPERMU, IZDALĪJUMIEM NO MAKSTS UN DZEMDES KAKLA</a:t>
            </a:r>
            <a:endParaRPr b="0" i="1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828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NĀLAIS SEK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57760" y="1828440"/>
            <a:ext cx="728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7760" y="2057400"/>
            <a:ext cx="728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13716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ASĪV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13372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KTĪV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048120"/>
            <a:ext cx="40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AGINĀLAIS SEK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57760" y="2971440"/>
            <a:ext cx="728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57760" y="3200400"/>
            <a:ext cx="728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81952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SIEVI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35268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VĪRIE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8862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ORĀLI-ĢENITĀLAIS KONTAKT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6019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MASTURBĀ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57200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MANUĀLI-ĢENITĀLAIS KONTAK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029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EROTISKAIS SKŪP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5486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NEĢENITĀLAIS KONTAK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Faktori, kas paaugstina risku inficēties ar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travenozās injekcij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ebkuru vielu, kas šķīst ūdenī ir iespējams ievadīt intravenoz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eksuāls uzbudinājums, ko izraisījusi noteiktu vielu lieto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kaīns, amfetamīns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upveida sek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ostitū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āpēc cilvēki nodarbojas ar sek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ksuālie iemesl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“seksuālais sekss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enerģija un uzmanība ir pilnībā koncentrētas uz jūtām un pārdzīvojumi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brīvošanās no seksuālās spriedz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karu nodibinā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āpēc cilvēki nodarbojas ar seksu </a:t>
            </a:r>
            <a:br>
              <a:rPr sz="4000"/>
            </a:b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seksuālie iemesl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“neseksuālais sekss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23920" y="2250720"/>
            <a:ext cx="40388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iz garlaicīb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ominēšana un kontro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roša teritorija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īdzeklis pret depresij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pakļāvīb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nākums vai parād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i iemesl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ēgšana no vientulīb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ierinājuma sajūt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šapliecināšanā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izkaitinājuma mazināšan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riebīb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nficēšanās riska ar HIV samazināšana dzimumdzīves laik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Bioloģiskie šķidrumi, kas ir pakļauti iespējamai inficēša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8403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erm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jakulāta šķidrum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dalījumi no maksts un dzemdes kakl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sin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Svarīgi zinā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šķidruma veid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šķidruma daudzum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sins klātbūtn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ekcijas vār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aksts, ānusa, dzimumlocekļa, urīnizvadkanāla, mutes dobuma, deguna dobuma, acu gļotād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zimumorgānu, mutes dobuma, ānusa bojātās gļotād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rūces un skrambas uz ādas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Jāņem vērā ar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ļotādu virsma pēc kontakta ar inficēto objekt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ntakta ilgu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Riska novērt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 novērtētu tā vai cita cilvēka iespēju inficēties ar HIV, nepieciešams zināt par viņa seksuālo aktivitāti un praksēm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o vairāk dzimumkontaktu, jo lielāks inficēšanās ri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Riska novērtēšanas kategor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54200"/>
            <a:ext cx="79250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Nav risk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nav reģistrētu vai potenciāli iespējamu inficēšanās gadījum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nenozīmīg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orētiski iespējam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riska pakā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orētiski iespējama inficēšanās ar bioloģiskajiem šķidrumi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nav reģistrētu inficēšanās gadīju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Zema riska pakā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otenciālais risks saistīts ar inficētiem bioloģiskajiem šķidrumiem un iespējamās apmaiņas ar ti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reģistrēti inficēšanās gadījumi ar HIV pie noteiktiem apstākļi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ugsta riska pakā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espējamu un reģistrētu inficēšanās ar HIV iespēju esamība, sakarā ar to, ka ir inficēti bioloģiskie šķidrumi un infekcijas vār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av r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324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skāvien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usais skūpst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sāž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sturbācij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iber-sekss/ sekss pa telefon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Fantāzij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ksa rotaļlietu izmanto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kai individuā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6:21:07Z</dcterms:created>
  <dc:creator>Grazyna Konieczny</dc:creator>
  <dc:description/>
  <dc:language>en-US</dc:language>
  <cp:lastModifiedBy>Arnis</cp:lastModifiedBy>
  <dcterms:modified xsi:type="dcterms:W3CDTF">2011-03-06T15:43:19Z</dcterms:modified>
  <cp:revision>159</cp:revision>
  <dc:subject/>
  <dc:title>HIV/AIDS and Mental Health</dc:title>
</cp:coreProperties>
</file>