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11A-8ABE-4B35-93FE-1CFA2F51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C77-4E03-4FE5-A20B-6CF8B472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DD6-1A27-4200-A63F-42CB51DB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922-0C5D-49E4-ACCE-1DDA16CE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55D-B5A3-48F8-AAB2-0C75161F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57F-E94B-4C44-93F8-7ED7B41E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639-C4E7-45FA-A7F6-20B12AEC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868-2369-442B-B162-FD101F9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944-D239-47D8-AACF-DD9BD22F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24B-FAA1-4EF9-B302-DB516106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091-23E0-48F5-AAB6-8382C2A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765-6665-46E5-9721-DAB2054E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152-FDFC-452A-9263-427DB086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5400" spc="-1" strike="noStrike">
                <a:solidFill>
                  <a:srgbClr val="000000"/>
                </a:solidFill>
                <a:latin typeface="Arial"/>
              </a:rPr>
              <a:t>. modulis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lv-LV" sz="5400" spc="-1" strike="noStrike">
                <a:solidFill>
                  <a:srgbClr val="000000"/>
                </a:solidFill>
                <a:latin typeface="Arial"/>
              </a:rPr>
              <a:t>. nodarbī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27924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uicīds un cilvēki, kas dzīvo ar HIV un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efinīci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uicī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zīvības atņemšana pašam se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rasuicī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šnāvības mēģinājum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uicidāla domā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dejas, dom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omas par pašnāvī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Suicidālā riska novērt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uicīds, parasuicīds un suicidālā domāšana ir ļoti izplatītas starp CDH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sks ir lielāks, k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ilvēks tikko ir saņēmis pozitīvu testa rezultātu uz H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IDS ir sācis bojāt centrālo nervu sistēm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Suicīds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izplatītie mī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ilvēki, kas domā par pašnāvību vai plāno pašnāvību, ne ar vienu nedalās savos plānos un pašnāvība ir pilnīgi negaidīt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, kas runā par pašnāvību, to neizdarī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ilvēki, kas runā par pašnāvību, vienkārši mēģina sev pievērst uzmanīb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ilvēki, kas domā par pašnāvību ir stingri nolēmuši nom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klāta pašnāvības tēmas apspriešana var pamudināt cilvēku to izdarī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Suicidālais risks: augsts vai zem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ugsts ris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astāvīgas domas par pašnāvīb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ezcerības sajūt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grāk noticis pašnāvības mēģinājums bez liecinieki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eselības pasliktināšanā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ierobežotas ārstēšanās iespēj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acients jūtas citiem par nast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kārtoti pašnāvības mēģinājum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izmantojot nāvi nesošus līdzekļ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Zems ri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ūlīt pēc pašnāvības mēģinājuma cilvēks ir kādam par to paziņoj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cīmredzams, ka pacientam ir divējāda attieksme pret pašnāvīb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Anna: risks no mērena līdz augst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Suicīda riska faktori CD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ociālā izolācij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ja sociālā atbalsta sajūt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oblēmas darbā, saistītas ar H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ajūta, ka no tevis visi novērsuši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igmatizācij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Finansiālas grūtīb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vadošās saslimšanas: psihiskie traucējumi un/vai psihoaktīvo vielu lietoš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CDHA ar suicīda izdarīšanas risku ārs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šnāvības mēģinājumi liecina par izmisumu, par bezcerības sajūtu, par depresi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rī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ilvēkiem krīzes stāvoklī nepieciešama ārstē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pējams, ka būs vajadzīgs norīkojums uz psihiatrisko klīnik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ntakts ar CDHA, kas domā par pašnāvību, rada skumjas, dusmas un izmisumu tiem, kas sniedz viņiem palīdzību, bet tas var ietekmēt lēmumus par ārstēšan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atstājiet šīs jūtas bez ievērības, bet apspriediet tās ar kolēģi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6T14:55:30Z</dcterms:modified>
  <cp:revision>306</cp:revision>
  <dc:subject/>
  <dc:title>The treatment of alcohol dependent patients with a comorbid anxiety disorder</dc:title>
</cp:coreProperties>
</file>