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098-D9A0-46D9-97D6-D7024646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B93-058D-4DFC-B9B9-12EF3AD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C3E-AF23-456A-B666-5C156225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B1E-950D-446B-BE58-2FA4D16D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A02-44EF-4D64-98A3-D5DC01ED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DDF-EDCC-4B8C-BC19-0BE14B02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17C-4CF1-466B-9021-41BBFDF5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58D-7A1C-4500-ABC5-CD8E233F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1C4-A93D-40B8-B930-0FFD28AE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C4B-792F-481A-873E-4E61D457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8EB-4E74-4182-87B9-8E9AC3A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F12-F61E-485D-B731-88163EE3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F8BA8B-E4E8-491E-BFB4-C7E7BD6FA07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1.moduli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. no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HIV/AIDS psiholoģiskie aspek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Negatīvs rezultā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skaidrojiet, ko darīja klients, gaidot testa rezultā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r mērķi izslēgt / apliecināt paaugstināta riska uzvedību, kas varēja novest pie inficēšanās šajā period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kārtojiet pirmstesta konsultēšanas laikā saņemto informācij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ējiet klientu par to, kā izvairīties no inficēšanās un par riska samazināšanas paņēmieniem, atkarībā no viņa dzīvesveid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r HIV infekciju saistītā psiholoģiskā stāvokļa stad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9844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rms test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r testēšanu saistītā krīz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esta rezultātu saņem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ekšējā un ārējā pieņemšan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entais peri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limības sākum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limība un nāv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onsultēšanas pamati HIV/AIDS jautāju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Nenosodie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Saglabājiet konfidencialitāt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Saglabājiet klienta tiesības uz privāto dzīv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Sniedziet emocionālo atbalstu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Turpiniet darbu, lai novērstu kontaktu ar HI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Cieniet klienta tiesības pieņemt jebkurus lēmumus, kas attiecas uz viņu personīg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Atvēliet konsultēšanai pietiekoši daudz lai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508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, kas jāiegūst no kli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viņš agrāk ir veicis testēšanu uz H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dā veidā viņš ir pakļāvis sevi inficēšanās risk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iska novērtēš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viņam nozīmē t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vērtēt, vai viņš apzinās testa rezultāta sek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 viņš agrāk ir reaģējis uz krīzes situācijām personīgajā dzīv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viņš darīs, ja rezultāts būs pozitī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r ko viņš var parunā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sagatavošana iespējamam pozitīvam rezultāta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viņš darīs, gaidot rezultā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irmstesta konsult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, kas jāpaziņo klie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Informācija par HIV/AIDS, atšķirības starp HIV/AID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as ir testēšana. Kā norisinās test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o parāda testa rezultāts un ko tas nevar parādī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o nozīmē pozitīvs un negatīvs rezultāt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o nozīmē “loga” periods vai “aklais period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Infekcijas izplatīšanās ceļi un iespējamie aizsargāšanās paņēmien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Droša seksa metod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HIV un kontraceptīv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Mazāk bīstami narkotiku lietošanas paņēmien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Iespējamās atbalsta formas cilvēkiem, kas gaida testa rezultātu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ēctesta konsult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ozitīvs rezultāt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odiet klientam iespēju un laiku pārdomāt saņemto informācij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lreiz paskaidrojiet viņam, ko nozīmē pozitīvs rezultā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jautājiet klientam, kam viņš gribētu pastāstīt par testa rezultātu, kad viņš to pateiks un k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 viņš gatavojas darīt tuvākajā laik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ozitīvs rezultāt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das iespējamās grūtības sagaida klientu un kā tās pārvarē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ģimenē, darbā, sabiedrīb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 pateikt partnerim par testa rezultātiem / kā piedāvāt viņam veikt test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ējiet klientu par pieejamo palīdzīb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edicīniskā palīdzība / ārstēšana, savstarpējās palīdzības grupas, sociāli-psiholoģiskā palīdzība u.t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ekcijas tālākas izplatīšanas novēr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ācija par HIV inficēta cilvēka tiesībām un pienākumi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6:21:07Z</dcterms:created>
  <dc:creator>Grazyna Konieczny</dc:creator>
  <dc:description/>
  <dc:language>en-US</dc:language>
  <cp:lastModifiedBy>Arnis</cp:lastModifiedBy>
  <dcterms:modified xsi:type="dcterms:W3CDTF">2011-03-05T20:04:22Z</dcterms:modified>
  <cp:revision>131</cp:revision>
  <dc:subject/>
  <dc:title>HIV/AIDS and Mental Health</dc:title>
</cp:coreProperties>
</file>