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675-4A46-4140-A06A-F97A7E4F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CD3-56A3-4118-8E2C-515050AD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36F-6600-4DC9-B220-F1F88E62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3E7-4B77-47E1-9131-D506035A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29-A594-456E-A6D5-301CA52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0ED-9577-4EE7-B053-43395A8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1A4-1F2B-4B79-AD84-BDCBB8A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4F1-5E56-4CB2-8587-8A356E9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885-1887-45A4-9BE0-C355AF2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42E-3151-4D38-833E-30493C8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AAB-1B64-4E57-975D-FE29E7F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FBB-5F1E-4003-A820-31039B7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171-EA88-4D2C-A588-82F778C1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lv-LV" sz="4800" spc="-1" strike="noStrike">
                <a:solidFill>
                  <a:srgbClr val="000000"/>
                </a:solidFill>
                <a:latin typeface="Arial"/>
              </a:rPr>
              <a:t>. 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ognitīvie traucēj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Kognitīvie traucējum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ie HIV infek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HIV ietekme uz galvas smadzenē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IDS asociētā dem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īdzība ar depresij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zīves kvalitātes paaugstināšanas nepieciešam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Kognitīvo traucējumu iemes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iropsihiskie simptomi visbiežāk sastopami cilvēkiem, kam CD4 skaits ir mazāks nekā 200 šūnas/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spējami sekojoši simptomi: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ersonības izmaiņa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līrijs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oze,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ātija, (depresija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emence.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imptomus var izraisīt sekojoši iemes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fekciozi (HIV)  centrālās nervu sistēmas (CNS) bojājumi un ar to saistīti neirokognitīvi traucējum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Oportūniskās CNS infekcija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citomegalovīruss, sēnīt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dzēji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CNS limfom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metastātiskā Kapoši sarko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āļu terapijas (ART) blakusefek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AIDS-asociētā dem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27892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biežāk tiek konstatēta pacientiem ar CD4 skai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200 šūnas/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Zemgarozas neirokognitīvie traucējum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tver sevī divus sindromus, starp kuriem galvenā atšķirība ir ikdienas dzīves disfunkcijas pakāp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ugstāka pie AIDS-asociētās demences kompleks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egli HIV-asociēti kognitīvie-kustību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raucējumi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KKT)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V-asociētās demences komplek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IDS-asociētās demences klīniskās pazī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raucējumi kognitīvajā, uzvedības, afektīvajā un kustību sfēr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miņas pasliktināšanās, samazinās iemācīšanās un koncentrēšanās spējas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ātija, nomākts garastāvoklis, mānija, psihoze, delīrijs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ociālā pašizolācija, enerģijas zudums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vēta reakcija, neveiklas kustības, rokraksta pasliktināšanās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augstināts saslimšanas un mirstības ri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Depresija vai AIDS-asociētā demence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23713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Depre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ociālā izolācija, raudulī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ātija, enerģijas zudum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regulāra zāļu preparātu lietoš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IDS-asociētā dem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ems CD4 līmenis, augsta vīrusu slod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izmirst, kur dzīv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vētas reakc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ātija, enerģijas zudum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eregulāra zāļu preparātu lietoš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AIDS-asociētā dem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RT ir galvenā metode AIDS-asociētās demences ārstēšan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107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daptācija pie kognitīvo funkciju samazināšanā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8288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cientam ieteic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tzīmēt par vizītēm pie ārsta, pierakstīt pieņemšanas datum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darīt vairākus darbus vienlaicīg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aglabāt intelektuālo aktivitāti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udz atpūs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mantot speciālu zāļu kastīti un modinātāj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vairīties no stresa situācijām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zvairīties no alkohola un narkotiku lietošan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edzamā vietā turēt kalendāru un pulkste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ūgt, lai informācija tiek pasniegta lēnākā temp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5:44:05Z</dcterms:modified>
  <cp:revision>318</cp:revision>
  <dc:subject/>
  <dc:title>The treatment of alcohol dependent patients with a comorbid anxiety disorder</dc:title>
</cp:coreProperties>
</file>