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83956-C149-4570-94D5-C9F0F5F2FF05}" type="slidenum">
              <a:rPr b="0" lang="nl-NL" sz="12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В оригинале 2 одинаковых слайда 8 и 9 (совмещены здесь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В оригинале 2 одинаковых слайда 8 и 9 (совмещены здесь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ABD0-79D0-46DD-8D1A-011DB0E7D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EFE2-AB6F-44EB-BE59-747965E65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EDED-B75C-4E46-9008-ECC8DBFE6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AEDA-3896-40BF-82B3-9B144DE98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279A-5225-4CF4-8B20-57B520F2A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B827-DCB9-40A2-99EB-3E2C9723B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334F-52FD-43A8-9A01-1FF389A0E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6EAB-A1A2-406C-A5BC-3AFC148AC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D832-3B78-4315-8953-8A083D9C5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466F-05D4-477A-B6C2-71462741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ABE4-3681-42CD-8875-CBC3BCAC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2BE3-1EFA-4A50-AC5D-DA090E61C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8EF6D-162C-4F96-B8F8-C99918FDC2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lv-LV" sz="4800" spc="-1" strike="noStrike">
                <a:solidFill>
                  <a:srgbClr val="000000"/>
                </a:solidFill>
                <a:latin typeface="Arial"/>
              </a:rPr>
              <a:t>modulis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lv-LV" sz="4800" spc="-1" strike="noStrike">
                <a:solidFill>
                  <a:srgbClr val="000000"/>
                </a:solidFill>
                <a:latin typeface="Arial"/>
              </a:rPr>
              <a:t>. nodarbīb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sihiskās veselības problēmas un atkarība cilvēkiem, kas dzīvo ar HIV/A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sihiskā veselība un HI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8920" y="182880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Apmēra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% 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CDHA ir psihiskās veselības problē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200" spc="-1" strike="noStrike">
                <a:solidFill>
                  <a:srgbClr val="000000"/>
                </a:solidFill>
                <a:latin typeface="Arial"/>
              </a:rPr>
              <a:t>Psihiskās veselības problēmas CDH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Nomākts garastāvokli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Depresij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Atkarīb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Trauksm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Trauksmes traucējum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Delīrij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Nožēl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Vainas sajūt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Bēda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sihoz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Šizofrēnij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Bipolārie traucējum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Dusma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Agresij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Bēda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Suicidālas doma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Baile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Demenc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Mānij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2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sihiskā veselība un HI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8920" y="184464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Dažās valstīs lielākā daļa CDHA – tie ir injekciju narkotiku lietotāj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Apmēram pusei CDHA ir arī citas psihiskas problēma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 Jāatceras, ka narkotiku lietošanas gadījumā, psihisko problēmu iespēja ir lielāka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Arial"/>
              </a:rPr>
              <a:t>Psihiskās veselības problēmas un HIV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(5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Depresīvie traucējumi, depresīvas doma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25-4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ē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Trauksmes traucēju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Kognitīvie traucējum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HI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demenc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HAD), </a:t>
            </a: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neirosifiliss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Zāļu blakusiedarbība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efavirencs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HCV</a:t>
            </a: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ārstēšana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r seksu/partneri saistītās problē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Somatizācija/hipohondr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Arial"/>
              </a:rPr>
              <a:t>Augstāks inficēšanās risks ar HIV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riskanta uzvedība: sekss un/vai narkotikas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sakarā 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tkarīb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šizofrēniju/bipolārajiem traucējumi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depresīvajiem traucējumi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personības traucējumie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robežstāvokļa, antisociāla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r seksu/partneri saistītajām problēmā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96000" y="907920"/>
            <a:ext cx="158436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1619280" y="907920"/>
            <a:ext cx="144000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2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Psihiskā veselība un H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240" y="1844640"/>
            <a:ext cx="6629400" cy="32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HIV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tā ir hroniska, stigmatizējoša, potenciāli nāvējoša infekcijas slimība, kas izraisa cilvēkiem pisihiskus un somatiskus traucējumu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2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Arial"/>
              </a:rPr>
              <a:t>Psihiskās veselības un atkarības problēmas CDHA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lv-LV" sz="4000" spc="-1" strike="noStrike">
                <a:solidFill>
                  <a:srgbClr val="000000"/>
                </a:solidFill>
                <a:latin typeface="Arial"/>
              </a:rPr>
              <a:t>iemesl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9280" y="2133720"/>
            <a:ext cx="896472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Sociālie apstākļ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nabadzība, stigma, izolācija, bezdarbs, atrašanās ieslodzījumā, diskriminācija, partnera trūkums, narkotiku pieejamīb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ersoniskās īpašīb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nepietiekamas spējas pārvarēt grūtības, psihiskās veselības problēma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anamnēz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Bioloģiskie faktor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iedzimtīb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mantota nosliece uz psihisko traucējumu/ atkarības attīstīb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HIV un/vai ART izraisītas psihiskās veselības problēm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lv-LV" sz="4000" spc="-1" strike="noStrike">
                <a:solidFill>
                  <a:srgbClr val="000000"/>
                </a:solidFill>
                <a:latin typeface="Arial"/>
              </a:rPr>
              <a:t>Psihiskās veselības problēmas un atkarība CDHA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lv-LV" sz="4200" spc="-1" strike="noStrike">
                <a:solidFill>
                  <a:srgbClr val="000000"/>
                </a:solidFill>
                <a:latin typeface="Arial"/>
              </a:rPr>
              <a:t>seka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560" y="1980720"/>
            <a:ext cx="84978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0000"/>
                </a:solidFill>
                <a:latin typeface="Arial"/>
              </a:rPr>
              <a:t>Psihiskās veselības problēmas </a:t>
            </a:r>
            <a:r>
              <a:rPr b="0" lang="lv-LV" sz="3300" spc="-1" strike="noStrike" u="sng">
                <a:solidFill>
                  <a:srgbClr val="000000"/>
                </a:solidFill>
                <a:uFillTx/>
                <a:latin typeface="Arial"/>
              </a:rPr>
              <a:t>cilvēkiem ar HIV</a:t>
            </a:r>
            <a:r>
              <a:rPr b="0" lang="lv-LV" sz="3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3300" spc="-1" strike="noStrike" u="sng">
                <a:solidFill>
                  <a:srgbClr val="000000"/>
                </a:solidFill>
                <a:uFillTx/>
                <a:latin typeface="Arial"/>
              </a:rPr>
              <a:t>negatīvu statusu</a:t>
            </a:r>
            <a:r>
              <a:rPr b="0" lang="lv-LV" sz="3300" spc="-1" strike="noStrike">
                <a:solidFill>
                  <a:srgbClr val="000000"/>
                </a:solidFill>
                <a:latin typeface="Arial"/>
              </a:rPr>
              <a:t> var novest pie</a:t>
            </a: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0000"/>
                </a:solidFill>
                <a:latin typeface="Arial"/>
              </a:rPr>
              <a:t>riskantām uzvedības formām, piemēram narkotiku lietošanas vai seksa prakses bez aizsargāšanās</a:t>
            </a: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0000"/>
                </a:solidFill>
                <a:latin typeface="Arial"/>
              </a:rPr>
              <a:t>ciešanām</a:t>
            </a: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0000"/>
                </a:solidFill>
                <a:latin typeface="Arial"/>
              </a:rPr>
              <a:t>dzīves kvalitātes pasliktināšanās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4000" spc="-1" strike="noStrike">
                <a:solidFill>
                  <a:srgbClr val="000000"/>
                </a:solidFill>
                <a:latin typeface="Arial"/>
              </a:rPr>
              <a:t>Psihiskās veselības problēmas un atkarība CDHA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lv-LV" sz="4200" spc="-1" strike="noStrike">
                <a:solidFill>
                  <a:srgbClr val="000000"/>
                </a:solidFill>
                <a:latin typeface="Arial"/>
              </a:rPr>
              <a:t>seka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84978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sihiskās veselības problēmas</a:t>
            </a:r>
            <a:r>
              <a:rPr b="0" lang="lv-LV" sz="2800" spc="-1" strike="noStrike" u="sng">
                <a:solidFill>
                  <a:srgbClr val="000000"/>
                </a:solidFill>
                <a:uFillTx/>
                <a:latin typeface="Arial"/>
              </a:rPr>
              <a:t> cilvēkiem, kas dzīvo ar HIV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 var novest pi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riskantām uzvedības formām, piemēram narkotiku lietošanas, vai seksuālām praksēm bez aizsargāšanā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ārstēšanas rekomendāciju, ieskaitot zāļu preparātu lietošanu un ārsta apmeklējumus, neievērošana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ciešanām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dzīves kvalitātes pasliktināšanās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4T07:37:56Z</dcterms:created>
  <dc:creator>AnnemiSC</dc:creator>
  <dc:description/>
  <dc:language>en-US</dc:language>
  <cp:lastModifiedBy>Arnis</cp:lastModifiedBy>
  <cp:lastPrinted>2003-06-11T10:27:27Z</cp:lastPrinted>
  <dcterms:modified xsi:type="dcterms:W3CDTF">2011-03-05T19:48:44Z</dcterms:modified>
  <cp:revision>368</cp:revision>
  <dc:subject/>
  <dc:title>The treatment of alcohol dependent patients with a comorbid anxiety disorder</dc:title>
</cp:coreProperties>
</file>