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8BB-DEE4-45C6-84A7-FAF98D8C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16E-9AB1-4065-8124-48893E7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F21-6396-40C6-98C8-877762E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D8D-BBA2-4357-8484-88CFD7A3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F71-ABA5-436F-A2EE-386F60C9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3D5-2EDE-4283-8B8D-1771D07D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3FF-4610-4EF3-8C0B-D137D504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D61-0AE9-4FD0-92D2-911CB98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275-323F-4FCE-BDE7-4AFA7E52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8B9-7784-4097-83F7-0FF06B3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17A-25DB-4705-87E0-5A9F578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9E3-2FC9-48BC-94D2-76FFEC0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DC80-9AC4-4F8E-A459-186D9204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5400" spc="-1" strike="noStrike">
                <a:solidFill>
                  <a:srgbClr val="000000"/>
                </a:solidFill>
                <a:latin typeface="Arial"/>
              </a:rPr>
              <a:t>. moduli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 11</a:t>
            </a:r>
            <a:r>
              <a:rPr b="0" lang="lv-LV" sz="54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rauksmes traucēj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Simptom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nikas lēk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em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riedz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rebuļ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remor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eiboņ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imptomi var ilgt dažas minūtes, stundas vai pat di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Galvenās, ar HIV saistītās problēmas, kas izraisa trauks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072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Lēmums veikt testēšanu uz HI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sta rezultātu saņemš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Testa rezultātu paziņošana citiem cilvēki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Droša seksa paņēmienu apsprieš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Bailes inficē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Pirmo ar HIV saistīto slimības pazīmju parādīšanā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ART režīma ievērošana (bailes turpināt ārstēšanos) un bailes, ka ART nepalīdzē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Somatisku simptomu, kas liecina par slimības progresu, parādīšanā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Arial"/>
              </a:rPr>
              <a:t>Funkcionālu traucējumu apzināšanās vai kognitīvo spēju samazināšanā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rauksmes traucējum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DS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)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2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ikas lēk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kšņi parādījusies stipru baiļu vai šausmu sajū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imptomi: aizdusa, paātrināta sirdsdarbība, sāpes krūtīs, smakšana un bailes “sajukt prātā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gorafob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ailes no situācijām, no kurām grūti atrast izeju un vēlēšanās izvairīties no t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ikas trauc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nikas lēkmes, kas atkārtojas bieži un negaidī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ociālā fob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ipra trauksme, ko izraisa nepieciešamība atrasties vai uzstāties auditorijas priekš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rauksmes traucējum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DS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)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0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Obsesīvi kompulsīvie traucē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Obsesijas, kas izraisa trauksmi un/vai kompulsijas (ar mērķi samazināt šīs trauksmes līmen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osttraumatiskā stresa traucēju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kārtota traumatiskā notikuma pārdzīvošana, ko pavada paaugstināta uzbudināmība un tieksme izvairīties no kairinātāj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Ģeneralizēta trauk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stāvīgs pārmērīga nemiera un trauksmes stāvoklis vismaz sešus mēneš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Trauksmes traucējumi un HIV infekcijas ārs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iekšroka dodama psihoterapijai un zāļu terapija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sihoterap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ndividuālā, ģimenes un grupu terapij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gnitīvā – uzvedības terapij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sihoanalī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zturošā psihoterapij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āļu terapi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elektīvie serotonīna atpakaļsaistes inhibitori (SSAI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ricikliskie antidepresan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enzodiazepīn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AO inhibitor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B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Iespējama zāļu preparātu savstarpēja mijiedarbība ar ART preparātie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4:58:29Z</dcterms:modified>
  <cp:revision>295</cp:revision>
  <dc:subject/>
  <dc:title>The treatment of alcohol dependent patients with a comorbid anxiety disorder</dc:title>
</cp:coreProperties>
</file>