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6516-CD34-4F9A-BE2C-403FAB7398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6749-578F-4C48-9395-E8D5AA03FC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3520" y="4344840"/>
            <a:ext cx="51433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735D-6E5A-4FD5-ACDB-3843DD6280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61760" y="4324320"/>
            <a:ext cx="51814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E02A-38B8-4DF6-9DF3-9C48ECBC34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atozoid is not infected with HIV and has not CD4 recep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A9F6-4F52-4A2A-9C03-0F130D41F8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3229-2035-4D13-B6D1-15A35FF181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38F-88CB-4C01-945E-CB8BE08B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22F-8DCA-4FF4-95CC-01335148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A45-AA6E-40EF-AFD4-8987631A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090-689B-4C56-B395-B35EB7BD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B3E-7DA5-4D99-8F11-975D7B57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8FE-3AE9-47DB-A490-1BE745D1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CF1-434E-4072-A6B7-235C2C3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C47-0CC7-4333-B704-C5928A7D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653-074A-499D-A884-EA794553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D10-9931-4229-8315-0CE4439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080-9E5D-40A5-B88F-81AB161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F4C-1B73-4B70-AC2A-2E6D8EC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957D-D334-4DB6-9136-A89BBC20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000000"/>
                </a:solidFill>
                <a:latin typeface="Arial"/>
              </a:rPr>
              <a:t>1. moduli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.nodarb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HIV/AID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ārstēšana un palīdzības organizēš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68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Metodes līdzestības ART uzlabošanai : iedarbošanās uz pacientu un preparātu izvē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226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ormējiet pacientu par iespējamiem blakusefektie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ģiniet prognozēt un izvairīties no nevēlamiem blakusefektie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kāršojiet prasības diēta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zvairieties no nevēlamiem blakusefektiem, ko izraisa zāļu savstarpējā mijiedarbīb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iespējas samaziniet tablešu skait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ties, ka pacients saprot un pieņem ārstēšanas plān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zītes laikā atrodiet laiku tam, lai paskaidrotu ārstēšanas mērķus un ārstēšanas preparātu lietošanas shēmas nozīm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093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08120" y="620640"/>
            <a:ext cx="7967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ties, ka pacients ir gatavs sākt terapiju, pirms jūs veicat pirmos nozīmējum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pazīstieties ar pacienta radiniekiem/draugiem, lai iegūtu viņu atbalstu un apspriestu ārstēšanas plān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zstrādājiet detalizētu ārstēšanas plānu. Ņemiet vēr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cienta dzīvesveidu un darbu, un saistībā ar to paredziet diētas sekas un preparātu blakusiedarbīb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dodiet pacientam ārstēšanas plāna kopiju, parādiet viņam preparātus, pastāstiet, kas palīdzēs viņam atcerēties par nepieciešamību iedzert zāles (kārbiņas ar dienas/ nedēļas devām, modinātājs, peidžeris u.tml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91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tāstiet, kā sazināties ar atbalsta grupām un citām organizācijām, pasakiet, kādas Interneta vietnes viņi var lietot informācijas un atbalsta saņemšana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Uzturiet kontaktus ar vietējām organizācijām, kas strādā HIV/AIDS sfērā, adatu un šļirču apmaiņas jomā, ielu darba un kaitējuma mazināšanas sfēr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dāvājiet pacientam “izmēģināt” zāļu lietošanu, izmantojot vitamīnus vai konfek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09300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1532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Metodes līdzestības ART uzlabošanai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Medicīnas darbin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Nodibiniet uzticību starp jums un pacient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Kalpojiet pacientam par zināšanu un informācijas avot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Piedāvājiet pacientam iespējamos variantus, lai sazinātos ar jebkuru komandas locekli informācijas saņemšanai, ja tā būs vajadzīga pārtraukumos starp plānotajām tikšanās reizēm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Regulāri pārbaudiet zāļu preparātu lietošanas shēmas ievērošanu. Ja tā nav sevišķi laba, nozīmējiet pacientam tikšanās reizes biežāk, iesaistiet ģimenes locekļus, draugus, organizācijas ar ko jūs sadarbojaties.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Ņemiet vērā citas saslimšana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depresiju, aknu slimības, vispārēju vājumu, balsenes gļotādas iekaisum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609300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13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Ārstēšanas rekomendāciju ievērošanas kvalitātes uzlabošanā iesaistiet visu multidisciplināro komandu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medmāsas, farmaceitus, sociālos darbiniekus, brīvprātīgos, NVO darbiniekus u.c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Apmāciet personālu ārstēšanas un ārstēšanas rekomendāciju ievērošanas kvalitātes paaugstināšanas jautājumo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Palūdziet kolēģus, kas strādā ar jūsu pacientu, ietvert savā darba plānā soļus, kas vērsti uz līdzestības terapijai uzlabošanu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416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Perinatālais ceļš bērnam inficējoties ar HIV no mā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2880" y="2057400"/>
            <a:ext cx="771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spcAft>
                <a:spcPts val="1001"/>
              </a:spcAft>
              <a:tabLst>
                <a:tab algn="l" pos="0"/>
                <a:tab algn="l" pos="80028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ska rādītāji inficēties ar vīrusu bērnam no mātes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vertikālās transmisijas ceļā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nelietojot ART ir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spcAft>
                <a:spcPts val="1001"/>
              </a:spcAft>
              <a:tabLst>
                <a:tab algn="l" pos="0"/>
                <a:tab algn="l" pos="80028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6–25%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Eiropā un Ziemeļamerikā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spcAft>
                <a:spcPts val="1001"/>
              </a:spcAft>
              <a:tabLst>
                <a:tab algn="l" pos="0"/>
                <a:tab algn="l" pos="80028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0–45%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Āfrikā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7640" y="4992840"/>
            <a:ext cx="3774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90360" y="457200"/>
            <a:ext cx="72039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Perinatālais ceļš bērnam inficējoties ar HIV no mā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557360"/>
            <a:ext cx="84326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>
              <a:lnSpc>
                <a:spcPct val="90000"/>
              </a:lnSpc>
              <a:spcBef>
                <a:spcPts val="1749"/>
              </a:spcBef>
              <a:spcAft>
                <a:spcPts val="524"/>
              </a:spcAft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Dzemdē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grūtniecības laik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5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0%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 gadījum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Intranatāli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dzemdību laik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): 60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75%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 gadī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Barojot ar krūti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: 14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9%</a:t>
            </a:r>
            <a:r>
              <a:rPr b="0" lang="lv-LV" sz="3200" spc="-1" strike="noStrike">
                <a:solidFill>
                  <a:srgbClr val="000000"/>
                </a:solidFill>
                <a:latin typeface="Arial Narrow"/>
              </a:rPr>
              <a:t> gadījumu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4320" y="4992840"/>
            <a:ext cx="3878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Faktori, kas ietekmē vīrusa nodošanu no mātes bērnam perinatālā ceļ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No mātes pu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V-1RNS līme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CD4 limfocītu skaita samazināšanās, B un C hepatīta, bakteriālās vaginozes vai seksuāli transmisīvo infekciju ierosinātāju klātbūtne, nav iespējas lietot ART grūtniecības laik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kušeriskie fakto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tervāla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lgums starp augļa apvalka pārplīšanu un bērna piedzimšanu, horioamnionīts, fizioloģiskas dzemdības, invazīvas darbības dzemdību laik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No jaundzimušā pu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iznēsā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Vertikālās transmisijas profilak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ertikālās transmisijas risku izdodas samazināt līdz mazāk nek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eicot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efektīvai A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elektīva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lānot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izargriezien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ērna barošanai ar piena maisījumiem krūts barošanas viet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6960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Ekspress-analīze dzemdību laik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85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ievietes, kas nav saņēmušas pirms dzemdībām pienācīgu palīdzību un konsultācijas sakarā ar HIV infekciju un nav veikušas testu uz HIV, ir paaugstināta riska grupa bērna perinatālai inficēšana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Ekspress - analīze dzemdību laikā ļauj veikt profilaktisku antiretrovīrusu ārstēšan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rofilaktisko ART jāuzsāk uzreiz pēc pozitīva ekspress - analīzes uz HIV rezultāta saņemšana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gaidot apstiprinošu standarta test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Multidisciplinārā komand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Medicīnas darbinieki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nfekcionist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psihiatr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psiholog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pēc nepieciešamības citi speciālist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akušieris-ginekologs, ķirurgs, dermatolog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HIV/AIDS un psihiatrijas jautājumos sagatavota medmāsa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roša apaugļ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eicoties ART efektivitātei, HIV infekciju var uzskatīt par hronisku saslimšanu, kas pakļaujas farmakoloģiskai kontrole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eicoties ART, CDHA atkal var rēķināties ar “normālu dzīvi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ulātajiem pāriem ar atšķirīgu HIV statusu aktuāls kļūst jautājums par drošu apaugļoša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7783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Spermas attīrī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permatozoīds nesat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V R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V D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D4 šūnu recepto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Spermas attīrī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rocedūra ir iespējama gadījumos, kad partneris ir HIV inficēts, bet partnere - n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Uz 2002. gadu ar spermas attīrīšanas procedūras palīdzību tika veiktas vairāk nekā 4000 apaugļošanas 1500 pāriem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Šīs procedūras laikā neviena sieviete netika inficēta ar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skaņā ar publicēto informāciju šī metode ir droša mātei un bērna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eskatoties uz to, pāriem, kas ir izvēlējušies šo procedūru jābūt informētiem par iespējamo inficēšanās risk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Multidisciplinārā komand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ociālās sfēras darbiniek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ociālie darbiniek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aitējuma mazināšanas programmu darbiniek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elu darbinieki – darbam ar mērķa grup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D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līdzība pēc principa “līdzīgs līdzīgam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špalīdzības grup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Tuberkul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858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pidemioloģ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mēram 10 miljoni cilvēku pasaulē slimo vienlaicīgi ar HIV infekciju un tuberkulo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uberkuloz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ens no galvenajiem globālajiem mirstības iemesli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DHA vidū tuberkuloze ir par iemeslu 15% no kopējā letālo iznākumu skai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3 %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dījumu CDHA vispirms inficējās ar tuberkulozes mikobaktērijā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uberkulozes hroniskās formas saasināšanās 100 reizes biežāk ir CDHA nekā parastajiem pacienti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Tuberkuloz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HIV un tuberkulozes savstarpējā saistī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5540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DHA tuberkuloze ir sastopama biežā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icēšanās ar tuberkuloz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zemina imunitāt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ātrina HIV replikācij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mazina CD4 šūnu skait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augstina oportūnisko infekciju ris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Tuberkuloze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i="1" lang="lv-LV" sz="3600" spc="-1" strike="noStrike">
                <a:solidFill>
                  <a:srgbClr val="000000"/>
                </a:solidFill>
                <a:latin typeface="Arial"/>
              </a:rPr>
              <a:t>Diagnost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199980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o vājāka imunitā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o mazāks CD4 šūnu skai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o lielāka tuberkulozes smagas norises iespēja ar citu orgānu iesaistīšan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mfmezglu, centrālās nervu sistēmas, kaulu u.c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Tuberkulo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Ārstēš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856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dukc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vus mēneš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fampicī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zoniazī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irazinami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etambuto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ākošais kur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us mēneš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fampicīns un izoniazī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ie tam jāņem vēr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av noteikts optimālais moments ārstēšanas uzsākšana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pēc astoņām nedēļām nav novērojama uzlabošanās, terapiju var pagarināt vēl līdz deviņiem mēnešie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CDHA var būt pret zāļu preparātiem noturīga tuberkulozes forma, tāpēc viņiem nepieciešami rezerves preparāt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daži ART preparāti savstarpēji mijiedarbojas ar prettuberkulozes preparātiem, piemēram, rifampicīnu nevar lietot pacienti, kam vajadzīga 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Tuberkulo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rofilak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5838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rofilaktisku ārstēšanu iesaka HIV inficētaji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r pozitīvu reakciju uz attīrīta proteīna tuberkulīna atvasinājumu (PPD-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m nesen ir bijis kontakts ar tuberkulozes slimniek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Abos gadījumos jāizslēdz aktīva tuberkulozes form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ēneš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zoniazīd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u reizi dienā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tamīn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6 25–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u reizi dien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zoniazīd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9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tamīn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6 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vas reizes nedēļ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vus mēneš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rifampicī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razinamid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5–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vara vienu reizi dien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va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rifampicī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 vienu reizi dien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razinami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g/kg svara divas reizes nedēļ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ādi faktori uzlabo līdzestību AR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6144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Psiholoģiskās un sociālās palīdzības pieejamīb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Ārstēšanai ir jāiekļaujas ikdienas dzīvesveid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Izpratne par to, ka zāļu preparātu lietošanas shēmas neievērošana var novest pie zāļu rezistence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Apziņa, ka rezultāta sasniegšanai nepieciešams lietot visas parakstītās zāle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Spēja mierīgi lietot zāles citu cilvēku klātbūtn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Arial"/>
              </a:rPr>
              <a:t>Regulāri klīnikas apmeklējum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1:27:41Z</dcterms:created>
  <dc:creator>dorota</dc:creator>
  <dc:description/>
  <dc:language>en-US</dc:language>
  <cp:lastModifiedBy>Arnis</cp:lastModifiedBy>
  <dcterms:modified xsi:type="dcterms:W3CDTF">2011-03-06T15:42:24Z</dcterms:modified>
  <cp:revision>160</cp:revision>
  <dc:subject/>
  <dc:title>Slajd 1</dc:title>
</cp:coreProperties>
</file>