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635-C3F9-4024-842B-56BEAE9A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7DF-75A2-4465-A3BA-13E028B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01F-47E6-4A9C-9D11-BF38B6DD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82B-AFDC-4198-A722-001C45EB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2A4-5B56-46CD-AC3B-9BCC4226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373-27BE-4C70-A7C5-0A1E9D9B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27C-78E4-451B-B297-CFF829F6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FB0-8D10-42F0-AE1C-A162E0F9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AA0-984D-4492-9411-C699F70C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56F-6445-416E-BEA7-B2F0F50E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075-C2C5-479A-B0AA-4AE6AD86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286-0311-4459-B6F6-AF1756C2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0505-BF01-4EC9-A991-09B1B0E59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.modulis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.nodarbī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Darbs ar cilvēkiem, kas dzīvo ar HIV/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Darbs ar CD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ofesionālo darbinieku, personu, kas sniedz aprūpi, un ģimenes locekļu jūtas darbā ar CDH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iesiskie un ētiskie jautājum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adarbība starp ārstiem, medmāsām, cietumu darbiniekiem, skolotājiem, u.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35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opīgās jū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44792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ailes no slimības un darbaspēju zaudēša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skomforts, aizkaitinājums, izvairīšanā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ailes no nāves un nomirša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līdzjūtības trūku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nika, diskomforts, izvairīšanās, dusmas, nep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skomforts seksa laik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zvairīšanās, rūpes, dus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skomforts, lietojot psihoaktīvās viel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līdzjūtības trūkums, dusmas, izvairīšanās, nep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skomforts pie homoseksualitā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līdzjūtības trūkums, izvairīšanās, dusmas, rūpes, aizkaitinājums, nep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5T19:54:45Z</dcterms:modified>
  <cp:revision>297</cp:revision>
  <dc:subject/>
  <dc:title>The treatment of alcohol dependent patients with a comorbid anxiety disorder</dc:title>
</cp:coreProperties>
</file>