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25C-AD4E-4EFB-9E64-D12CDC5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453-9B41-4709-AA40-E19EBF00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41-312E-4415-9ADC-D98723EE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DCD-DE0D-4921-BE4A-3BC79266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8A2-C29B-42AA-9987-ADA3711A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0C2-1C86-4CA6-B257-7C2467A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887-23FA-468D-B5DE-36ACD9A5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A27-69EE-47A8-B45D-21C69AC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3B9-6EB1-4030-B5FE-A7FF4EA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507-C3F8-4CF4-9F9D-3C82ABE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51C-26C3-4D55-A6A0-2DBFCAF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66B-9473-4248-BE2B-B412589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309-A087-4585-86B8-E875FA676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. 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 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ekss un 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424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un seksa problēm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HIV, ART, psihotropo preparātu bioloģiskie blakusefek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 problēmas ar ejakulācij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 pazemināta seksuālā tiek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ems testosterona līme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- seksuālā dis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vadošie psihiskie traucējumi: depresija, trauksme, dem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mērīga alkohola un narkotiku lietoš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ailes inficē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uns un vainas sajū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ormācijas slēpšana, stigma un diskriminā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Savstarpējo attiecību problēmas CDHA dzīv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r seksu saistītās problē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rtneris var nezināt par HIV pozitīvo statusu vai par CDHA dzīvesveid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iemēram, prostitūcija, narkotiku lietošana, vīrieša seksuālās attiecības ar citiem vīrieš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skordance: viens no partneriem ir inficēts ar HIV, otrs – n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ailes no nāk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nas sajū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Šaubas – vajag vai nevajag bērnus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sihiskie traucējumi, piemēram depresija, trauksme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mērīga alkohola/ narkotiku lietoš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ekss un 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HIV tiek pārnēsāts arī dzimumceļā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ielākā daļā cilvēku, ieskaitot CDHA ar psihiskajiem traucējumiem, nodarbojas ar seksu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Nepieciešams runāt par seksa tēm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ekss un HIV: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pspriešanai sarežģīta tē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Bailes apspriest tādu intīmu jautājum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Bailes apspriest tādu “netīru” tēmu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Kau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pietiekamas zināša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Uztraukums, kas izraisa kauna sajūt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īriešu homoseksualitātes nosodīju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kārtīgu seksuālo sakaru un seksuālo pakalpojumu sfēras darbinieku nosodīju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evēlēšanās vai bailes atzīt faktu, ka CDHA nodarbojas ar seks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5:25:03Z</dcterms:modified>
  <cp:revision>292</cp:revision>
  <dc:subject/>
  <dc:title>The treatment of alcohol dependent patients with a comorbid anxiety disorder</dc:title>
</cp:coreProperties>
</file>