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035-DF1D-4AFA-8097-8F775674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DE9-C9E3-4515-AC96-8EA5F728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2F2-A061-495A-84D6-F3599DFD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AED-D813-491D-BE5E-B90EEFEB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F49-6B77-42D4-B703-D189C07F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BF0-B612-4F77-AB44-67E57B51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0AE-C1A7-4A37-B690-4760B64C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ADF-C94F-4C10-A65D-3C173F96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3F2-5598-46DD-87E6-D8F1D235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F65-4AA0-4FCA-905B-84CA8240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B6E-F48B-47B0-BF47-4101BF2C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C06-8D7D-4191-AD0E-0F518FBD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B0A4-39D4-4DA9-BF4A-FBE209926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9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lv-LV" sz="5400" spc="-1" strike="noStrike">
                <a:solidFill>
                  <a:srgbClr val="000000"/>
                </a:solidFill>
                <a:latin typeface="Arial"/>
              </a:rPr>
              <a:t>.Modulis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0" lang="lv-LV" sz="5400" spc="-1" strike="noStrike">
                <a:solidFill>
                  <a:srgbClr val="000000"/>
                </a:solidFill>
                <a:latin typeface="Arial"/>
              </a:rPr>
              <a:t>.nodarbī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Narkotiku lietošana un atkarība no narkotikā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Atkarība, injekciju narkotiku un alkohola lieto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ociālie fakto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arkotiku/alkohola pieejamīb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piediens no vienaudžu puses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abadzība, izolācija, bezdarbs, atrašanās ieslodzījumā, diskriminācija, partnera trūkums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dividuālie fakto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epietiekamas kopinga iemaņ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sihiskie traucējumi (trauksme, psihoze, personības traucējumi, hiperaktivitāte ar uzmanības deficītu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Bioloģiskie fakto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sme uz atkarību var būt iedzim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HIV, INL un psihiskie traucēj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Cilvēki ar psihiskajiem traucējumiem, kas lieto narkotikas, vairāk riskē inficēties ar H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HIV inficētie injekciju narkotiku lietotāji ir pakļauti augstam psihiskās sfēras traucējumu risk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Narkotiku l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ktīva injekciju narkotiku lietošana var paātrināt HIV progres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njekciju narkotiku lietotājiem ir augstāks bakteriālo infekciju, tuberkulozes, vīrusu hepatīta, limfomas un seksuāli transmisīvo saslimšanu risk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njekciju narkotiku lietotāji biežāk neievēro zāļu preparātu, kas nozīmēti HIV infekcijas ārstēšanai, lietošanas shēm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oblēmas un šķēršļ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stād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IDS ārstēšanas klīnikas, narkoloģiskās klīnikas, cietumi, vispārēja profila slimnīca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tteikšanās ārstēt CDHA ar atkarību no narkotikā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DHA atteikšanās apmeklēt klīniku, lai ārstēt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iskriminācij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DHA psihiskās veselības problēmu nezināšana un/vai noliegšan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av iespējams ārstēt no narkotikām atkarīgus CDH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iemēram, metadona trūkuma dē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av pieredzes ārstēt pacientus ar trīskāršu diagnoz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oblēmas un šķēršļ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43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Cilvēk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gi, radinieki, medicīnas darbinieki, sociālie darbinieki, skolotāji, CDHA, kolēģi u.c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einformētība par psihiskās veselības problēmām un to eksistences noliegšan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usma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sevis vainošana, vainas sajūta, aizspriedumi, diskriminācij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zināšanu trūkums par narkotiku lietošanu un H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oblēmas un šķēršļ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CDH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einformētība par psihiskās veselības problēmām vai to eksistences noliegšan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tkarības no narkotikām noliegšan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V infekcijas esamība tiek turēta noslēpum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iek slēpta arī narkotiku lietošan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sihiskie traucējumi un/vai narkotiku lietošana izraisa cilvēkam apātiju, nogurumu, neprognozētī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22:38:12Z</dcterms:created>
  <dc:creator>Peter Horrocks</dc:creator>
  <dc:description/>
  <dc:language>en-US</dc:language>
  <cp:lastModifiedBy>Arnis</cp:lastModifiedBy>
  <dcterms:modified xsi:type="dcterms:W3CDTF">2011-03-06T15:07:24Z</dcterms:modified>
  <cp:revision>43</cp:revision>
  <dc:subject/>
  <dc:title>Unit 8</dc:title>
</cp:coreProperties>
</file>