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7D2E-9220-4019-BA33-C2BDAC006CDA}"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5D31-07BA-4F44-9B7F-6F0E2586491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F673-236D-450E-9BC4-B3F4C53D92FA}"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roblēma nav seksuālo pakalpojumu sfēras darbiniekos kā tādos, bet riskantās uzvedības formās. Mēs jau uzzinājām, ka inficēšanās ceļi ar HIV ir cieši saistīti ar riskantām praksēm, tādām kā injekciju narkotiku lietošana un neaizsargāts sekss, un varam izdarīt secinājumus, ka HIV izplatībai seksuālo pakalpojumu sfēras darbinieku vidū jābūt zemai, ja tiek lietotas riska samazināšanas metodes .Pētījumā, kas līdzīgs augstākminētajam, Amsterdamā</a:t>
            </a:r>
            <a:r>
              <a:rPr b="0" lang="ru-RU" sz="1200" spc="-1" strike="noStrike">
                <a:solidFill>
                  <a:srgbClr val="000000"/>
                </a:solidFill>
                <a:latin typeface="Arial"/>
                <a:ea typeface="Arial"/>
              </a:rPr>
              <a:t>,</a:t>
            </a:r>
            <a:r>
              <a:rPr b="0" lang="lv-LV" sz="1200" spc="-1" strike="noStrike">
                <a:solidFill>
                  <a:srgbClr val="000000"/>
                </a:solidFill>
                <a:latin typeface="Arial"/>
                <a:ea typeface="Arial"/>
              </a:rPr>
              <a:t> seksa biznesa sievietēm, kas nelietoja injekciju narkotikas un pastāvīgi lietoja prezervatīvus bija HIV negatīvs statuss</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Cits pozitīvs piemērs ir Taizemē</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kas </a:t>
            </a:r>
            <a:r>
              <a:rPr b="0" lang="lv-LV" sz="1200" spc="-1" strike="noStrike">
                <a:solidFill>
                  <a:srgbClr val="000000"/>
                </a:solidFill>
                <a:latin typeface="Arial"/>
              </a:rPr>
              <a:t>bieži tiek minēta kā seksa industrijas valsts regulēšanas modelis. Lai gan prostitūcija oficiāli ir aizliegta, kopš 1990-to gadu sākuma Taizemes valdība sāka strādāt ar publisko namu īpašniekiem par 100% prezervatīvu izmantošanas nodrošināšanu. Publiskajiem namiem piegādāja bezmaksas prezervatīvus, bet seksuālo pakalpojumu sfēras darbiniekiem tika noteikts pieprasīt to lietošanu. Iestādes, kas atļāva seksu bez izsargāšanās tika slēgtas. Tāda darba rezultātā prezervatīvu lietošana palielinājās no 14% 1989. gadā līdz vairāk nekā 90% 1994. gadā. Šajā laika posmā jaunu dzimumceļā pārnēsājamu saslimšanu skaits starp vīriešiem, kas ārstējās valsts veselības aizsardzības sistēmā, samazinājās apmēram par 90%. HIV infekcijas procents jauniesaucamo vidū samazinājās no 4% 1993. gadā līdz mazāk nekā 1,5% 1997. gad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pl-PL" sz="1200" spc="-1" strike="noStrike">
                <a:solidFill>
                  <a:srgbClr val="000000"/>
                </a:solidFill>
                <a:latin typeface="Arial"/>
                <a:ea typeface="Arial"/>
              </a:rPr>
              <a:t>(</a:t>
            </a:r>
            <a:r>
              <a:rPr b="0" i="1" lang="pl-PL" sz="1200" spc="-1" strike="noStrike">
                <a:solidFill>
                  <a:srgbClr val="000000"/>
                </a:solidFill>
                <a:latin typeface="Arial"/>
                <a:ea typeface="Arial"/>
              </a:rPr>
              <a:t>Sex workers and HIV.</a:t>
            </a:r>
            <a:r>
              <a:rPr b="0" lang="pl-PL" sz="1200" spc="-1" strike="noStrike">
                <a:solidFill>
                  <a:srgbClr val="000000"/>
                </a:solidFill>
                <a:latin typeface="Arial"/>
                <a:ea typeface="Arial"/>
              </a:rPr>
              <a:t> By Luis Scaccabarrozzi</a:t>
            </a:r>
            <a:r>
              <a:rPr b="0" i="1" lang="pl-PL" sz="1200" spc="-1" strike="noStrike">
                <a:solidFill>
                  <a:srgbClr val="000000"/>
                </a:solidFill>
                <a:latin typeface="Arial"/>
                <a:ea typeface="Arial"/>
              </a:rPr>
              <a:t>, 2005/2006</a:t>
            </a:r>
            <a:r>
              <a:rPr b="0" lang="pl-PL"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 campaigns aimed at sex workers not only reduce the number of HIV infections that result from paid sex; they can also play a vital role in restricting the overall spread of HIV in a country. Proof of this can be seen in countries such as Bangladesh, Benin, Cambodia, the Dominican Republic and Thailand, where general reductions in the national HIV prevalence have been largely attributed to HIV prevention initiatives aimed at sex workers and their clients. 1United Nations (2003, 22nd January), 'Sex workers mobilize to fight HIV/AIDS, UNAIDS says', press release</a:t>
            </a:r>
            <a:r>
              <a:rPr b="0" lang="pl-PL" sz="1200" spc="-1" strike="noStrike">
                <a:solidFill>
                  <a:srgbClr val="000000"/>
                </a:solidFill>
                <a:latin typeface="Arial"/>
              </a:rPr>
              <a:t> at http://www.avert.org/sex-worker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ymbol zastępczy numeru slajd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AABA-2B97-4D43-8A2E-2A7610C355E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34F5-3880-4EF4-9E57-76C258D7BD20}"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obeigumā var citēt PVO secinājumu: „Lai ieviestu plašu riska samazināšanas stratēģiju, ir svarīgi nepieļaut cilvēku, kas nodarbojas ar prostitūciju, diskrimināciju, un nodrošināt viņu aktīvu piedalīšanos profilakses un ārstēšanas programmā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F07D-EF2D-4028-ABE2-61F436F43DC8}"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UNISEF rekomendācijām efektīvi pasākumi HIV un STS profilaksei seksuālo pakalpojumu sfēras darbinieku vidū ietver sekojoš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bezmaksas/lētu STS, kas bieži veicina inficēšanos ar HIV profilakses un ārstēšanas pakalpojumu sniegšana seksuālo pakalpojumu sfēras darbiniekiem un viņu klientiem. Šos pakalpojumus nepieciešams sniegt brīvprātīgās testēšanas un konsultēšanas centros, lai stimulētu testēšanu un drošu uzvedības formu izplatīb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rezervatīvu reklāmas kampaņu izvēršanu (kurās jāietver mērķpasākumi masu informācijas līdzekļos, prezervatīvu izdalīšana un sarunu par drošu seksu iemaņu apgūšanu) ar mērķi palīdzēt visiem seksuālo pakalpojumu sfēras darbiniekiem panākt to, lai visi klienti lietotu prezervatīv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njekciju adatu, šļirču  un injekciju instrumentārija pieejamības palielināšana seksuālo pakalpojumu sfēras darbiniekiem, kas lieto injekciju narkotikas. Par pamatelementu jākļūst apgādāšanai ar šļircēm un adatām (vai apmaiņai), lai nodrošinātu ar instrumentiem un samazinātu injekciju instrumentārija kopīgu izmantoša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protamu un specializētu informatīvo materiālu seksuālo pakalpojumu sfēras darbiniekiem radīšana un izplatīšana par aizsardzības metodēm pret inficēšanos ar HIV. Motivēšana regulāri izmantot prezervatīv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ugstākminēto pakalpojumu piešķiršana cilvēkiem, kas izraisa uzticību, - bieži vien vienaudžiem, bijušajiem vai aktīviem seksuālo pakalpojumu sfēras darbiniekiem – pievilcīgā un saprotamā formā, piemēram, ielu darbs, mobilie pakalpojumi un „drop-in” centri. Šis ir darba komponents kontaktu dibināšanai ar seksa industrijas darbiniekiem drošās vietās, kas ļauj risināt sarunas un veikt konsultēšanu par plašu jautājumu loku, kas izraisa mērķgrupas interesi, kā arī sniegt palīdzību iekārtošanai alternatīvā darbā, ja ir tāda vēlēšanā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eksuālo pakalpojumu sfēras darbinieku pilnvaru un iespēju paplašināšana ar adekvātas attieksmes no tiesību sargājošo orgānu puses advokācijas grupu radīšanu un atbalstu, kā arī seksa biznesa darbinieku savas aizsardzības iemaņu uzlaboša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istības attīstīšana starp šļirču apmaiņas projektiem, narkotiskās atkarības ārstēšanas programmām, iestādēm STS ārstēšanai un citām organizācijām, kas sniedz medicīniskus, juridiskus un sociālus pakalpojumus seksa biznesa darbiniekiem ar mērķi viņus resocializēt un sniegt viņiem efektīvu apmācību HIV profilaks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Eastern Europe and Central Asia</a:t>
            </a:r>
            <a:r>
              <a:rPr b="0" i="1" lang="ru-RU" sz="1200" spc="-1" strike="noStrike">
                <a:solidFill>
                  <a:srgbClr val="000000"/>
                </a:solidFill>
                <a:latin typeface="Arial"/>
                <a:ea typeface="Times New Roman"/>
              </a:rPr>
              <a:t>, </a:t>
            </a:r>
            <a:r>
              <a:rPr b="0" lang="en-US" sz="1200" spc="-1" strike="noStrike">
                <a:solidFill>
                  <a:srgbClr val="000000"/>
                </a:solidFill>
                <a:latin typeface="Arial"/>
                <a:ea typeface="Times New Roman"/>
              </a:rPr>
              <a:t>CEE</a:t>
            </a:r>
            <a:r>
              <a:rPr b="0" lang="ru-RU" sz="1200" spc="-1" strike="noStrike">
                <a:solidFill>
                  <a:srgbClr val="000000"/>
                </a:solidFill>
                <a:latin typeface="Arial"/>
                <a:ea typeface="Times New Roman"/>
              </a:rPr>
              <a:t>-</a:t>
            </a:r>
            <a:r>
              <a:rPr b="0" lang="en-US" sz="1200" spc="-1" strike="noStrike">
                <a:solidFill>
                  <a:srgbClr val="000000"/>
                </a:solidFill>
                <a:latin typeface="Arial"/>
                <a:ea typeface="Times New Roman"/>
              </a:rPr>
              <a:t>HRN</a:t>
            </a:r>
            <a:r>
              <a:rPr b="0" lang="ru-RU" sz="1200" spc="-1" strike="noStrike">
                <a:solidFill>
                  <a:srgbClr val="000000"/>
                </a:solidFill>
                <a:latin typeface="Arial"/>
                <a:ea typeface="Times New Roman"/>
              </a:rPr>
              <a:t>, 2005, </a:t>
            </a:r>
            <a:r>
              <a:rPr b="0" lang="en-US" sz="1200" spc="-1" strike="noStrike">
                <a:solidFill>
                  <a:srgbClr val="000000"/>
                </a:solidFill>
                <a:latin typeface="Arial"/>
                <a:ea typeface="Times New Roman"/>
              </a:rPr>
              <a:t>pp</a:t>
            </a:r>
            <a:r>
              <a:rPr b="0" lang="ru-RU" sz="1200" spc="-1" strike="noStrike">
                <a:solidFill>
                  <a:srgbClr val="000000"/>
                </a:solidFill>
                <a:latin typeface="Arial"/>
                <a:ea typeface="Times New Roman"/>
              </a:rPr>
              <a:t>. 53-54).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0C5E-2563-4A27-B706-705EF78B23B6}"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Seksuālo pakalpojumu sfēras darbinieks – </a:t>
            </a:r>
            <a:r>
              <a:rPr b="0" lang="lv-LV" sz="1200" spc="-1" strike="noStrike">
                <a:solidFill>
                  <a:srgbClr val="000000"/>
                </a:solidFill>
                <a:latin typeface="Arial"/>
              </a:rPr>
              <a:t>tas ir cilvēks, kas pelna naudu, sniedzot seksuālus pakalpojumus. Šo terminu reizēm izmanto kā sinonīmu vai eifēmismu jēdzienam „prostitūcija”, taču lielākā daļa speciālistu ietver jēdzienā „seksuālo pakalpojumu sfēras darbinieki” cilvēkus, kas seksa industrijas ietvaros nodarbojas ar seksuāli orientētām darbībām, tādām kā striptīzs, erotiskā masāža, piedalīšanās pornogrāfiskās filmās, sekss – šovi, video – sekss – šovi, darbs par programmas „sekss pa telefonu” operatoru. (</a:t>
            </a:r>
            <a:r>
              <a:rPr b="0" lang="en" sz="1200" spc="-1" strike="noStrike">
                <a:solidFill>
                  <a:srgbClr val="000000"/>
                </a:solidFill>
                <a:latin typeface="Arial"/>
              </a:rPr>
              <a:t>Weitzer</a:t>
            </a:r>
            <a:r>
              <a:rPr b="0" lang="lv-LV" sz="1200" spc="-1" strike="noStrike">
                <a:solidFill>
                  <a:srgbClr val="000000"/>
                </a:solidFill>
                <a:latin typeface="Arial"/>
              </a:rPr>
              <a:t> 2000). – Vikipēdij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59F2-E4C7-4A48-899F-BA4F6438723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ēc UNAIDS datiem, kopš AIDS epidēmijas sākuma lielākais HIV infekcijas gadījumu biežums, salīdzinot ar citām iedzīvotāju grupām, tiek reģistrēts grupās, kas nodarbojas ar seksuālo pakalpojumu sniegšanu. Jaunākie pētījumi apstiprina šo likumsakarību attiecībā uz vīriešiem, sievietēm un transseksuāļiem, kas strādā seksuālo pakalpojumu sfērā. Piemēram, Dakārā HIV infekcijas izplatība starp seksa biznesa sievietēm sastāda 10%, tajā pašā laikā starp grūtniecēm un asins donoriem šis procents ir 1,7%. Dažās Vjetnamas provincēs atbilstošie rādītāji sasniedz 13%, sastādot 0,12% grūtnieču vidū. Atšķirībā no tā, tādās dažādās valstīs kā Austrālija, Bolīvija, Madagaskāra un Meksika, HIV infekcijas izplatība seksa biznesa sieviešu vidū turpina reģistrēties 1% un zemākā līmenī. </a:t>
            </a:r>
            <a:r>
              <a:rPr b="0" lang="ru-RU" sz="1200" spc="-1" strike="noStrike">
                <a:solidFill>
                  <a:srgbClr val="000000"/>
                </a:solidFill>
                <a:latin typeface="Arial"/>
                <a:ea typeface="Arial"/>
              </a:rPr>
              <a:t>Согласно данным </a:t>
            </a:r>
            <a:r>
              <a:rPr b="0" lang="pl-PL" sz="1200" spc="-1" strike="noStrike">
                <a:solidFill>
                  <a:srgbClr val="000000"/>
                </a:solidFill>
                <a:latin typeface="Arial"/>
                <a:ea typeface="Arial"/>
              </a:rPr>
              <a:t>UNAIDS</a:t>
            </a:r>
            <a:r>
              <a:rPr b="0" lang="ru-RU" sz="1200" spc="-1" strike="noStrike">
                <a:solidFill>
                  <a:srgbClr val="000000"/>
                </a:solidFill>
                <a:latin typeface="Arial"/>
                <a:ea typeface="Arial"/>
              </a:rPr>
              <a:t>, с начала эпидемии СПИД значительно большая частота ВИЧ-инфекции регистрируется в группах, занимающихся предоставлением сексуальных услуг, по сравнению с другими группами населения. Последние исследования подтверждают эту закономерность в отношении мужчин, женщин и транссексуалов, работающих в сфере сексуальных услуг. Например, в Дакаре распространенность ВИЧ-инфекции среди женщин секс-бизнеса составляет 10%, в то же время среди беременных женщин и доноров крови этот показатель составляет 1,7%. Во Вьетнаме соответствующие показатели достигают 13% в некоторых провинциях, составляя 0,12% среди беременных. В отличие от этого, в таких разных странах, как Австралия, Боливия, Мадагаскар и Мексика, продолжает регистрироваться распространенность ВИЧ-инфекции среди женщин секс-бизнеса на уровне 1% или меньше. </a:t>
            </a:r>
            <a:r>
              <a:rPr b="0" lang="pl-PL" sz="1200" spc="-1" strike="noStrike">
                <a:solidFill>
                  <a:srgbClr val="000000"/>
                </a:solidFill>
                <a:latin typeface="Arial"/>
                <a:ea typeface="Arial"/>
              </a:rPr>
              <a:t>(</a:t>
            </a:r>
            <a:r>
              <a:rPr b="0" i="1" lang="pl-PL" sz="1200" spc="-1" strike="noStrike">
                <a:solidFill>
                  <a:srgbClr val="000000"/>
                </a:solidFill>
                <a:latin typeface="Arial"/>
                <a:ea typeface="Arial"/>
              </a:rPr>
              <a:t>Sex work and HIV/AIDS</a:t>
            </a:r>
            <a:r>
              <a:rPr b="0" lang="pl-PL" sz="1200" spc="-1" strike="noStrike">
                <a:solidFill>
                  <a:srgbClr val="000000"/>
                </a:solidFill>
                <a:latin typeface="Arial"/>
                <a:ea typeface="Arial"/>
              </a:rPr>
              <a:t>. UNAIDS Technical update, 2002; p. 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a:t>
            </a:r>
            <a:r>
              <a:rPr b="0" lang="en-US" sz="1200" spc="-1" strike="noStrike">
                <a:solidFill>
                  <a:srgbClr val="000000"/>
                </a:solidFill>
                <a:latin typeface="Arial"/>
              </a:rPr>
              <a:t>c</a:t>
            </a:r>
            <a:r>
              <a:rPr b="0" lang="pl-PL" sz="1200" spc="-1" strike="noStrike">
                <a:solidFill>
                  <a:srgbClr val="000000"/>
                </a:solidFill>
                <a:latin typeface="Arial"/>
              </a:rPr>
              <a:t>ording to UNAIDS si</a:t>
            </a:r>
            <a:r>
              <a:rPr b="0" lang="en-US" sz="1200" spc="-1" strike="noStrike">
                <a:solidFill>
                  <a:srgbClr val="000000"/>
                </a:solidFill>
                <a:latin typeface="Arial"/>
              </a:rPr>
              <a:t>n</a:t>
            </a:r>
            <a:r>
              <a:rPr b="0" lang="pl-PL" sz="1200" spc="-1" strike="noStrike">
                <a:solidFill>
                  <a:srgbClr val="000000"/>
                </a:solidFill>
                <a:latin typeface="Arial"/>
              </a:rPr>
              <a:t>ce the beginning of the AIDS epidemics significantly higher rates of HIV infection have been documented among populations involved in sex work than in most other population groups, and recent studies continue to confirm this pattern among female, male </a:t>
            </a:r>
            <a:r>
              <a:rPr b="0" lang="en-US" sz="1200" spc="-1" strike="noStrike">
                <a:solidFill>
                  <a:srgbClr val="000000"/>
                </a:solidFill>
                <a:latin typeface="Arial"/>
              </a:rPr>
              <a:t>and</a:t>
            </a:r>
            <a:r>
              <a:rPr b="0" lang="pl-PL" sz="1200" spc="-1" strike="noStrike">
                <a:solidFill>
                  <a:srgbClr val="000000"/>
                </a:solidFill>
                <a:latin typeface="Arial"/>
              </a:rPr>
              <a:t> transsexual sex workers. For example</a:t>
            </a:r>
            <a:r>
              <a:rPr b="0" lang="en-US" sz="1200" spc="-1" strike="noStrike">
                <a:solidFill>
                  <a:srgbClr val="000000"/>
                </a:solidFill>
                <a:latin typeface="Arial"/>
              </a:rPr>
              <a:t>, </a:t>
            </a:r>
            <a:r>
              <a:rPr b="0" lang="pl-PL" sz="1200" spc="-1" strike="noStrike">
                <a:solidFill>
                  <a:srgbClr val="000000"/>
                </a:solidFill>
                <a:latin typeface="Arial"/>
              </a:rPr>
              <a:t>in Dakar the infection rate among female sex workers is 10% while infection rate among pregnant women and blood donors is 1</a:t>
            </a:r>
            <a:r>
              <a:rPr b="0" lang="en-US" sz="1200" spc="-1" strike="noStrike">
                <a:solidFill>
                  <a:srgbClr val="000000"/>
                </a:solidFill>
                <a:latin typeface="Arial"/>
              </a:rPr>
              <a:t>.</a:t>
            </a:r>
            <a:r>
              <a:rPr b="0" lang="pl-PL" sz="1200" spc="-1" strike="noStrike">
                <a:solidFill>
                  <a:srgbClr val="000000"/>
                </a:solidFill>
                <a:latin typeface="Arial"/>
              </a:rPr>
              <a:t>7%, in Viet</a:t>
            </a:r>
            <a:r>
              <a:rPr b="0" lang="en-US" sz="1200" spc="-1" strike="noStrike">
                <a:solidFill>
                  <a:srgbClr val="000000"/>
                </a:solidFill>
                <a:latin typeface="Arial"/>
              </a:rPr>
              <a:t>n</a:t>
            </a:r>
            <a:r>
              <a:rPr b="0" lang="pl-PL" sz="1200" spc="-1" strike="noStrike">
                <a:solidFill>
                  <a:srgbClr val="000000"/>
                </a:solidFill>
                <a:latin typeface="Arial"/>
              </a:rPr>
              <a:t>am as high as 13% in some provinces, while being 0</a:t>
            </a:r>
            <a:r>
              <a:rPr b="0" lang="en-US" sz="1200" spc="-1" strike="noStrike">
                <a:solidFill>
                  <a:srgbClr val="000000"/>
                </a:solidFill>
                <a:latin typeface="Arial"/>
              </a:rPr>
              <a:t>.</a:t>
            </a:r>
            <a:r>
              <a:rPr b="0" lang="pl-PL" sz="1200" spc="-1" strike="noStrike">
                <a:solidFill>
                  <a:srgbClr val="000000"/>
                </a:solidFill>
                <a:latin typeface="Arial"/>
              </a:rPr>
              <a:t>12% among pregnant women. In contrast countries as diverse as Australia, Bolivia, Madagaskar and Mexico continue to report rates of infection of 1% or less among female sex workers. (Sex work and HIV/AIDS. UNAIDS Technial update, 2002; 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talk about sex workers as a single ‘group’, because those involved in the sex industry come from a diverse range of backgrounds and cultures, and can differ greatly in the lives that they lead. In the same way, the levels of risk that they face in terms of HIV infection can be vastly different, depending on the country that they live in, whether they work from a brothel or ‘on the street’, and whether they have access to condoms, amongst other factors. 2 A wealthy escort supplying services to businessmen in London, for instance, may face a very different level of risk to that of an impoverished girl who is being forced to sell sex in a red-light district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847E-B88A-4AE7-994B-C5FA3465C25E}"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4C0E-5B5C-4D70-AC51-9929FEB2C7D5}"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Rietumeiropā saslimstība ar HIV infekciju seksuālo pakalpojumu sfēras darbinieku vidū ir tik pat zema kā kopējai populācijai, taču saslimstība krasi pieaug starp injekciju narkotiku lietotājiem. Vīnē, kur seksuālo pakalpojumu sfēras darbinieki tiek reģistrēti un regulāri izmeklēti uz dažādām seksuāli transmisīvām saslimšanām nedaudzie HIV inficētie paziņoja, ka viņi paši vai viņu partneri ir lietojuši injekciju narkotikas. Nīderlandē, kur seksa bizness ir legāls un tiek kontrolēts, bet pieeja narkotiku lietotājiem ir pamatā medicīniska nevis policejiska, gan starp sievietēm, kas strādā seksuālo pakalpojumu sfērā un nelieto injekciju narkotikas, gan starp viņu klientiem, ir ļoti zemi saslimstības ar HIV infekciju rādītāji. Galvenokārt inficētas bija seksa biznesa sievietes, kas nesen ieradušās no AIDS epidēmijas skartām valstīm. Glazgovā, kur HIV infekcijas izplatība ir zema pat injekciju narkotiku lietotāju vidū, un kur 75% sieviešu, kas strādā seksuālo pakalpojumu sfērā, lieto injekciju narkotikas, visi izmeklētie seksa biznesa darbinieki ar HIV pozitīvu statusu izrādījās injekciju narkotiku lietotāji.</a:t>
            </a:r>
            <a:r>
              <a:rPr b="0" lang="ru-RU" sz="1200" spc="-1" strike="noStrike">
                <a:solidFill>
                  <a:srgbClr val="000000"/>
                </a:solidFill>
                <a:latin typeface="Arial"/>
                <a:ea typeface="Arial"/>
              </a:rPr>
              <a:t> </a:t>
            </a:r>
            <a:r>
              <a:rPr b="0" lang="en-US" sz="1200" spc="-1" strike="noStrike">
                <a:solidFill>
                  <a:srgbClr val="000000"/>
                </a:solidFill>
                <a:latin typeface="Arial"/>
                <a:ea typeface="Arial"/>
              </a:rPr>
              <a:t>(</a:t>
            </a:r>
            <a:r>
              <a:rPr b="0" i="1" lang="pl-PL" sz="1200" spc="-1" strike="noStrike">
                <a:solidFill>
                  <a:srgbClr val="000000"/>
                </a:solidFill>
                <a:latin typeface="Arial"/>
                <a:ea typeface="Arial"/>
              </a:rPr>
              <a:t>Sex workers and HIV.</a:t>
            </a:r>
            <a:r>
              <a:rPr b="0" lang="pl-PL" sz="1200" spc="-1" strike="noStrike">
                <a:solidFill>
                  <a:srgbClr val="000000"/>
                </a:solidFill>
                <a:latin typeface="Arial"/>
                <a:ea typeface="Arial"/>
              </a:rPr>
              <a:t> By Luis Scaccabarrozzi</a:t>
            </a:r>
            <a:r>
              <a:rPr b="0" i="1" lang="pl-PL" sz="1200" spc="-1" strike="noStrike">
                <a:solidFill>
                  <a:srgbClr val="000000"/>
                </a:solidFill>
                <a:latin typeface="Arial"/>
                <a:ea typeface="Arial"/>
              </a:rPr>
              <a:t>, </a:t>
            </a:r>
            <a:r>
              <a:rPr b="0" lang="en-US" sz="1200" spc="-1" strike="noStrike">
                <a:solidFill>
                  <a:srgbClr val="000000"/>
                </a:solidFill>
                <a:latin typeface="Arial"/>
              </a:rPr>
              <a:t>Winter 2005/2006</a:t>
            </a:r>
            <a:r>
              <a:rPr b="0" lang="ru-RU"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ex workers in Eastern European and Central Asian countries has risen dramatically in recent history. This is due to social, economic and political changes that led many to turn to sex work as a means of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prevalence rates generally seem to be low amongst sex workers in the region. Levels of sexually transmitted infections, however, are high, suggesting that few sex workers are practising safer sex, and that there is scope for HIV to become more common among sex workers in coming years. Commercial sex is playing an increasingly prominent role in the AIDS epidemics of many countries in the region.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ussia, sex workers commonly become infected with HIV through injecting drug use rather than sex. In the city of St Petersburg, 48% of sex workers were found to be living with HIV in 2003, and this high prevalence is attributed to the fact that most sex workers in the city also inject drugs.21 By contrast, in the capital city of Moscow, where the sex industry is more organised and actively discourages drug use, only 3% of sex workers were thought to be infected with HIV in 2005.22</a:t>
            </a:r>
            <a:r>
              <a:rPr b="0" lang="pl-PL" sz="1200" spc="-1" strike="noStrike">
                <a:solidFill>
                  <a:srgbClr val="000000"/>
                </a:solidFill>
                <a:latin typeface="Arial"/>
              </a:rPr>
              <a:t> http://www.avert.org/prostitution-aids.htm</a:t>
            </a:r>
            <a:endParaRPr b="0" lang="en-US" sz="1200" spc="-1" strike="noStrike">
              <a:solidFill>
                <a:srgbClr val="000000"/>
              </a:solidFill>
              <a:latin typeface="Arial"/>
            </a:endParaRPr>
          </a:p>
        </p:txBody>
      </p:sp>
      <p:sp>
        <p:nvSpPr>
          <p:cNvPr id="99" name="Symbol zastępczy numeru slajd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9FCD-C400-4AE0-BC63-B800A6E932DC}"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E6F4-5028-4F24-9A69-401F52785AC4}"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Vai seksuālo pakalpojumu sfēras darbinieki izplata HIV</a:t>
            </a:r>
            <a:r>
              <a:rPr b="0" lang="ru-RU"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ates of HIV have been found amongst individuals who sell sex in many different and diverse countries. Even where HIV prevalence is low amongst this group, it is usually higher than the rate found amongst the general adul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workers usually have a high number of sexual partners. This means that if they do become infected with HIV, they can potentially pass it on to multiple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HIV infections amongst those involved in the sex trade has been proven to be an instrumental part of many countries’ fight against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ymbol zastępczy numeru slajd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5CC6-96FD-4DBA-A9CC-28BFF473E004}"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D2CF2-79DE-4D56-9D92-87F467A80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E839-DFF9-4774-9638-2D1CEEDCC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4873D-E796-4E42-BDAA-C341199D0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8E597-17B5-4535-A3C6-372C6994F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9B51-DC11-4944-A5D3-F2CF7AAE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514E-401D-44ED-966D-DA1966C2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6BDD5-2CC3-4640-BC92-FEE096FC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796D5-A3EC-4A1D-BBE1-1D0EE647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729C-3142-45E4-BB5C-3774DB82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F1D7-BA89-4DB6-A9FE-EB4136D3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EA4A-46B4-47A1-B3D4-60C79A975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A286D-621A-408E-BA1E-CC4E89967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14F5-6CDC-498A-AEF2-D3F6196E7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ea typeface="Arial"/>
              </a:rPr>
              <a:t>2</a:t>
            </a:r>
            <a:r>
              <a:rPr b="0" lang="lv-LV" sz="5400" spc="-1" strike="noStrike">
                <a:solidFill>
                  <a:srgbClr val="000000"/>
                </a:solidFill>
                <a:latin typeface="Arial"/>
                <a:ea typeface="Arial"/>
              </a:rPr>
              <a:t>. modulis</a:t>
            </a:r>
            <a:r>
              <a:rPr b="0" lang="ru-RU" sz="5400" spc="-1" strike="noStrike">
                <a:solidFill>
                  <a:srgbClr val="000000"/>
                </a:solidFill>
                <a:latin typeface="Arial"/>
                <a:ea typeface="Arial"/>
              </a:rPr>
              <a:t>: </a:t>
            </a:r>
            <a:br>
              <a:rPr sz="5400"/>
            </a:br>
            <a:r>
              <a:rPr b="0" lang="ru-RU" sz="5400" spc="-1" strike="noStrike">
                <a:solidFill>
                  <a:srgbClr val="000000"/>
                </a:solidFill>
                <a:latin typeface="Arial"/>
              </a:rPr>
              <a:t>7</a:t>
            </a:r>
            <a:r>
              <a:rPr b="0" lang="lv-LV" sz="5400" spc="-1" strike="noStrike">
                <a:solidFill>
                  <a:srgbClr val="000000"/>
                </a:solidFill>
                <a:latin typeface="Arial"/>
              </a:rPr>
              <a:t>.nodaļa</a:t>
            </a:r>
            <a:r>
              <a:rPr b="0" lang="ru-RU" sz="5400" spc="-1" strike="noStrike">
                <a:solidFill>
                  <a:srgbClr val="000000"/>
                </a:solidFill>
                <a:latin typeface="Arial"/>
                <a:ea typeface="Arial"/>
              </a:rPr>
              <a:t> </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ea typeface="Arial"/>
              </a:rPr>
              <a:t>Seksuālo pakalpojumu sfēras darbinie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nficēšanās ar HIV ir cieši saistīta ar riskantām praksēm, piemēram</a:t>
            </a:r>
            <a:r>
              <a:rPr b="0" lang="ru-RU"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a:t>
            </a:r>
            <a:r>
              <a:rPr b="0" lang="lv-LV" sz="2800" spc="-1" strike="noStrike">
                <a:solidFill>
                  <a:srgbClr val="000000"/>
                </a:solidFill>
                <a:latin typeface="Arial"/>
              </a:rPr>
              <a:t>injekciju narkotiku lietoš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
            </a:r>
            <a:r>
              <a:rPr b="0" lang="ru-RU" sz="2800" spc="-1" strike="noStrike">
                <a:solidFill>
                  <a:srgbClr val="000000"/>
                </a:solidFill>
                <a:latin typeface="Arial"/>
              </a:rPr>
              <a:t>	</a:t>
            </a:r>
            <a:r>
              <a:rPr b="0" lang="lv-LV" sz="2800" spc="-1" strike="noStrike">
                <a:solidFill>
                  <a:srgbClr val="000000"/>
                </a:solidFill>
                <a:latin typeface="Arial"/>
              </a:rPr>
              <a:t>sekss bez izsargāšan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rofilakses starp SPS darbiniekiem sekme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rofilakses kampaņas, kas adresētas SPS darbiniekiem</a:t>
            </a:r>
            <a:r>
              <a:rPr b="0" lang="ru-RU" sz="2600" spc="-1" strike="noStrike">
                <a:solidFill>
                  <a:srgbClr val="000000"/>
                </a:solidFill>
                <a:latin typeface="Arial"/>
              </a:rPr>
              <a:t>:</a:t>
            </a:r>
            <a:endParaRPr b="0" lang="en-US" sz="2600" spc="-1" strike="noStrike">
              <a:solidFill>
                <a:srgbClr val="000000"/>
              </a:solidFill>
              <a:latin typeface="Arial"/>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Samazina inficēšanās gadījumu skaitu ar HIV</a:t>
            </a:r>
            <a:endParaRPr b="0" lang="en-US" sz="2200" spc="-1" strike="noStrike">
              <a:solidFill>
                <a:srgbClr val="000000"/>
              </a:solidFill>
              <a:latin typeface="Arial"/>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lv-LV" sz="2200" spc="-1" strike="noStrike">
                <a:solidFill>
                  <a:srgbClr val="000000"/>
                </a:solidFill>
                <a:latin typeface="Arial"/>
              </a:rPr>
              <a:t>spēlē nozīmīgu lomu HIV izplatības ierobežošanā valstī</a:t>
            </a:r>
            <a:r>
              <a:rPr b="0" lang="ru-RU" sz="2200" spc="-1" strike="noStrike">
                <a:solidFill>
                  <a:srgbClr val="000000"/>
                </a:solidFill>
                <a:latin typeface="Arial"/>
              </a:rPr>
              <a:t>. </a:t>
            </a:r>
            <a:endParaRPr b="0" lang="en-US" sz="2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o pierāda Bangladešas, Beninas, Kambodžas, Dominikas republikas un Taizemes piemēri, kur izdevās panākt nozīmīgu HIV izplatības samazinājumu, pateicoties SPS darbiniekiem un viņu klientiem adresētām profilaktiskām iniciatīvām.</a:t>
            </a:r>
            <a:r>
              <a:rPr b="0" lang="lv-LV"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emesli SPS darbinieku uzņēmībai pret psihiskajiem traucējumiem</a:t>
            </a:r>
            <a:endParaRPr b="0" lang="en-US" sz="4000" spc="-1" strike="noStrike">
              <a:solidFill>
                <a:srgbClr val="000000"/>
              </a:solidFill>
              <a:latin typeface="Arial"/>
            </a:endParaRPr>
          </a:p>
        </p:txBody>
      </p:sp>
      <p:sp>
        <p:nvSpPr>
          <p:cNvPr id="74" name=""/>
          <p:cNvSpPr txBox="1"/>
          <p:nvPr/>
        </p:nvSpPr>
        <p:spPr>
          <a:xfrm>
            <a:off x="457200" y="2143080"/>
            <a:ext cx="8043840" cy="398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magi darba apstākļi un naidīga attieks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cietsirdīga apiešanās un vardarbība anamnēz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sfunkcionāla ģimene anamnēz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sihoaktīvo vielu pārmērīga lietoš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u.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 </a:t>
            </a:r>
            <a:r>
              <a:rPr b="0" lang="ru-RU" sz="3200" spc="-1" strike="noStrike">
                <a:solidFill>
                  <a:srgbClr val="000000"/>
                </a:solidFill>
                <a:latin typeface="Arial"/>
                <a:ea typeface="Arial"/>
              </a:rPr>
              <a:t>«</a:t>
            </a:r>
            <a:r>
              <a:rPr b="0" lang="lv-LV" sz="3200" spc="-1" strike="noStrike">
                <a:solidFill>
                  <a:srgbClr val="000000"/>
                </a:solidFill>
                <a:latin typeface="Arial"/>
              </a:rPr>
              <a:t>„Lai ieviestu plašu riska samazināšanas stratēģiju, ir svarīgi nepieļaut cilvēku, kas nodarbojas ar prostitūciju, diskrimināciju, un nodrošināt viņu aktīvu piedalīšanos profilakses un ārstēšanas programmās”.</a:t>
            </a:r>
            <a:r>
              <a:rPr b="0" lang="ru-RU" sz="3200" spc="-1" strike="noStrike">
                <a:solidFill>
                  <a:srgbClr val="000000"/>
                </a:solidFill>
                <a:latin typeface="Arial"/>
                <a:ea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Kāpēc cilvēki sāk nodarboties ar prostitūciju</a:t>
            </a:r>
            <a:r>
              <a:rPr b="1" lang="pl-PL" sz="4000" spc="-1" strike="noStrike">
                <a:solidFill>
                  <a:srgbClr val="000000"/>
                </a:solidFill>
                <a:latin typeface="Arial"/>
              </a:rPr>
              <a:t>?</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akarā ar nabadzību (jāuztur ģimene, nav radinieku, iespēja nopelnī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cilvēku tirdzniecības un piespiešanas uz prostitūciju rezultāt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esaistīti ar vil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eksuālās un fiziskās vardarbības rezultāt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ģimenes vardarbības rezultātā u.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Jautājumi, kas jāapspriež ar SPS darbiniekiem</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rošs sek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rošāka narkotiku lietoš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rošības pasākumi uz ielām un citās darba vietā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stādes, kur var nosūtīt seksa industrijas darbiniekus palīdzības saņemšana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šļirču un adatu apmaiņas programm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edicīniskā palīdzība un ārstēš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ociālā palīdzī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uridiskā palīdzība u.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tiesiskie jautājum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Rekomendējamās iejaukšanās</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002440" cy="478152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Bezmaksas/ lētu pieejamu pakalpojumu sniegšana STS, kas bieži veicina inficēšanos ar HIV, ārstēšanai un profilaksei</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SPS darbiniekiem pieejama testēšana uz HIV</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Prezervatīvu lietošanas stimulēšana</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Sterila injekciju instrumentārija piegādāšana</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Informācijas izplatīšana par HIV profilaksi un riska samazināšanu SPS darbiniekiem</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Palīdzības “līdzīgs – līdzīgam” attīstīšana</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Adekvātas attieksmes no tiesībsargājošo orgānu puses advokācija</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Radīt</a:t>
            </a:r>
            <a:r>
              <a:rPr b="0" lang="ru-RU" sz="2200" spc="-1" strike="noStrike">
                <a:solidFill>
                  <a:srgbClr val="000000"/>
                </a:solidFill>
                <a:latin typeface="Arial"/>
              </a:rPr>
              <a:t> </a:t>
            </a:r>
            <a:r>
              <a:rPr b="0" lang="lv-LV" sz="2200" spc="-1" strike="noStrike">
                <a:solidFill>
                  <a:srgbClr val="000000"/>
                </a:solidFill>
                <a:latin typeface="Arial"/>
              </a:rPr>
              <a:t>tīklus</a:t>
            </a:r>
            <a:r>
              <a:rPr b="0" lang="pl-PL" sz="2200" spc="-1" strike="noStrike">
                <a:solidFill>
                  <a:srgbClr val="000000"/>
                </a:solidFill>
                <a:latin typeface="Arial"/>
              </a:rPr>
              <a:t>(</a:t>
            </a:r>
            <a:r>
              <a:rPr b="0" lang="lv-LV" sz="2200" spc="-1" strike="noStrike">
                <a:solidFill>
                  <a:srgbClr val="000000"/>
                </a:solidFill>
                <a:latin typeface="Arial"/>
              </a:rPr>
              <a:t>adatu apmaiņas programmas, atkarības ārstēšana, pakalpojumi pie STS, citi medicīniskie, tiesiskie un sociālie pakalpojumi SPS darbiniekiem</a:t>
            </a:r>
            <a:r>
              <a:rPr b="0" lang="pl-PL" sz="2200" spc="-1" strike="noStrike">
                <a:solidFill>
                  <a:srgbClr val="000000"/>
                </a:solidFill>
                <a:latin typeface="Arial"/>
              </a:rPr>
              <a:t>) </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Seksuālo pakalpojumu sfēras darbinieki</a:t>
            </a:r>
            <a:r>
              <a:rPr b="1" lang="ru-RU" sz="4000" spc="-1" strike="noStrike">
                <a:solidFill>
                  <a:srgbClr val="000000"/>
                </a:solidFill>
                <a:latin typeface="Arial"/>
                <a:ea typeface="Arial"/>
              </a:rPr>
              <a:t> </a:t>
            </a:r>
            <a:r>
              <a:rPr b="1" lang="ru-RU" sz="4000" spc="-1" strike="noStrike">
                <a:solidFill>
                  <a:srgbClr val="000000"/>
                </a:solidFill>
                <a:latin typeface="Arial"/>
              </a:rPr>
              <a:t>(</a:t>
            </a:r>
            <a:r>
              <a:rPr b="1" lang="lv-LV" sz="4000" spc="-1" strike="noStrike">
                <a:solidFill>
                  <a:srgbClr val="000000"/>
                </a:solidFill>
                <a:latin typeface="Arial"/>
              </a:rPr>
              <a:t>SPSD</a:t>
            </a:r>
            <a:r>
              <a:rPr b="1" lang="ru-RU" sz="4000" spc="-1" strike="noStrike">
                <a:solidFill>
                  <a:srgbClr val="000000"/>
                </a:solidFill>
                <a:latin typeface="Arial"/>
              </a:rPr>
              <a:t>)</a:t>
            </a:r>
            <a:r>
              <a:rPr b="1" lang="ru-RU" sz="4000" spc="-1" strike="noStrike">
                <a:solidFill>
                  <a:srgbClr val="000000"/>
                </a:solidFill>
                <a:latin typeface="Arial"/>
                <a:ea typeface="Arial"/>
              </a:rPr>
              <a:t> </a:t>
            </a:r>
            <a:r>
              <a:rPr b="1" lang="pl-PL" sz="4000" spc="-1" strike="noStrike">
                <a:solidFill>
                  <a:srgbClr val="000000"/>
                </a:solidFill>
                <a:latin typeface="Arial"/>
              </a:rPr>
              <a:t>- </a:t>
            </a:r>
            <a:r>
              <a:rPr b="1" lang="lv-LV" sz="4000" spc="-1" strike="noStrike">
                <a:solidFill>
                  <a:srgbClr val="000000"/>
                </a:solidFill>
                <a:latin typeface="Arial"/>
              </a:rPr>
              <a:t>definīcija</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Seksuālo pakalpojumu sfēras darbinieks </a:t>
            </a:r>
            <a:r>
              <a:rPr b="0" lang="ru-RU" sz="2800" spc="-1" strike="noStrike">
                <a:solidFill>
                  <a:srgbClr val="000000"/>
                </a:solidFill>
                <a:latin typeface="Arial"/>
                <a:ea typeface="Arial"/>
              </a:rPr>
              <a:t>– </a:t>
            </a:r>
            <a:r>
              <a:rPr b="0" lang="lv-LV" sz="2800" spc="-1" strike="noStrike">
                <a:solidFill>
                  <a:srgbClr val="000000"/>
                </a:solidFill>
                <a:latin typeface="Arial"/>
                <a:ea typeface="Arial"/>
              </a:rPr>
              <a:t>tas ir cilvēks, kas pelna naudu, sniedzot seksuālus pakalpojumus</a:t>
            </a:r>
            <a:r>
              <a:rPr b="0" lang="pl-P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Šo terminu lieto</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2400" spc="-1" strike="noStrike">
                <a:solidFill>
                  <a:srgbClr val="000000"/>
                </a:solidFill>
                <a:latin typeface="Arial"/>
              </a:rPr>
              <a:t>-</a:t>
            </a:r>
            <a:r>
              <a:rPr b="0" lang="ru-RU" sz="3200" spc="-1" strike="noStrike">
                <a:solidFill>
                  <a:srgbClr val="000000"/>
                </a:solidFill>
                <a:latin typeface="Arial"/>
              </a:rPr>
              <a:t>	</a:t>
            </a:r>
            <a:r>
              <a:rPr b="0" lang="lv-LV" sz="2400" spc="-1" strike="noStrike">
                <a:solidFill>
                  <a:srgbClr val="000000"/>
                </a:solidFill>
                <a:latin typeface="Arial"/>
              </a:rPr>
              <a:t>dažreiz kā sinonīmu vai eifēmismu vārdam “prostitūcija”</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a:t>
            </a:r>
            <a:r>
              <a:rPr b="0" lang="lv-LV" sz="2400" spc="-1" strike="noStrike">
                <a:solidFill>
                  <a:srgbClr val="000000"/>
                </a:solidFill>
                <a:latin typeface="Arial"/>
              </a:rPr>
              <a:t>  visbiežāk tā sauc cilvēkus, kas seksa industrijas ietvaros nodarbojas ar seksuāli orientētām darbībām, piemēram, striptīzu, erotisko masāžu, piedalās pornogrāfiskās filmās, seksa šovos, “sekss pa telefonu”.</a:t>
            </a:r>
            <a:r>
              <a:rPr b="0" lang="pl-PL" sz="2400" spc="-1" strike="noStrike">
                <a:solidFill>
                  <a:srgbClr val="000000"/>
                </a:solidFill>
                <a:latin typeface="Arial"/>
              </a:rPr>
              <a:t>  </a:t>
            </a:r>
            <a:endParaRPr b="0" lang="en-US" sz="2400" spc="-1" strike="noStrike">
              <a:solidFill>
                <a:srgbClr val="000000"/>
              </a:solidFill>
              <a:latin typeface="Arial"/>
            </a:endParaRPr>
          </a:p>
          <a:p>
            <a:pPr lvl="1" marL="743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ikipēd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Prostitūta</a:t>
            </a:r>
            <a:r>
              <a:rPr b="1" lang="pl-PL" sz="4400" spc="-1" strike="noStrike">
                <a:solidFill>
                  <a:srgbClr val="000000"/>
                </a:solidFill>
                <a:latin typeface="Arial"/>
              </a:rPr>
              <a:t> - </a:t>
            </a:r>
            <a:r>
              <a:rPr b="1" lang="lv-LV" sz="4400" spc="-1" strike="noStrike">
                <a:solidFill>
                  <a:srgbClr val="000000"/>
                </a:solidFill>
                <a:latin typeface="Arial"/>
              </a:rPr>
              <a:t>definīcij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Cilvēks, kas pārdod seksuālos pakalpojumus</a:t>
            </a:r>
            <a:r>
              <a:rPr b="0" lang="ru-RU" sz="3200" spc="-1" strike="noStrike">
                <a:solidFill>
                  <a:srgbClr val="000000"/>
                </a:solidFill>
                <a:latin typeface="Arial"/>
              </a:rPr>
              <a:t>, - </a:t>
            </a:r>
            <a:r>
              <a:rPr b="0" lang="lv-LV" sz="3200" spc="-1" strike="noStrike">
                <a:solidFill>
                  <a:srgbClr val="000000"/>
                </a:solidFill>
                <a:latin typeface="Arial"/>
              </a:rPr>
              <a:t>prostitūta, viens no seksuālo pakalpojumu sfēras darbinieku veidiem</a:t>
            </a: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1" lang="lv-LV" sz="3200" spc="-1" strike="noStrike">
                <a:solidFill>
                  <a:srgbClr val="000000"/>
                </a:solidFill>
                <a:latin typeface="Arial"/>
              </a:rPr>
              <a:t>Prostitūcija</a:t>
            </a:r>
            <a:r>
              <a:rPr b="0" lang="ru-RU" sz="3200" spc="-1" strike="noStrike">
                <a:solidFill>
                  <a:srgbClr val="000000"/>
                </a:solidFill>
                <a:latin typeface="Arial"/>
                <a:ea typeface="Arial"/>
              </a:rPr>
              <a:t> – </a:t>
            </a:r>
            <a:r>
              <a:rPr b="0" lang="lv-LV" sz="3200" spc="-1" strike="noStrike">
                <a:solidFill>
                  <a:srgbClr val="000000"/>
                </a:solidFill>
                <a:latin typeface="Arial"/>
                <a:ea typeface="Arial"/>
              </a:rPr>
              <a:t>tā ir seksuālo pakalpojumu pārdošana</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piemēri</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orālais sekss</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vaginālais dzimumakts u.tml</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par naudu</a:t>
            </a: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kipēdi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Darbs seksuālo pakalpojumu sfērā (SPS) un HIV/AIDS</a:t>
            </a:r>
            <a:endParaRPr b="0" lang="en-US" sz="4000" spc="-1" strike="noStrike">
              <a:solidFill>
                <a:srgbClr val="000000"/>
              </a:solidFill>
              <a:latin typeface="Arial"/>
            </a:endParaRPr>
          </a:p>
        </p:txBody>
      </p:sp>
      <p:sp>
        <p:nvSpPr>
          <p:cNvPr id="55" name="PlaceHolder 2"/>
          <p:cNvSpPr>
            <a:spLocks noGrp="1"/>
          </p:cNvSpPr>
          <p:nvPr>
            <p:ph/>
          </p:nvPr>
        </p:nvSpPr>
        <p:spPr>
          <a:xfrm>
            <a:off x="457200" y="16178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Maz ticamu dat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šī grupa ir diezgan diferencēta (piem., ekskorta pakalpojumu sniegšana bagātiem klientiem Londonā un nabadzīga meitene, ko spiež pārdot seksu sarkano lukturu rajonā Indijā), tāpēc arī riska inficēties ar HIV līmenis ir dažā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līdzinot ar kopējo populāciju, starp SPS darbiniekiem sastopams biežāk</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kāra</a:t>
            </a:r>
            <a:r>
              <a:rPr b="0" lang="pl-PL" sz="1800" spc="-1" strike="noStrike">
                <a:solidFill>
                  <a:srgbClr val="000000"/>
                </a:solidFill>
                <a:latin typeface="Arial"/>
              </a:rPr>
              <a:t> – 10% </a:t>
            </a:r>
            <a:r>
              <a:rPr b="0" lang="lv-LV" sz="1800" spc="-1" strike="noStrike">
                <a:solidFill>
                  <a:srgbClr val="000000"/>
                </a:solidFill>
                <a:latin typeface="Arial"/>
              </a:rPr>
              <a:t>SPS darbinieku vidū</a:t>
            </a:r>
            <a:r>
              <a:rPr b="0" lang="ru-RU" sz="18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7% </a:t>
            </a:r>
            <a:r>
              <a:rPr b="0" lang="lv-LV" sz="1800" spc="-1" strike="noStrike">
                <a:solidFill>
                  <a:srgbClr val="000000"/>
                </a:solidFill>
                <a:latin typeface="Arial"/>
              </a:rPr>
              <a:t>starp sievietēm – grūtniecēm un asins donoriem</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jetnama</a:t>
            </a:r>
            <a:r>
              <a:rPr b="0" lang="ru-RU" sz="1800" spc="-1" strike="noStrike">
                <a:solidFill>
                  <a:srgbClr val="000000"/>
                </a:solidFill>
                <a:latin typeface="Arial"/>
              </a:rPr>
              <a:t> </a:t>
            </a:r>
            <a:r>
              <a:rPr b="0" lang="pl-PL" sz="1800" spc="-1" strike="noStrike">
                <a:solidFill>
                  <a:srgbClr val="000000"/>
                </a:solidFill>
                <a:latin typeface="Arial"/>
              </a:rPr>
              <a:t>– 13% </a:t>
            </a:r>
            <a:r>
              <a:rPr b="0" lang="lv-LV" sz="1800" spc="-1" strike="noStrike">
                <a:solidFill>
                  <a:srgbClr val="000000"/>
                </a:solidFill>
                <a:latin typeface="Arial"/>
              </a:rPr>
              <a:t>SPS darbinieku vidū</a:t>
            </a:r>
            <a:r>
              <a:rPr b="0" lang="ru-RU" sz="1800" spc="-1" strike="noStrike">
                <a:solidFill>
                  <a:srgbClr val="000000"/>
                </a:solidFill>
                <a:latin typeface="Arial"/>
              </a:rPr>
              <a:t>; </a:t>
            </a:r>
            <a:r>
              <a:rPr b="0" lang="lv-LV" sz="1800" spc="-1" strike="noStrike">
                <a:solidFill>
                  <a:srgbClr val="000000"/>
                </a:solidFill>
                <a:latin typeface="Arial"/>
              </a:rPr>
              <a:t>0,</a:t>
            </a:r>
            <a:r>
              <a:rPr b="0" lang="pl-PL" sz="1800" spc="-1" strike="noStrike">
                <a:solidFill>
                  <a:srgbClr val="000000"/>
                </a:solidFill>
                <a:latin typeface="Arial"/>
              </a:rPr>
              <a:t>12% </a:t>
            </a:r>
            <a:r>
              <a:rPr b="0" lang="lv-LV" sz="1800" spc="-1" strike="noStrike">
                <a:solidFill>
                  <a:srgbClr val="000000"/>
                </a:solidFill>
                <a:latin typeface="Arial"/>
              </a:rPr>
              <a:t>starp grūtniecēm</a:t>
            </a:r>
            <a:endParaRPr b="0" lang="en-US" sz="1800" spc="-1" strike="noStrike">
              <a:solidFill>
                <a:srgbClr val="000000"/>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Arial"/>
              </a:rPr>
              <a:t>BET</a:t>
            </a:r>
            <a:endParaRPr b="0" lang="en-US" sz="2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ustrālija, Bolīvija, Madagaskāra, Meksika </a:t>
            </a:r>
            <a:r>
              <a:rPr b="0" lang="ru-RU" sz="1800" spc="-1" strike="noStrike">
                <a:solidFill>
                  <a:srgbClr val="000000"/>
                </a:solidFill>
                <a:latin typeface="Arial"/>
              </a:rPr>
              <a:t>– </a:t>
            </a:r>
            <a:r>
              <a:rPr b="0" lang="lv-LV" sz="1800" spc="-1" strike="noStrike">
                <a:solidFill>
                  <a:srgbClr val="000000"/>
                </a:solidFill>
                <a:latin typeface="Arial"/>
              </a:rPr>
              <a:t>nacionālajā līmenī </a:t>
            </a:r>
            <a:r>
              <a:rPr b="0" lang="pl-PL" sz="1800" spc="-1" strike="noStrike">
                <a:solidFill>
                  <a:srgbClr val="000000"/>
                </a:solidFill>
                <a:latin typeface="Arial"/>
              </a:rPr>
              <a:t>&lt; 1%</a:t>
            </a:r>
            <a:r>
              <a:rPr b="0" lang="lv-LV" sz="1800" spc="-1" strike="noStrike">
                <a:solidFill>
                  <a:srgbClr val="000000"/>
                </a:solidFill>
                <a:latin typeface="Arial"/>
              </a:rPr>
              <a:t> starp sievietēm SPS darbiniecēm.</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xt Box 4"/>
          <p:cNvSpPr/>
          <p:nvPr/>
        </p:nvSpPr>
        <p:spPr>
          <a:xfrm>
            <a:off x="826920" y="6165720"/>
            <a:ext cx="8317080" cy="1190880"/>
          </a:xfrm>
          <a:prstGeom prst="rect">
            <a:avLst/>
          </a:prstGeom>
          <a:noFill/>
          <a:ln w="0">
            <a:noFill/>
          </a:ln>
        </p:spPr>
        <p:style>
          <a:lnRef idx="0"/>
          <a:fillRef idx="0"/>
          <a:effectRef idx="0"/>
          <a:fontRef idx="minor"/>
        </p:style>
        <p:txBody>
          <a:bodyPr lIns="90000" rIns="90000" tIns="46800" bIns="46800" anchor="t">
            <a:sp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ex work and technial update, 2002; p.5)</a:t>
            </a:r>
            <a:endParaRPr b="0" lang="en-US" sz="1400" spc="-1" strike="noStrike">
              <a:solidFill>
                <a:srgbClr val="000000"/>
              </a:solidFill>
              <a:latin typeface="Arial"/>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http://www.avert.org/prostitution-aids.htm)</a:t>
            </a:r>
            <a:endParaRPr b="0" lang="en-US" sz="1400" spc="-1" strike="noStrike">
              <a:solidFill>
                <a:srgbClr val="000000"/>
              </a:solidFill>
              <a:latin typeface="Arial"/>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14200" y="2000160"/>
            <a:ext cx="8507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izplatība SPS darbinieku vidū ir lielā mērā atkarīga no valsts un reģiona. Dažās vietās HIV izplatība SPS darbinieku vidū ir augsta, citās – salīdzinoši zema un viņi, kā liekas, spēlē nenozīmīgu lomu HIV izplatīšanā </a:t>
            </a:r>
            <a:endParaRPr b="0" lang="en-US" sz="3200" spc="-1" strike="noStrike">
              <a:solidFill>
                <a:srgbClr val="000000"/>
              </a:solidFill>
              <a:latin typeface="Arial"/>
            </a:endParaRPr>
          </a:p>
        </p:txBody>
      </p:sp>
      <p:sp>
        <p:nvSpPr>
          <p:cNvPr id="58" name="Prostokąt 6"/>
          <p:cNvSpPr/>
          <p:nvPr/>
        </p:nvSpPr>
        <p:spPr>
          <a:xfrm>
            <a:off x="4157640" y="6072120"/>
            <a:ext cx="395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avert.org/sex-workers.htm</a:t>
            </a:r>
            <a:endParaRPr b="0" lang="en-US" sz="18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izplatība SPS darbinieku vid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izplatība SPS darbinieku vidū</a:t>
            </a:r>
            <a:endParaRPr b="0" lang="en-US" sz="4400" spc="-1" strike="noStrike">
              <a:solidFill>
                <a:srgbClr val="000000"/>
              </a:solidFill>
              <a:latin typeface="Arial"/>
            </a:endParaRPr>
          </a:p>
        </p:txBody>
      </p:sp>
      <p:sp>
        <p:nvSpPr>
          <p:cNvPr id="61" name="PlaceHolder 2"/>
          <p:cNvSpPr>
            <a:spLocks noGrp="1"/>
          </p:cNvSpPr>
          <p:nvPr>
            <p:ph/>
          </p:nvPr>
        </p:nvSpPr>
        <p:spPr>
          <a:xfrm>
            <a:off x="428760" y="157176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Rietumeirop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slimstība ar HIV infekciju ir zema, tāpat kā citās iedzīvotāju grupā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slimstība ir būtiski lielāka INL vidū</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Vīne</a:t>
            </a:r>
            <a:r>
              <a:rPr b="0" lang="pl-PL" sz="1600" spc="-1" strike="noStrike">
                <a:solidFill>
                  <a:srgbClr val="000000"/>
                </a:solidFill>
                <a:latin typeface="Arial"/>
              </a:rPr>
              <a:t> – </a:t>
            </a:r>
            <a:r>
              <a:rPr b="0" lang="lv-LV" sz="1600" spc="-1" strike="noStrike">
                <a:solidFill>
                  <a:srgbClr val="000000"/>
                </a:solidFill>
                <a:latin typeface="Arial"/>
              </a:rPr>
              <a:t>nedaudzi gadījumi, tikai starp INL un viņu seksa partneriem</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Nīderlande</a:t>
            </a:r>
            <a:r>
              <a:rPr b="0" lang="pl-PL" sz="1600" spc="-1" strike="noStrike">
                <a:solidFill>
                  <a:srgbClr val="000000"/>
                </a:solidFill>
                <a:latin typeface="Arial"/>
              </a:rPr>
              <a:t> – </a:t>
            </a:r>
            <a:r>
              <a:rPr b="0" lang="lv-LV" sz="1600" spc="-1" strike="noStrike">
                <a:solidFill>
                  <a:srgbClr val="000000"/>
                </a:solidFill>
                <a:latin typeface="Arial"/>
              </a:rPr>
              <a:t>saslimstība ar HIV infekciju ir ļoti zema starp SPS darbiniekiem ne INL</a:t>
            </a:r>
            <a:r>
              <a:rPr b="0" lang="ru-RU" sz="1600" spc="-1" strike="noStrike">
                <a:solidFill>
                  <a:srgbClr val="000000"/>
                </a:solidFill>
                <a:latin typeface="Arial"/>
              </a:rPr>
              <a:t> </a:t>
            </a:r>
            <a:r>
              <a:rPr b="0" lang="pl-PL" sz="1600" spc="-1" strike="noStrike">
                <a:solidFill>
                  <a:srgbClr val="000000"/>
                </a:solidFill>
                <a:latin typeface="Arial"/>
              </a:rPr>
              <a:t>(</a:t>
            </a:r>
            <a:r>
              <a:rPr b="0" lang="lv-LV" sz="1600" spc="-1" strike="noStrike">
                <a:solidFill>
                  <a:srgbClr val="000000"/>
                </a:solidFill>
                <a:latin typeface="Arial"/>
              </a:rPr>
              <a:t>no AIDS epidēmijas valstīm</a:t>
            </a:r>
            <a:r>
              <a:rPr b="0" lang="pl-PL"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Glazgova</a:t>
            </a:r>
            <a:r>
              <a:rPr b="0" lang="pl-PL" sz="1600" spc="-1" strike="noStrike">
                <a:solidFill>
                  <a:srgbClr val="000000"/>
                </a:solidFill>
                <a:latin typeface="Arial"/>
              </a:rPr>
              <a:t> – </a:t>
            </a:r>
            <a:r>
              <a:rPr b="0" lang="lv-LV" sz="1600" spc="-1" strike="noStrike">
                <a:solidFill>
                  <a:srgbClr val="000000"/>
                </a:solidFill>
                <a:latin typeface="Arial"/>
              </a:rPr>
              <a:t>zema saslimstība ar HIV infekciju, tikai INL vidū.</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odas iespaids, ka daudzās vietās vīriešu dzimuma seksa darbinieki un transseksuālas personas ir vieglāk ievainojamas attiecībā pret HIV nekā sievietes</a:t>
            </a:r>
            <a:endParaRPr b="0" lang="en-US" sz="2800" spc="-1" strike="noStrike">
              <a:solidFill>
                <a:srgbClr val="000000"/>
              </a:solidFill>
              <a:latin typeface="Arial"/>
            </a:endParaRPr>
          </a:p>
        </p:txBody>
      </p:sp>
      <p:sp>
        <p:nvSpPr>
          <p:cNvPr id="62" name="Text Box 5"/>
          <p:cNvSpPr/>
          <p:nvPr/>
        </p:nvSpPr>
        <p:spPr>
          <a:xfrm>
            <a:off x="785880" y="4357800"/>
            <a:ext cx="78483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Workers and HIV  By Luis Scaccabarrozzi  Winter 2005/2006 </a:t>
            </a:r>
            <a:endParaRPr b="0" lang="en-US" sz="1200" spc="-1" strike="noStrike">
              <a:solidFill>
                <a:srgbClr val="000000"/>
              </a:solidFill>
              <a:latin typeface="Arial"/>
            </a:endParaRPr>
          </a:p>
        </p:txBody>
      </p:sp>
      <p:sp>
        <p:nvSpPr>
          <p:cNvPr id="63" name="Prostokąt 7"/>
          <p:cNvSpPr/>
          <p:nvPr/>
        </p:nvSpPr>
        <p:spPr>
          <a:xfrm>
            <a:off x="2357280" y="6143760"/>
            <a:ext cx="66438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en-US" sz="1200" spc="-1" strike="noStrike">
                <a:solidFill>
                  <a:srgbClr val="000000"/>
                </a:solidFill>
                <a:latin typeface="Arial"/>
              </a:rPr>
              <a:t>UNAIDS/WHO Report on the Global AIDS Epidemic, May 2006</a:t>
            </a:r>
            <a:r>
              <a:rPr b="0" lang="pl-PL"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457200" y="1600200"/>
            <a:ext cx="8229600" cy="482904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Austrumeiropā</a:t>
            </a:r>
            <a:r>
              <a:rPr b="0" lang="lv-LV" sz="3200" spc="-1" strike="noStrike">
                <a:solidFill>
                  <a:srgbClr val="000000"/>
                </a:solidFill>
                <a:latin typeface="Arial"/>
              </a:rPr>
              <a:t> HIV izplatība SPS darbinieku vidū, kā liekas, ir nenozīmīga </a:t>
            </a:r>
            <a:r>
              <a:rPr b="0" lang="ru-RU" sz="2700" spc="-1" strike="noStrike">
                <a:solidFill>
                  <a:srgbClr val="000000"/>
                </a:solidFill>
                <a:latin typeface="Arial"/>
              </a:rPr>
              <a:t>.</a:t>
            </a:r>
            <a:endParaRPr b="0" lang="en-US" sz="27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ču saslimstības līmenis ar STS ir augsts, kas var liecināt, ka tikai nedaudzi no SPS darbiniekiem praktizē drošu seksu un tātad pastāv iespēja, ka nākotnē HIV būs vairāk izplatīts viņu vidē. </a:t>
            </a:r>
            <a:endParaRPr b="0" lang="en-US" sz="3200" spc="-1" strike="noStrike">
              <a:solidFill>
                <a:srgbClr val="000000"/>
              </a:solidFill>
              <a:latin typeface="Arial"/>
            </a:endParaRPr>
          </a:p>
        </p:txBody>
      </p:sp>
      <p:sp>
        <p:nvSpPr>
          <p:cNvPr id="65" name="Prostokąt 4"/>
          <p:cNvSpPr/>
          <p:nvPr/>
        </p:nvSpPr>
        <p:spPr>
          <a:xfrm>
            <a:off x="3732120" y="6215040"/>
            <a:ext cx="433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avert.org/prostitution-aids.htm</a:t>
            </a: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izplatība SPS darbinieku vid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Vai seksuālo pakalpojumu sfēras darbinieki izplata HIV</a:t>
            </a:r>
            <a:r>
              <a:rPr b="1" lang="ru-RU" sz="4400" spc="-1" strike="noStrike">
                <a:solidFill>
                  <a:srgbClr val="000000"/>
                </a:solidFill>
                <a:latin typeface="Arial"/>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Tendenc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t tajās valstīs, kur HIV izplatība starp SPS darbiniekiem ir nenozīmīga, tā ir augstāka nekā kopējai populācija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PS darbiniekiem parasti ir liels dzimumpartneru skaits. Tātad, ja viņi inficēsies ar HIV, tad potenciāli var inficēt savus neskaitāmos klientus</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profilakse starp personām, kas iesaistītas seksa pakalpojumu pārdošanā, daudzās valstīs izrādījās svarīgs moments cīņai ar A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cp:lastModifiedBy>
  <cp:lastPrinted>2003-06-11T10:27:27Z</cp:lastPrinted>
  <dcterms:modified xsi:type="dcterms:W3CDTF">2011-03-09T18:05:02Z</dcterms:modified>
  <cp:revision>420</cp:revision>
  <dc:subject/>
  <dc:title>The treatment of alcohol dependent patients with a comorbid anxiety disorder</dc:title>
</cp:coreProperties>
</file>